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A348-5B25-49FD-882B-5365B61DE5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6A70-6E43-4F6A-97CF-D81DEB487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E67-4DB4-4795-801C-E69CD6D0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233-114F-48D6-BF26-D59A5DDC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C29-D31C-4A37-A465-81FEF158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4E8-A045-4FEE-8FE5-83CF51B7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FB2-37B6-4B99-B239-761D0B6F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B66-F294-496B-AF40-F0A1BE95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BF7-CB95-410C-BB56-9DC81145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D8E-139F-4A6F-8923-5898C305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B7A-EBD9-47DD-9A83-EC21558F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02A0-AE80-425F-9826-B05187C7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A87-024C-4436-9D66-809082B5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C65-CBF6-4028-B88B-7BEC0019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0C7C-5F0A-4FA9-A12C-395D013488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06864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Реализация краеведческого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подхода в начальной школе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в условиях ФГОС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сова Любовь Леонидовна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БОУ «СОШ №10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БУ ДО «СДЮТиЭ»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род Нижнекамск, НМР 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Уровни использования регионального компонента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ние с использованием регионального компонента в обучении  предполагает как минимум три уровня познавательной работы обучаю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олучение учащимися «готовых» со слов учителя и из федеральных и региональных учеб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самостоятельное приобретение знаний, обеспечивающее условия для более активной познавательной работы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углубленный исследовательский поис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99"/>
                </a:solidFill>
                <a:latin typeface="Arial"/>
              </a:rPr>
              <a:t>Виды работы с региональным компоненто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ая работа обучающихся с письменными и вещественными источни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ии, экспедиции по родному краю, осмотр памятников истории и куль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ческие исследования (подготовка проектов, сообщений, докладо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и с интересными людь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видеофильмов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с краеведческим материалом может быть частью, этапом урока, отдельным уроком, иметь более широкие  временные рамки (подготовка проект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Исследовательские мини - про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я родосло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возникла моя фамилия, мои выдающиеся однофамиль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то означает мое имя и отч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мя Победы - на карте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ижнекам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де мои кор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вооткрыватели Нижнекамской нефти и г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четные граждане Нижнекам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дающиеся деятели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ческое краеведение – развивающаяся перспективная область знаний. Это определяется, прежде всего, многогранностью, творческим, исследовательским характером краеведения, его доступностью для людей различных специальностей, социальных и возрастных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но, что историческое краеведение является источником конкретизации излагаемых учителем общеисторических фактов и является одной из важных отраслей историческ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задача учителя истории – заинтересовать подростков процессом исторического познания. Там, где зародился живой интерес, дело заключается лишь в том, чтобы направить этот интерес в нужное ру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вилова О.Л. Регионалистика [Текст]/ М.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еведение: Пособие для учителя [Текст]/ А.В. Даринский, Л.Н. Кривоносова, В.А. Круглова, В.К. Луканенкова; под ред. А.В. Даринского. – М.: Просвещение, 1987. – 158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киева Е.Б. Историческое краеведение [Текст]/ Учеб. пособие  Том. политехн. ун-т. - Томск, 2003. - 156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юшин Г.Н. Историческое краеведение[Текст]/ Учеб. пособие. М.: Просвещение, 1987. 231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рожков Г.П. Краеведение [Текст]/ учебник. Тамбов; М.; СПб.; Баку, Вена, 2006. 272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ев К.Ф. Краеведение [Текст]/ Учебное пособие для студен-тов естест.-геог. фак. пед. ин-тов. Изд. 2-е, испр. и доп. М.: Просвещение. 1974. – 143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02560" cy="305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СПАСИБО</a:t>
            </a:r>
            <a:br>
              <a:rPr sz="6000"/>
            </a:br>
            <a:r>
              <a:rPr b="1" i="1" lang="ru-RU" sz="60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ЗА</a:t>
            </a:r>
            <a:br>
              <a:rPr sz="6000"/>
            </a:br>
            <a:r>
              <a:rPr b="1" i="1" lang="ru-RU" sz="60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задача современного образования в условиях ФГОС второго поколения заключается в том, чтобы качественно поднять уровень знаний и умений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 усваивается тот материал, который вызывает непосредственный интерес и любознательность ребёнка. А интересы младшего школьника определяются не только потребностями, сформированными в процессе воспитания и обучения, но и заложенными в него самой природ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4996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Я. А. Коменск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атривал окружающий мир как начальный способ обучения и развития думающего человека и советовал приучать учащихся «подобно молодым деревьям, распускаться из собственных корне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учащихся младшего школьного возраста именно родной край является окружающим пространством, осознанным ими с детства, прочувствованным и принятым как семья, дом, друзья, город, река, 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-143280"/>
            <a:ext cx="8353440" cy="757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раевед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совокупность знаний об истории, экономике, природе, быте, культуре того или иного края. «Край» – понятие условное. Это может быть и город, и район, и улиц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рае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учает природу, население, хозяйство, историю и культуру родного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раевед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необходимой составной частью регионального компонента государственного образовательного стандар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4360" y="692280"/>
            <a:ext cx="4572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Краеведение учит людей любить не только свои родные места, но и знать о них, приучает их интересоваться историей, искусством, литературой, повышать свой культурный уровень. Это самый массовый вид науки: в сборе материалов могут принять участие и большие ученые и школьник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Д.С. Лихачев, академ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5665"/>
          <p:cNvPicPr/>
          <p:nvPr/>
        </p:nvPicPr>
        <p:blipFill>
          <a:blip r:embed="rId1"/>
          <a:stretch/>
        </p:blipFill>
        <p:spPr>
          <a:xfrm>
            <a:off x="5940360" y="836640"/>
            <a:ext cx="2806920" cy="42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</a:rPr>
              <a:t>Роль педагога</a:t>
            </a: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з использование краеведческого материа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ах педагог решает, на мой взгляд, самую важную задачу в современном российском образовании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оспитание гражданственности, патриотизма, любви к Родине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е использования </a:t>
            </a: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егионального компонента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еведение является важным средством повышения качества знаний, способствующим формированию у студентов научного мировоззрения, воспитанию нрав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краеведческого материала активизирует мыслительную деятельность обучающихся, позволяет разнообразить методику уроков, вносит в преподавание  конкретность и убед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краеведческого материала в учебных целях обостряет внимание учащихся к фактам и явлениям, способствует развитию самостоятельного творческого мышления, умений практического применения полученных знаний в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еведение создаёт благоприятные условия для организации различных заданий творческого характера, применения в учебной работе разнообразных элементов поиска и исследования, широкого использования местных источ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еведение открывает широкие возможности для самостоятельной деятельности учащихся, для поиска, исследования и даже самостоятельного откры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Критерии отбора краеведческ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тборе краеведческого материала к уроку  следует учитывать следующ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еведческий материал должен бы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рганически связан с программным материалом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оступными для учащихся по содержанию и объему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образными и эмоциональными, стимулировать познавательный интерес к изучению предмет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способствовать усвоению ключевых знаний и ум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отражать уникальность региона, его неповторимый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спользование краеведческого материала основывается на следующих принципах, вытекающих из общедидактических требований к процессу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 этим принцип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нцип междисциплинар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огласно которому использование краеведческих материалов подразумевает связь с другими учебными предмет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нцип систематич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остоящий в целенаправленном, запланированном характере использования краеведческих материалов на разных этапах обучения истор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нцип тематич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предполагающий разработку соответствующих материалов к каждой теме рабочей программ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нцип когнитив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предполагающий познание обучающимися в процессе обучения с помощью краеведческого материала новых сведений, нового зн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нцип толерант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предполагающий развитие у учащихся способности понимать и принимать другие культу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6T17:26:24Z</dcterms:created>
  <dc:creator>макаров А.Д.</dc:creator>
  <dc:description/>
  <cp:keywords>КРАЕВЕДЕНИЕ</cp:keywords>
  <dc:language>en-US</dc:language>
  <cp:lastModifiedBy>User</cp:lastModifiedBy>
  <dcterms:modified xsi:type="dcterms:W3CDTF">2019-10-12T09:40:37Z</dcterms:modified>
  <cp:revision>33</cp:revision>
  <dc:subject/>
  <dc:title>использование краеведческого материала в образовательном процессе</dc:title>
</cp:coreProperties>
</file>