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E9A-E9E0-406F-BB02-1751A37B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AEE-5CD1-4B6E-9AAE-5E186F2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1E2-60D7-4689-84C3-3846BD1A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74F-8C75-4E8A-97EE-50691DA1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FD5-DBF7-4D14-86E9-7EAF8FA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440-254A-4184-9BE1-778E9A2A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70C-8452-4BB2-B991-A8583DE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CA6-08B7-43C9-9310-0A35C12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D42-E7BC-487F-B815-8FAEB2AF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F1D-9482-4850-967A-F52243B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CE0-C16C-4ADA-873A-4C48D78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55E-15E1-4FA3-A1C7-B9E7FCA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AB0-071C-4918-AD00-5B30D766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«Причины и профилактика самовольных уходов детей из до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Georgia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забывайте, что в преодоление кризисных ситуаций вам всегда помогут, специалисты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икогда не угрожайте подростку, что выгоните его из дома, если он сделает что-то не 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отбивайте у подростка желания советоваться с вами. И тогда с любой проблемой он прибежит именно к вам, зная, что его поддержат и не осудя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ПОМНИТЕ!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Ваш ребенок не сможет самостоятельно преодолеть трудности без ваш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ЛЮБВИ и ПОНИМА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Под бегством понимае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добровольное, самовольное (тайное или явное) оставление дома, образовательного учрежд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Основной возраст уходов детей и подростков из семьи - 10-17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3600" spc="-1" strike="noStrike">
                <a:solidFill>
                  <a:srgbClr val="009999"/>
                </a:solidFill>
                <a:latin typeface="Georgia"/>
              </a:rPr>
              <a:t>ТИПЫ ПОБЕГОВ ПОДРО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785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Эмансипационные  (12-15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мпульсивные  (от 7 до 15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монстрационные (12-17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ромоманические  побеги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(10-  1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3600" spc="-1" strike="noStrike">
                <a:solidFill>
                  <a:srgbClr val="009999"/>
                </a:solidFill>
                <a:latin typeface="Georgia"/>
              </a:rPr>
              <a:t>ПРИЧИНЫ УХОДА ИЗ ДО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рупная ссора с родителями или постоянные «выяснения отношени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изические нака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атические упреки, ограничения, жестокие наказания в отношении ребёнка, имеющего неуспевае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безразличие взрослых к проблемам подростка, к потребностям и интересам ребёнка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3600" spc="-1" strike="noStrike">
                <a:solidFill>
                  <a:srgbClr val="009999"/>
                </a:solidFill>
                <a:latin typeface="Georgia"/>
              </a:rPr>
              <a:t>ПРИЧИНЫ УХОДА ИЗ ДО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развод родител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появление в доме отчима или мачех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чрезмерная опека, ограничение свободы, вызывающая раздражение, неудовлетворение по­требности в самостоя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3600" spc="-1" strike="noStrike">
                <a:solidFill>
                  <a:srgbClr val="009999"/>
                </a:solidFill>
                <a:latin typeface="Georgia"/>
              </a:rPr>
              <a:t>ПРИЧИНЫ УХОДА ИЗ ДО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нак протеста против конфликтных неблагополучных взаимоотношений, бегство от проблем, который чаще проявляется в среднем школьном возрасте (10 - 13 л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худшение положений в группе сверстников, отчуждение от коллектива, пренебрежение и изоляция.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ОСНОВНЫ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ДЕТСКО-РОДИТЕЛЬ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ОТНОШ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твергающая позиц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. Позиция уклон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3. Позиция доминир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4. Отвергающе-принуждаю-щая пози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Georgia"/>
              </a:rPr>
              <a:t>СОВЕТЫ  РОДИТЕЛ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Говорите с ребен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бращайте внимание на его настро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ыслушайте своего ребенка, даже если Вы очень устали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ход из дома – это протест, его защитная реакция. Задумайтесь, что же Вы сделали не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ймитесь общим делом, это сближ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Georgia"/>
              </a:rPr>
              <a:t>СОВЕТЫ  РОДИТЕЛ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рганизуйте занятость ребенка в свободное время: запишите его на кружки, секции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знайте, с кем дружит Ваш ребенок. Подружитесь с ними и Вы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икогда не бейте своего ребенка. Вместо физического наказания используйте слова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6T17:34:45Z</dcterms:created>
  <dc:creator>1</dc:creator>
  <dc:description/>
  <dc:language>en-US</dc:language>
  <cp:lastModifiedBy>психологи</cp:lastModifiedBy>
  <dcterms:modified xsi:type="dcterms:W3CDTF">2017-12-08T08:06:13Z</dcterms:modified>
  <cp:revision>4</cp:revision>
  <dc:subject/>
  <dc:title>«Причины и профилактика самовольных уходов детей из дома»</dc:title>
</cp:coreProperties>
</file>