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3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F0502-5520-47F5-8801-E20D1E6FA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CEC16-7D91-494C-88A6-33130218C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05CC3-43DF-4D73-AAFB-86377A921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DE691-AAD1-424F-A0D0-93F4F3284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61380-D072-4B5A-860F-A079B60EF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70372-690A-4A96-A9A9-62683000F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A4ABB-1AF8-4174-9B5F-8541F0E34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B937A-7416-431F-A905-8E1E90AE3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A59F2-4A79-465F-BDBB-8C4563B6D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47EBC-8EAE-4986-95D0-5C9CECA0F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60AB1-A704-47B3-B508-227D1EA49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618C2-6690-4B2C-9C64-7B097FB26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92D08-85A7-496A-8731-940B87BA5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8FD33-99B8-447A-9ED0-B2052AB70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1A740-2474-4FFC-97FA-029E055D1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6C79E-814D-43AA-8DB0-38E3BA286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5092C-0F36-47F0-A18E-B61AC1C5D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E47551-9946-4F07-80A2-8CE66517A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C089A1-1CBB-4043-AC3E-DEBAA6544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EAC546-1637-4631-8D4D-270DFC601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09AD64-6E77-4B1C-80DC-D5D0CD889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182041-8FB3-4713-9E83-508E8A500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CC2CB-4F9B-410D-BC2B-FC069C0CC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25B26B-70FB-45D3-B9B8-5580EB026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D2A566-0CC9-400A-9D55-DD1FF565C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9B93C4-DAC2-4B83-9005-627A5A832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DECE83-7CBF-4FFE-957E-17D593F26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C7CF30-EDE3-4BD5-A9CC-F7E0D7BD8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98AEE0-AE7C-415D-A873-3DA5129F1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223401-10AA-4122-8C36-F72617419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878E43-165F-456F-AC25-90D87AA38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12532C-CB2D-40A2-B02F-F62190ED4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AF799D-AC80-4A69-84BE-BDCE3A10F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00F16-91C8-48F2-9D02-806EA1887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70DB14-2BD8-4BE7-8646-9AE051639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AF1323-25F7-4EC9-B73B-D9AD72CE7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2F1347-DB8F-414D-B7D9-A5C310450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69F145-0942-467D-B34E-70CA4AF0F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5EC9BB-6691-4E73-A639-9308F0412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E9C6B1-D006-4EA0-9481-5B71EC457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6D9395-B40C-4815-B9B6-2C7D5935F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BFA0C8-2267-4520-94F3-35F097619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6F77BA-265E-4256-8F61-D06CF59E2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F3798C-9E0D-4850-AE85-795ABA5A6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61113-FD64-4167-84E7-5FD1EA661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2CD005-DEB3-4089-9385-9A3DC3401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A2D5A9-3CE1-4482-AC78-C4E21549F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E2CE10-E6C2-46FC-A853-0C3FF1E0B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9E143E-850D-4AAB-B53A-7F39ABCE8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047C07-8ACE-41CA-AB75-C77A94DD3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18D0E7-57B6-4706-9B52-00D577204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2AC9F8-E5BD-45EE-B6A1-D30530C41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99D8F3-75C4-46B3-83EB-F99BDB27A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235E0D-FB56-4C26-8701-B6B82DDC0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6DFAB8-871F-4DB4-8431-EBA0A9CA4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2601D-1B9C-4136-8616-F370134CA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5A9AF9-4779-4E61-A6D4-DB66F720A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BDEC6B-E062-4AF5-A274-7F99A34A9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993FB4-5EE3-477B-8C0D-180263DC4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7A584D-13BC-49F3-814C-7D2F555D7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E03DA2-F594-4F70-A4AD-30A26BD5A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D0CE89-3786-4B6B-8D08-E1464DFDC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E74389-6398-4664-93DE-BB0073F59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9E90BF-3B16-4AE2-AECE-DC54C4B61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349127-F2C6-44C7-BB7B-5B3E6DC7F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8C6F75-E527-4259-92EE-D084210D9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F3F4C-DB38-4212-924B-B190D556B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17A9B3-AC7C-4017-96AB-58D93F1FA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6F174E-64C3-419A-9D25-CF69B2E07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02E844-A591-47FF-A6F0-D161A77CD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F0086A-C497-402D-9B7E-23FA72B5F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4D75E3-4742-4032-B133-564E6B604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89415D-2112-461B-AF62-80457D1D6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650630-31B3-4569-A971-8DB1F5142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7144C5-DCAC-4722-9D69-8A0B77441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3A0BD8-39BA-4887-A28B-1DE03F960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A5181B-4C66-4EC9-8450-E86492BF1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6DBCB-CA31-44FC-86E9-5B0BC55F4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B24A07-C25D-419C-8EB1-42EB62731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FE7478-C38D-4CEC-AB7A-128794193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4F19BA-F663-468C-A219-F356DF6AC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DD41BD-66E6-48C8-B2B1-3291AABA6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BD0F95-DEF0-495E-9F1C-0A9498B20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60E984-8191-47B5-932E-D46AE56B1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88D5CF-A255-4D24-B9E4-22190FD20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CD38AD-29E9-4996-9BA5-C3C0B9BF3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F13A14-3792-4387-AD11-FBC1823E8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6FC391-1CB0-48C9-A2B9-00EFF2E87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AA1AE-7120-4D6E-B86D-7DF1C80D6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235783-6539-4C15-B6C7-379AFFAEB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9F8411-F2FF-4BFA-A1A8-8D6AC61B8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671937-DC88-4C4A-9EFE-CD2916D19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E16BBE-5157-471A-9415-488F71637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90BDBE-F571-4EA1-881A-83767C439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4737AE-597B-494C-A713-2975D2717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08FE70-6979-45CE-8BB7-BD9184BAE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AD01C-B30B-4429-AEC6-AEA1E793C57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Равнобедренный треугольник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E9BA7-10C3-47EE-971C-5BF3DA60FB14}" type="slidenum">
              <a:rPr b="0" lang="ru-RU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0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E0393-2206-4C18-A977-7AD337BF520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ый треугольник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4" name="Равнобедренный треугольник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5" name="Прямая соединительная линия 14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Прямая соединительная линия 15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B9806-2455-4869-8807-0B63A51F3799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9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13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14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B8486-1427-4440-A0CA-153DF45606A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6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7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8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70647-7542-4000-BD77-933B9F6F7F8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9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20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21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0D847-3E6F-42AD-9E55-10E45A9A8398}" type="slidenum"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22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23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24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F1C54-953F-4195-83A9-3F353DB59FB3}" type="slidenum"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Заголовок 1" descr=""/>
          <p:cNvPicPr/>
          <p:nvPr/>
        </p:nvPicPr>
        <p:blipFill>
          <a:blip r:embed="rId1"/>
          <a:stretch/>
        </p:blipFill>
        <p:spPr>
          <a:xfrm>
            <a:off x="542880" y="774720"/>
            <a:ext cx="6948360" cy="1577880"/>
          </a:xfrm>
          <a:prstGeom prst="rect">
            <a:avLst/>
          </a:prstGeom>
          <a:ln w="0">
            <a:noFill/>
          </a:ln>
        </p:spPr>
      </p:pic>
      <p:sp>
        <p:nvSpPr>
          <p:cNvPr id="346" name="PlaceHolder 1"/>
          <p:cNvSpPr>
            <a:spLocks noGrp="1"/>
          </p:cNvSpPr>
          <p:nvPr>
            <p:ph type="subTitle"/>
          </p:nvPr>
        </p:nvSpPr>
        <p:spPr>
          <a:xfrm>
            <a:off x="2123640" y="2637000"/>
            <a:ext cx="496908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47" name="Прямоугольник 3" descr=""/>
          <p:cNvPicPr/>
          <p:nvPr/>
        </p:nvPicPr>
        <p:blipFill>
          <a:blip r:embed="rId2"/>
          <a:stretch/>
        </p:blipFill>
        <p:spPr>
          <a:xfrm>
            <a:off x="1487520" y="2803680"/>
            <a:ext cx="6162480" cy="145728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2" descr="C:\Users\Администратор\Desktop\дет.сад\3017455.jpg"/>
          <p:cNvPicPr/>
          <p:nvPr/>
        </p:nvPicPr>
        <p:blipFill>
          <a:blip r:embed="rId3"/>
          <a:stretch/>
        </p:blipFill>
        <p:spPr>
          <a:xfrm>
            <a:off x="1009800" y="0"/>
            <a:ext cx="7234200" cy="691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Picture 2" descr="http://www.tomportal.ru/uploads/posts/2011-08/1313219839_74795203_2195220_162502melisenta.jpg"/>
          <p:cNvPicPr/>
          <p:nvPr/>
        </p:nvPicPr>
        <p:blipFill>
          <a:blip r:embed="rId1"/>
          <a:stretch/>
        </p:blipFill>
        <p:spPr>
          <a:xfrm>
            <a:off x="487440" y="111240"/>
            <a:ext cx="7632720" cy="6767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Picture 2" descr="http://img0.liveinternet.ru/images/attach/c/5/85/301/85301664_zagadki8.jpg"/>
          <p:cNvPicPr/>
          <p:nvPr/>
        </p:nvPicPr>
        <p:blipFill>
          <a:blip r:embed="rId1"/>
          <a:stretch/>
        </p:blipFill>
        <p:spPr>
          <a:xfrm>
            <a:off x="1908000" y="41400"/>
            <a:ext cx="5112000" cy="68166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Picture 2" descr="http://www.diagora.ru/img/coverberries.jpg"/>
          <p:cNvPicPr/>
          <p:nvPr/>
        </p:nvPicPr>
        <p:blipFill>
          <a:blip r:embed="rId1"/>
          <a:stretch/>
        </p:blipFill>
        <p:spPr>
          <a:xfrm>
            <a:off x="1116000" y="115920"/>
            <a:ext cx="6912000" cy="65102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Picture 2" descr="C:\Users\Администратор\Desktop\дет.сад\осень\1fkdgkdmkf48rfjnfk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Picture 2" descr="http://ya-gribnik.ru/images/podberezovik/6.jpg"/>
          <p:cNvPicPr/>
          <p:nvPr/>
        </p:nvPicPr>
        <p:blipFill>
          <a:blip r:embed="rId1"/>
          <a:stretch/>
        </p:blipFill>
        <p:spPr>
          <a:xfrm>
            <a:off x="9360" y="6480"/>
            <a:ext cx="9134640" cy="685152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Picture 2" descr="http://img-fotki.yandex.ru/get/5013/107301928.33/0_82cbd_5ab51b54_XXL.jpg"/>
          <p:cNvPicPr/>
          <p:nvPr/>
        </p:nvPicPr>
        <p:blipFill>
          <a:blip r:embed="rId1"/>
          <a:stretch/>
        </p:blipFill>
        <p:spPr>
          <a:xfrm>
            <a:off x="0" y="-31680"/>
            <a:ext cx="9180360" cy="68896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Picture 2" descr="http://img1.nnm.ru/e/2/a/8/7/e2a87a02c1f40be0ba1487b1eada12bb_full.jpg"/>
          <p:cNvPicPr/>
          <p:nvPr/>
        </p:nvPicPr>
        <p:blipFill>
          <a:blip r:embed="rId1"/>
          <a:stretch/>
        </p:blipFill>
        <p:spPr>
          <a:xfrm>
            <a:off x="939960" y="0"/>
            <a:ext cx="6858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Picture 2" descr="http://s.pikabu.ru/images/big_size_comm/2012-09_3/13475426243233.jpg"/>
          <p:cNvPicPr/>
          <p:nvPr/>
        </p:nvPicPr>
        <p:blipFill>
          <a:blip r:embed="rId1"/>
          <a:stretch/>
        </p:blipFill>
        <p:spPr>
          <a:xfrm>
            <a:off x="0" y="-17640"/>
            <a:ext cx="9172440" cy="68756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Picture 2" descr="http://infofishing.ru/uploads/posts/2011-12/1322984258_siroezhka_krasnaya.jpg"/>
          <p:cNvPicPr/>
          <p:nvPr/>
        </p:nvPicPr>
        <p:blipFill>
          <a:blip r:embed="rId1"/>
          <a:stretch/>
        </p:blipFill>
        <p:spPr>
          <a:xfrm>
            <a:off x="-27000" y="-9360"/>
            <a:ext cx="9156600" cy="686736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Picture 2" descr="http://varimparim.ru/uploads/image/yagoda.jpg"/>
          <p:cNvPicPr/>
          <p:nvPr/>
        </p:nvPicPr>
        <p:blipFill>
          <a:blip r:embed="rId1"/>
          <a:stretch/>
        </p:blipFill>
        <p:spPr>
          <a:xfrm>
            <a:off x="-15840" y="0"/>
            <a:ext cx="942984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Picture 2" descr="http://viki.rdf.ru/media/upload/preview/yagodi.jpg"/>
          <p:cNvPicPr/>
          <p:nvPr/>
        </p:nvPicPr>
        <p:blipFill>
          <a:blip r:embed="rId1"/>
          <a:stretch/>
        </p:blipFill>
        <p:spPr>
          <a:xfrm>
            <a:off x="7920" y="0"/>
            <a:ext cx="935208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24T17:48:00Z</dcterms:created>
  <dc:creator>Администратор</dc:creator>
  <dc:description/>
  <dc:language>en-US</dc:language>
  <cp:lastModifiedBy>Пользователь</cp:lastModifiedBy>
  <dcterms:modified xsi:type="dcterms:W3CDTF">2019-10-07T14:14:39Z</dcterms:modified>
  <cp:revision>6</cp:revision>
  <dc:subject/>
  <dc:title>Презентация PowerPoint</dc:title>
</cp:coreProperties>
</file>