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4BF6AC-8737-4615-8BF3-24D1D0EEC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A3CC39-9EE4-4EC3-98F0-C28C0C3C0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C9F7FF-1DC7-4455-AE30-66FB8A0B1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F31287-0D6F-466F-BF30-029CEDAFE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9B072D-0A61-41A2-A68C-E5109F82F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AE63CD-F448-4B40-ADCC-1CBBB01BE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C78809-C99D-4AB7-AA97-AAF4981C5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3B0391-D2DA-44D4-A937-E31E214EB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3E7DF2-83FC-4F4D-A78E-14C1BBBC7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FE92BB-564F-412A-891D-22422D306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E9FC1F-766D-4B41-8D67-5087F7914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92765A-6E6A-4FE2-9675-23E45FE9F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5F829D-5129-4487-80E5-E0DA8AF8A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B06011-8562-4C20-A1D2-72E31032F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F7CFCA-8179-4816-AE4D-5A55FB58A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8C8717-3FE0-41FD-8F69-F89856C33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9867-BC77-4117-964B-92162494F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5E31-9ABF-4469-BEAE-DFD845F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23A7-F6E1-4E7D-B9BF-F5EF167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C142-5EF7-4061-9513-219CF8AF1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21F9-2B53-407B-AFF8-BD1DCA08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5CC2-5760-4D87-B274-F037C28E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93A3-79BD-470C-96D3-A4ECCC5A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332B-E6AC-4A1F-95AD-2F3D039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63E6-BA68-446E-A506-04E23E8F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82FC-0DAA-494C-BB81-CA294908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81ED-37B1-45D5-AD4D-E4D3D307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92B7-59C1-4E57-8678-1342C3C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244D47-04EC-48F8-9047-A404DF9091AC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3DBC64-190A-4641-AE6E-15142DC4FD9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"/>
                <a:ea typeface="Arial Unicode MS"/>
              </a:rPr>
              <a:t>Проверим 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09E28D-71B9-47E0-BBAC-9EFC7F3CE82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2882880"/>
            <a:ext cx="8613720" cy="10494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2"/>
          <a:stretch/>
        </p:blipFill>
        <p:spPr>
          <a:xfrm>
            <a:off x="1908000" y="4827600"/>
            <a:ext cx="537696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 Unicode MS"/>
              </a:rPr>
              <a:t>Абзац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68360" y="981000"/>
            <a:ext cx="85676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лужит для выделения основной микротемы, для перехода от одной основной микротемы к другой. Абзац отражает тот или иной этап в развитии действия произвед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такое микротем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О чем этот текст? Какова его тема? 1.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 (про что?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  <a:ea typeface="Arial Unicode MS"/>
              </a:rPr>
              <a:t> </a:t>
            </a:r>
            <a:r>
              <a:rPr b="1" lang="ru-RU" sz="3000" spc="-1" strike="noStrike">
                <a:solidFill>
                  <a:srgbClr val="0070c0"/>
                </a:solidFill>
                <a:latin typeface="Arial"/>
                <a:ea typeface="Arial Unicode MS"/>
              </a:rPr>
              <a:t>осень в тайге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2. Основная мысл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 (что хотел донести автор?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  <a:ea typeface="Arial Unicode MS"/>
              </a:rPr>
              <a:t>неимоверная красота, красочность этого времени года в тайге все-таки навевает груст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DA70DA-ED59-4577-9649-EEC84F5DACB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79280" y="115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  <a:ea typeface="Arial Unicode MS"/>
              </a:rPr>
              <a:t>Что нам помогло определить тему и иде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052640"/>
            <a:ext cx="82296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3.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Ключевые сло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 - самые важные, опорные,  смыслообразующие, те, на которых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держится «ткань» текст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. Как правило, ключевое слово в разных вариантах не раз повторяетс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Найдите эти ключевые слов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- Осень, сентябрь, денечек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(время года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- Солнечный, погожий летний денечек, на солнце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(погода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- Прозрачность, чистота тайги, голоса птиц слышны за километр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(общая прозрачность воздуха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4A34E0-AAF6-468D-A96F-BFA95762AC3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 Unicode MS"/>
              </a:rPr>
              <a:t>Собери ромаш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19071" t="8094" r="16374" b="5003"/>
          <a:stretch/>
        </p:blipFill>
        <p:spPr>
          <a:xfrm>
            <a:off x="1692360" y="1052640"/>
            <a:ext cx="5599080" cy="5653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C5F945-1BE8-4DBD-8A6D-5B14273A678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84720" y="5516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е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3924360" y="3500280"/>
            <a:ext cx="1368360" cy="136872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24360" y="3922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1992240" y="4483080"/>
            <a:ext cx="1513080" cy="12240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1992240" y="2698920"/>
            <a:ext cx="1513080" cy="122364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845320" y="360360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Микроте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5621400" y="4483080"/>
            <a:ext cx="1512720" cy="12240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08000" y="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  <a:ea typeface="Arial Unicode MS"/>
              </a:rPr>
              <a:t>Прочитайте начальное и конечное предложения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F45173-21D3-4D0E-BC33-C4F7B9E914B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5800" y="1268280"/>
            <a:ext cx="7815240" cy="4649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нтябрь был отменно сухим и солнечным. Во всем мире жила прозрачность, ощущение легкой трев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жно ли по ним догадаться, о чём идёт речь в тек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 Unicode MS"/>
              </a:rPr>
              <a:t>Собери ромаш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19071" t="8094" r="16374" b="5003"/>
          <a:stretch/>
        </p:blipFill>
        <p:spPr>
          <a:xfrm>
            <a:off x="1692360" y="1052640"/>
            <a:ext cx="5599080" cy="5653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E96597-E8D4-474E-B09B-3B62AFD0F0D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284720" y="5516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е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924360" y="3500280"/>
            <a:ext cx="1368360" cy="136872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924360" y="3922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1992240" y="4483080"/>
            <a:ext cx="1513080" cy="12240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845320" y="360360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Микроте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5621400" y="4483080"/>
            <a:ext cx="1512720" cy="12240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 Unicode MS"/>
              </a:rPr>
              <a:t>С/р «Верю/не верю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 Unicode MS"/>
              </a:rPr>
              <a:t>Текст состоит из предложений.                          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 Unicode MS"/>
              </a:rPr>
              <a:t>К тексту нельзя придумать заглавие.                     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 Unicode MS"/>
              </a:rPr>
              <a:t>Все предложения в тексте имеют границы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 Unicode MS"/>
              </a:rPr>
              <a:t>Предложения в тексте не имеют определенной последователь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 Unicode MS"/>
              </a:rPr>
              <a:t>В тексте всегда о чем-то или о ком-то говоритс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 Unicode MS"/>
              </a:rPr>
              <a:t>Текст можно разделить на части-абзацы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 Unicode MS"/>
              </a:rPr>
              <a:t>Каждая часть текста записывается с красной строк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6C023-32E5-41C9-9C6A-916E77B160F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84720" y="1700280"/>
            <a:ext cx="287640" cy="28872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164360" y="2205000"/>
            <a:ext cx="504720" cy="14436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8028000" y="2565360"/>
            <a:ext cx="287280" cy="28728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00720" y="3500280"/>
            <a:ext cx="502920" cy="14472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2843280" y="4221000"/>
            <a:ext cx="288720" cy="28764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667640" y="4653000"/>
            <a:ext cx="289080" cy="28872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2627280" y="5589720"/>
            <a:ext cx="287280" cy="28872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158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  <a:ea typeface="Arial Unicode MS"/>
              </a:rPr>
              <a:t>Что общего между этими предмет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FA86F9-A123-4095-8B32-AC01CA65AAF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643280" y="3591000"/>
            <a:ext cx="4356360" cy="326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845240" cy="3633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1680" y="5445000"/>
            <a:ext cx="36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тексте все слова и предложения, как нити ткани, связаны в единое цел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076720" y="981000"/>
            <a:ext cx="4067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редприятия, где ткут ткани, называют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кстильны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Может быть, это не случайн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- Если из ткани удалить основную нить, она может рассыпаться. Так и текст не может существовать без основной мыс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авайте обратимся к толковому словарю и определим лексическое значение слова “текст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17680" y="2060640"/>
            <a:ext cx="8351640" cy="315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212840" y="4468680"/>
            <a:ext cx="671184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84360" y="404640"/>
            <a:ext cx="6870600" cy="1195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 Unicode MS"/>
              </a:rPr>
              <a:t>Что такое ТЕКС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1916280"/>
            <a:ext cx="9144000" cy="3570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(от лат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extu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– ткань, связь, соединение)-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несколько предложений или абзаце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связанных в целое темой и основ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мысл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 Unicode MS"/>
              </a:rPr>
              <a:t>Собери ромаш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19071" t="8094" r="16374" b="5003"/>
          <a:stretch/>
        </p:blipFill>
        <p:spPr>
          <a:xfrm>
            <a:off x="1692360" y="1052640"/>
            <a:ext cx="5599080" cy="5653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DF0FE0-20C2-45CE-AB2D-A91D99E082C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284720" y="5516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е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3924360" y="3500280"/>
            <a:ext cx="1368360" cy="136872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924360" y="3922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979640" y="4446720"/>
            <a:ext cx="1512720" cy="12240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1979640" y="2698920"/>
            <a:ext cx="1512720" cy="122364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5580000" y="2679840"/>
            <a:ext cx="1513080" cy="12240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5651640" y="4479840"/>
            <a:ext cx="1512720" cy="12258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11280" y="333360"/>
            <a:ext cx="687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  <a:ea typeface="Arial Unicode MS"/>
              </a:rPr>
              <a:t>Деформированный тек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11280" y="1700280"/>
            <a:ext cx="7815240" cy="4649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Тайга была такой чистой, словно осень прош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по ней свистящей метлой. Во всем мире жила прозрачность, ощущение легкой тревоги. Сентябрь был отменно сухим и солнечным. В середине месяца вернулись погожие летние денечки. Сосны стояли на солнце, барабанно-звонкие голоса птиц были слышны за километр, земля бордовела крупными ягодами брусники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00000" y="4797360"/>
            <a:ext cx="73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Это текс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 необходимо изменить, чтобы получился текс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пишите получившийся тек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685800" y="-306360"/>
            <a:ext cx="687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685800" y="836640"/>
            <a:ext cx="7815240" cy="4649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Сентябрь был отменно сухим и солнечным. В середине месяца вернулись погожие летние дене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Сосны стояли на солнце, барабанно-звонкие голоса птиц были слышны за километр, земля бордовела крупными ягодами брус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Тайга была такой чистой, словно осень прошла по ней свистящей метлой. Во вс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мире жила прозрачность, ощущение легкой трев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124000" y="429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зовите ПРИЗНАК текста, который вы обнаружи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 Unicode MS"/>
              </a:rPr>
              <a:t>Собери ромаш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rcRect l="19071" t="8094" r="16374" b="5003"/>
          <a:stretch/>
        </p:blipFill>
        <p:spPr>
          <a:xfrm>
            <a:off x="1692360" y="1052640"/>
            <a:ext cx="5599080" cy="5653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C3B51C-F0A0-4E5E-B5A0-88DB5C37016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284720" y="5516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е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3500280"/>
            <a:ext cx="1368360" cy="136872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24360" y="3922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1979640" y="4446720"/>
            <a:ext cx="1512720" cy="12240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1979640" y="2698920"/>
            <a:ext cx="1512720" cy="122364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845320" y="360360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Микроте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5667480" y="2622600"/>
            <a:ext cx="1511280" cy="137808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5651640" y="4479840"/>
            <a:ext cx="1512720" cy="1225800"/>
          </a:xfrm>
          <a:prstGeom prst="ellipse">
            <a:avLst/>
          </a:prstGeom>
          <a:solidFill>
            <a:srgbClr val="3366cc"/>
          </a:solidFill>
          <a:ln cap="sq"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7340760" y="2387520"/>
            <a:ext cx="19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ледователь-ность предлож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428840" y="1143000"/>
            <a:ext cx="6400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"/>
                <a:ea typeface="Arial Unicode MS"/>
              </a:rPr>
              <a:t>Абза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549440" y="3357720"/>
            <a:ext cx="60325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Красная строка, отступ в начале стр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2640" indent="-51264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икроте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4:13:52Z</dcterms:created>
  <dc:creator>Admin</dc:creator>
  <dc:description/>
  <cp:keywords/>
  <dc:language>en-US</dc:language>
  <cp:lastModifiedBy>Салим</cp:lastModifiedBy>
  <dcterms:modified xsi:type="dcterms:W3CDTF">2019-10-01T19:50:32Z</dcterms:modified>
  <cp:revision>37</cp:revision>
  <dc:subject/>
  <dc:title>Стили речи</dc:title>
</cp:coreProperties>
</file>