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BF7-D0D1-49D9-B714-5C246CEE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649-A068-417E-A59D-21B4B8FC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403-EFE0-4A31-8FDA-7A766C48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CEB-8B2F-4886-80B7-2C8A0450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E16-033D-40EB-8A24-269258D3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DA9-1892-4C19-8658-73FBD2B1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626-DE4F-4C0D-839F-2BE40BE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75D-3775-4FA2-9D02-4EB0F6A4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183-951F-4D13-98C3-03D4C671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65C-6D7A-4866-80F0-68F0EBE4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C98-F28F-4DE3-ADC2-B2AF62BC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0D1-EBE3-4A7E-9DF4-584B1EE5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1BA3-F2E1-45B2-826B-7F6418D0B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22320"/>
            <a:ext cx="432108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Calibri"/>
              </a:rPr>
              <a:t>Видеосюж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Ералаш.wmv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072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аем прият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84360" y="1065240"/>
            <a:ext cx="77832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Обратная связь – делимся впечатлениям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строение? Что запомнилось? Было ли труд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ем занятие с помощью стик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ишите одним словом свою оценку - весело, скучно,  интересно, не интересно, понравилось, не понравилось и т.д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РАБОТ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МПЛИМ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опрос  -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Что это и зач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408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ИСТОРИЯ ПОЯВЛЕНИЯ КОМПЛИМЕНТА</a:t>
            </a:r>
            <a:br>
              <a:rPr sz="18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2160" y="1483920"/>
            <a:ext cx="457056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зник во Франции в 17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усство комплимента как обязательная форма придворного этикета получило широкое распростран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дворе короля Людовика 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 Росс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лимен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явился в 18 веке в эпоху царствования Петра Велик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введением петровских ассамблей - прообраза дворянского бала, где много внимания уделялось правилам хорошего то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143680" y="1484280"/>
            <a:ext cx="32875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760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… </a:t>
            </a: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ПОСЛЕДНИЕ ИССЛЕДОВАНИЯ ПОКАЗЫВАЮ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ЛЛАН ПИЗ)</a:t>
            </a:r>
            <a:r>
              <a:rPr b="0" lang="ru-RU" sz="2400" spc="-1" strike="noStrike">
                <a:solidFill>
                  <a:srgbClr val="376092"/>
                </a:solidFill>
                <a:latin typeface="Calibri"/>
              </a:rPr>
              <a:t> </a:t>
            </a:r>
            <a:br>
              <a:rPr sz="18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7993080" cy="42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Чем больше вы говорите комплиментов другим, тем больше добрых слов слышите в ответ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ас начинают считать добрым, милым, привлекательным. Когда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собеседник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замечает, что вы проявляете свои чувства по отношению к нему, он гораздо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быстрее откроется вам и вы сможете расположить к себе, построить теплые, доверительные отношения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, наоборот,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люди переставшие говорить друг другу комплименты очень скоро начинают считать друг друга менее привлекательными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братная стратегия -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критика очень вредна. Вместо того чтобы стремиться к совершенству, люди, становятся осторожными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замкнутыми, у них снижается самооценка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огда человек воспроизводит на лице мимику какого-то настроения - именно это настроение к нему и приходи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Кеннет Гуд)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если плохое настроение - улыбайтесь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084720" y="193680"/>
            <a:ext cx="28623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Calibri"/>
              </a:rPr>
              <a:t>Групповое обсужд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правильно делать, говорить комплимент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какой манере, на что важно обратить внимание, чего не стоит делать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2 груп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правильно принимать, реагировать на комплимен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чение 3-4 минут обсуждаете фиксируете на листе отв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ле представляем результа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920" y="10800"/>
            <a:ext cx="669636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Правила хорошего тон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сихолог Т. Пауэлл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коменд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которые правила, которые помогут Вам делать комплименты другим людям вер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жде всего, выбери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ходящее время и мест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тем как делать комплимент, установи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такт гла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собеседник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ворите уверенно простым и понятным языком, учитывайте пол и возра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бегайт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злишней восторженности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атра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мика, жесты должны соответствовать слов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йте «Я-утверждения» («Мне нравится...», «Я в восторге...» и т. д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черкивайте детали («Мне нравится твоя блузка, особенно ее цвет. Мне кажется, он очень идет тебе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875640" y="115920"/>
            <a:ext cx="2168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Как правильно реагировать на комплим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ожелатель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ушайте, не перебивай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 благодарности нужно высказать искренно, не ограничиваясь дежурным «спасиб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ентарии и вопросы (даже в ответ на комплименты двусмысленные, неуместные) лучше оставить при се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имая комплимент, не возражайте, не спорь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оправдывайтесь, не уменьшайте своих достои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1859c"/>
                </a:solidFill>
                <a:uFillTx/>
                <a:latin typeface="Calibri"/>
              </a:rPr>
              <a:t>Разновидности комплимент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981000"/>
            <a:ext cx="8362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ст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«Ты хороший, добрый, веселый человек, Вася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форме метафоры, образ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«Ты – как солнышк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форме антитез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вои качества немного принижаются, на фоне чего выпукло выступают достоинства собеседника. («Мне не хватает твоей решительности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форме парадокс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чало отрицательное, а конец положительный. («Сначала ты показался мне надменным и с тобой не хотелось общаться, но теперь, узнав тебя ближе, я понял, что ты можешь быть очень хорошим другом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венный комплимен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хвалят предметы, вещи человека, увлечения, хобби («как приятно держать эту тетрадь в руках», «как у тебя уютно и красив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ез «потому что...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«ты замечательный человек, потому что всегда протягиваешь руку помощи, с тобой тепло и уютно!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мплимент – «передай слова другого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«Лиза говорила, что ты мастер своего дела, и здорово играешь в шахмат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азыграйте  следующие ситуации  </a:t>
            </a:r>
            <a:br>
              <a:rPr sz="40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(учитывая разновидности комплиментов и правила хорошего тона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781360"/>
            <a:ext cx="843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каникул вы    встретили друга и обратили внимание, что он загорел, вырос, повзросл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понравилась проектная работа одноклассника на уроке истор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6:25:29Z</dcterms:created>
  <dc:creator>User</dc:creator>
  <dc:description/>
  <dc:language>en-US</dc:language>
  <cp:lastModifiedBy>Оксана</cp:lastModifiedBy>
  <dcterms:modified xsi:type="dcterms:W3CDTF">2019-10-07T19:45:40Z</dcterms:modified>
  <cp:revision>42</cp:revision>
  <dc:subject/>
  <dc:title>Урок риторики по теме "Комплимент"</dc:title>
</cp:coreProperties>
</file>