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03B-1D31-4A6B-89A1-CCF9C6A2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63-B69D-4F07-93B9-E4A4B8F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0A4-7F9D-4CDE-AFFA-B741770B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E2B-11B3-4A46-A953-86D856BF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CBF-12AE-4F35-B93F-2904667C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3AE-B115-4B08-8471-3BCF798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F8E2-A3A6-44DF-826E-41B4FF22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9444-0A16-48BC-8AA2-586E859A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3374-D1D4-4C08-BD46-35411B6E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32E-0111-4219-A68B-4F46A6D1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E335-077E-4179-A7D8-8C21637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88D-FD68-4F40-AD0F-52F56D7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DA85-AF64-4AA0-8668-A8AC2A9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4ED8-F6F8-4A3E-9F71-1C52EF7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D20E-8922-413E-9DD2-15B83FA3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E895-9658-4B4E-8803-8F210C6C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877-BC38-40FD-89D6-CC9A58E1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48-BE2B-4E4C-8E9B-4F8442D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D3F-1619-45D3-9B7F-554C793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80E-CF68-4577-983F-78F25AED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0B7-4052-4011-A75C-11F6BD8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B3F-C3A6-4268-9741-15D9B907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E3D-0DB0-4C67-827C-006772B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278-13C2-42D6-97C8-785A6A7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36D-DBE8-40E2-AF15-6E678F3603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7AC9-E375-4A16-9E74-F01B1BCA921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: «Перепись населения школ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владеть некоторыми методами и приемами перепис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ывая специфику места ее про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ботка практических навыков сбора       информации, ее анализа, обработки и оформле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ата: 2018 г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ереписч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учащиеся 11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формит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Минина Ин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189000"/>
          <a:ext cx="8424720" cy="6408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0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6 –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8 –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6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8 -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9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9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рая Криуша -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9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мит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кате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рина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189000"/>
          <a:ext cx="8351640" cy="6335640"/>
        </p:xfrm>
        <a:graphic>
          <a:graphicData uri="http://schemas.openxmlformats.org/drawingml/2006/table">
            <a:tbl>
              <a:tblPr/>
              <a:tblGrid>
                <a:gridCol w="2087640"/>
                <a:gridCol w="2087280"/>
                <a:gridCol w="2089440"/>
                <a:gridCol w="2087280"/>
              </a:tblGrid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 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7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6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 -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6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7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овка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7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г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мит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кол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кате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333360"/>
          <a:ext cx="8496000" cy="612000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000"/>
              </a:tblGrid>
              <a:tr h="453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52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5 -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5 -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89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 –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 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 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 -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 –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 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 –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89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1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ван 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митрий -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ан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ес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Мальч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в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" descr=""/>
          <p:cNvPicPr/>
          <p:nvPr/>
        </p:nvPicPr>
        <p:blipFill>
          <a:blip r:embed="rId2"/>
          <a:srcRect l="9487" t="39218" r="3292" b="12200"/>
          <a:stretch/>
        </p:blipFill>
        <p:spPr>
          <a:xfrm>
            <a:off x="250920" y="1628640"/>
            <a:ext cx="8618400" cy="446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85040" y="1002600"/>
            <a:ext cx="32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79280" y="2276640"/>
          <a:ext cx="8734680" cy="40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873468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58760" y="88956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352440" y="1989000"/>
          <a:ext cx="8791560" cy="461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989000"/>
                    <a:ext cx="8791560" cy="46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276960" cy="5524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е динамики контингента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38836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39640" y="1700280"/>
          <a:ext cx="949644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94964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L:\к 100-летию\IMG_2601.JPG"/>
          <p:cNvPicPr/>
          <p:nvPr/>
        </p:nvPicPr>
        <p:blipFill>
          <a:blip r:embed="rId1"/>
          <a:stretch/>
        </p:blipFill>
        <p:spPr>
          <a:xfrm>
            <a:off x="285840" y="285840"/>
            <a:ext cx="8715240" cy="6537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68360" y="0"/>
          <a:ext cx="8064360" cy="687384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.И.О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ата ро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Трегубов Анатолий Иванови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8.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Л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Журавлева Светлана Николае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3.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Трегубова Ирина Владимир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02.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Л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Пархоменко Вадим Анатольеви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11.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Калинина Татьяна Василье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4.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теповая Надежда Константин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9.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Лаптиева Ольга Иван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9.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Шулекина Елена Павл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8.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Степовой Михаил Васильеви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4.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ГСХ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Калинина Светлана Дмитрие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9.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 Яковлева Елена Николае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4.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П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 Дробот Лидия Иван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7.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П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 Кобцева Мария Иван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.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 Кучмасова Светлана Александр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 Иванова Ирина Виктор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Ткачева Наталья Рудольф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 Минина Галина Иванов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8.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П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ГП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79280" y="1268280"/>
          <a:ext cx="8785440" cy="56689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62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.И.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Маначенко Галина Владимиро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1.19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профессиона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Слюсарева Ирина Алексее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3.19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профессиона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Беспалова Ольга Леонидо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.19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профессиона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Серякова Галина Александро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9.19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профессиона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Товстая Людмила Владимиро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3.1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профессиона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Вербицкий Александр Викторо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6.19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Ещенко Сергей Андрее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Хасанский Александр Михайло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24000" y="260280"/>
          <a:ext cx="8424720" cy="311328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09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5 –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5 -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иза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с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24000" y="3500280"/>
          <a:ext cx="8424720" cy="309744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61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1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4 -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4 -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2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1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1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50920" y="333360"/>
          <a:ext cx="8353440" cy="33498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2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 -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 –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4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5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го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т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г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нисла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ле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0920" y="3789360"/>
          <a:ext cx="8424720" cy="302112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446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6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2 –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 -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2 -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4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т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сил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изав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8360" y="189000"/>
          <a:ext cx="8424720" cy="648000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4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1 –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2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1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1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тябрь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2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- 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56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та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ки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росла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кол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ту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изав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189000"/>
          <a:ext cx="8642160" cy="6192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 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1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 -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9 -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4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-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ст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1280" y="189000"/>
          <a:ext cx="8229600" cy="6259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9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8 –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9 –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 -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тябрь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овка -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отроицкое –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менково –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гестан –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 –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ди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ль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ть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ле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ст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йс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9640" y="189000"/>
          <a:ext cx="8280360" cy="687528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льч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в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84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8 -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9 –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8 -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5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яц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евраль –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74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Calibri"/>
                          <a:ea typeface="Calibri"/>
                        </a:rPr>
                        <a:t>Дагестан –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Calibri"/>
                          <a:ea typeface="Calibri"/>
                        </a:rPr>
                        <a:t>Новотроицкое -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Calibri"/>
                          <a:ea typeface="Calibri"/>
                        </a:rPr>
                        <a:t>Фоменково –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Calibri"/>
                          <a:ea typeface="Calibri"/>
                        </a:rPr>
                        <a:t>Новотроицкое -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450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ом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ами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ми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вт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ст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Осадчий</cp:lastModifiedBy>
  <dcterms:modified xsi:type="dcterms:W3CDTF">2019-10-03T17:59:14Z</dcterms:modified>
  <cp:revision>20</cp:revision>
  <dc:subject/>
  <dc:title>Исследовательская работа</dc:title>
</cp:coreProperties>
</file>