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0A0-4DF2-4049-9DB3-0AE8AAE8666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F9A0-AFB3-4F70-8DB3-A699F2FF68F5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796-F149-4B2A-A549-831E09A26627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B96B-A35B-4195-B2A5-CB021875680D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894C-3299-445B-81E3-43ACBD0F53BC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A8D-F504-4028-9089-34B4603F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587-63A2-4227-B526-93772EBE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45B-91FB-4869-A2B5-6332A860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085-B40D-41C0-A5FE-51AEA60B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BB1-85A2-43D0-8944-51DC042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FF0-52AB-4643-8CE5-C92807BF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A72-A4B2-44BB-9C78-BB6222DE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AF7-820F-4427-BA9F-93FF05D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377-1336-44A9-9913-2AB9C99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23C-010A-4514-B702-8B71524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801-4011-4354-8FE7-806DD8C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FD3-B076-4B77-8B54-E34C11D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063-8ECB-4E8E-B26A-B51F4D1E50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981080" y="1938240"/>
            <a:ext cx="4635720" cy="1067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 академик, то герой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 мореплаватель, то плотник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всеобъемлющей душо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 троне вечный был работ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749600" y="3257640"/>
            <a:ext cx="7014960" cy="3988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з стихотворения «Стансы» (1826) А.С. Пушк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88320" y="533520"/>
            <a:ext cx="619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Mistral"/>
              </a:rPr>
              <a:t>Эпоха Петра </a:t>
            </a:r>
            <a:r>
              <a:rPr b="1" i="1" lang="el-GR" sz="6600" spc="-1" strike="noStrike">
                <a:solidFill>
                  <a:srgbClr val="ffff00"/>
                </a:solidFill>
                <a:latin typeface="Mistral"/>
              </a:rPr>
              <a:t>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http://lib.znate.ru/pars_docs/refs/292/291868/291868_html_mcc743e.png"/>
          <p:cNvPicPr/>
          <p:nvPr/>
        </p:nvPicPr>
        <p:blipFill>
          <a:blip r:embed="rId1"/>
          <a:stretch/>
        </p:blipFill>
        <p:spPr>
          <a:xfrm>
            <a:off x="6888240" y="414360"/>
            <a:ext cx="2090520" cy="45115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77240" y="149544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Петр Ι: реформатор или разрушител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744480" y="3962520"/>
            <a:ext cx="8020080" cy="149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История государства  - сам Петр, и все историки …завещали нам – размышлять, потому что так мы размышляем о наших днях”.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(Н. Я. Эйдельман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Почва для истории великого человека есть история народа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”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(С. М Соловьев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6360" y="1066680"/>
          <a:ext cx="9144000" cy="5856480"/>
        </p:xfrm>
        <a:graphic>
          <a:graphicData uri="http://schemas.openxmlformats.org/drawingml/2006/table">
            <a:tbl>
              <a:tblPr/>
              <a:tblGrid>
                <a:gridCol w="1788840"/>
                <a:gridCol w="2921040"/>
                <a:gridCol w="2179800"/>
                <a:gridCol w="225432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24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Яков Вилимович Брю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ин из основателей русской артиллерии в Северной войне. Автор нового русского военного Устава при Петре. Граф Российской империи. Президент Берг-коллегии. Создатель Навигацкой школы и карты «Карта земель от Москвы до Малой Азии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ладел шестью иностранными языками. Автор радиально – кольцевой планировки Москв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сегда и во всём поддерживал сподвижника, и поддержка эта была взаимн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сегда и во всём поддерживал царя реформатора, и поддержка эта была взаимн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10" descr="http://rossiya7.narod.ru/Ros2-2-5-11.jpg"/>
          <p:cNvPicPr/>
          <p:nvPr/>
        </p:nvPicPr>
        <p:blipFill>
          <a:blip r:embed="rId1"/>
          <a:stretch/>
        </p:blipFill>
        <p:spPr>
          <a:xfrm>
            <a:off x="0" y="2743200"/>
            <a:ext cx="1752480" cy="2236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1"/>
          <p:cNvSpPr/>
          <p:nvPr/>
        </p:nvSpPr>
        <p:spPr>
          <a:xfrm>
            <a:off x="2040120" y="27792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6. Соратники Петр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drawingml/2006/table">
            <a:tbl>
              <a:tblPr/>
              <a:tblGrid>
                <a:gridCol w="1789200"/>
                <a:gridCol w="2921040"/>
                <a:gridCol w="2179440"/>
                <a:gridCol w="2254320"/>
              </a:tblGrid>
              <a:tr h="54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24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Патрик Гордон - российский военный деятель, генерал и контр-адмирал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Шотландец, чем и привлек внимание царя. Полный генерал и контр-адмирал, администратор честных правил. Участник Крымских и Азовских походов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ордон был Петру как отец, и сблизило их то, что он всегда был на стороне государя и поддерживал его интересы. Например, он открыто встал на его сторону в борьбе за власть с сестрой Петра - Софье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сегда и во всём поддерживал царя реформатора, выступал за его реформы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80" name="Прямоугольник 10"/>
          <p:cNvSpPr/>
          <p:nvPr/>
        </p:nvSpPr>
        <p:spPr>
          <a:xfrm>
            <a:off x="2040120" y="27792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7. Соратники Петр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http://img-fotki.yandex.ru/get/5823/38229061.6b/0_65077_6ef052ba_orig.jpg"/>
          <p:cNvPicPr/>
          <p:nvPr/>
        </p:nvPicPr>
        <p:blipFill>
          <a:blip r:embed="rId1"/>
          <a:stretch/>
        </p:blipFill>
        <p:spPr>
          <a:xfrm>
            <a:off x="0" y="4267080"/>
            <a:ext cx="28954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drawingml/2006/table">
            <a:tbl>
              <a:tblPr/>
              <a:tblGrid>
                <a:gridCol w="1789200"/>
                <a:gridCol w="2921040"/>
                <a:gridCol w="2179440"/>
                <a:gridCol w="225432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48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ександр Данилович Менш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усский государственный и военный деятель, фаворит Петра I, генерал-фельдмаршал, первый Санкт-Петербургский генерал-губернатор, президент Военной коллегии. Единственный русский дворянин, получивший титул герцога. С Петром знаком с детства, сын конюха. Работал пирожником. Абсолютно неграмотен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етр правильно учел свойства характера князя, которому в известной мере были свойственны и невероятная напористость, и способность действовать очертя голову, и, если хотите, отчасти авантюриз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Меньшиков нашел в царе все, чем обладал сам: усердие, сочетаемое с талантами, распорядительность, опирающаяся на уверенность в правильности действ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83" name="Прямоугольник 5"/>
          <p:cNvSpPr/>
          <p:nvPr/>
        </p:nvSpPr>
        <p:spPr>
          <a:xfrm>
            <a:off x="2040120" y="27792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8. Соратники Петр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2133720" y="1654200"/>
            <a:ext cx="55245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Светлейший на любом поприще, куда бы ни послал Пётр, проявлял незаурядные способности организатора и безупречного исполнителя царских повел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2195640" y="2362320"/>
            <a:ext cx="697212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н был первым из русских, кого иностранное академическое учреждение избрало своим членом. Не кто-нибудь, а сам Ньютон 25 октября 1714 года известил Александра Даниловича об избрании его членом Королевского общ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При дворе удивление неграмотным князем сменяется восхищением талантом самород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http://www.slavgorod-museum.com/menshikov.files/image004.jpg"/>
          <p:cNvPicPr/>
          <p:nvPr/>
        </p:nvPicPr>
        <p:blipFill>
          <a:blip r:embed="rId1"/>
          <a:stretch/>
        </p:blipFill>
        <p:spPr>
          <a:xfrm>
            <a:off x="-27000" y="2743200"/>
            <a:ext cx="185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685440"/>
            <a:ext cx="5943600" cy="350532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7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«…Себя он не щадил, трудил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На благо Родины свое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Осваивал науки, в царский образ вжил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В сознанье русских всех людей»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228600" y="4721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Что такое Петр, чудо или чудовище? Я опять – таки решать не берусь. Он слишком родной мне, слишком часть меня самого, чтобы я мог судить о нем беспристраст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image3517[1]"/>
          <p:cNvPicPr/>
          <p:nvPr/>
        </p:nvPicPr>
        <p:blipFill>
          <a:blip r:embed="rId1"/>
          <a:stretch/>
        </p:blipFill>
        <p:spPr>
          <a:xfrm>
            <a:off x="6205680" y="817560"/>
            <a:ext cx="2766960" cy="2266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525760" y="4255920"/>
            <a:ext cx="3625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. Г. Бондорен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998160" y="5908680"/>
            <a:ext cx="42526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.С. Мережковский, писат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4648320" cy="541008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…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о мнению Петра , европеизация страны должна была проявиться  во внешнем виде русских людей. Предписывалось обязательное бритье бороды. Лица, носящие бороду (кроме духовенства), должны были платить пошлину. Проведение светских балов (ассамблей),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укорачивание кафтанов выше колен для мужчин. Обязательное начальное образование и многое другое, что сблизило бы уровень развития страны с прогрессирующим Западом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3" descr="pp_vv-00[1]"/>
          <p:cNvPicPr/>
          <p:nvPr/>
        </p:nvPicPr>
        <p:blipFill>
          <a:blip r:embed="rId1"/>
          <a:stretch/>
        </p:blipFill>
        <p:spPr>
          <a:xfrm>
            <a:off x="5059440" y="1579680"/>
            <a:ext cx="4054320" cy="31813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609480" y="411120"/>
            <a:ext cx="784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боснование Петром </a:t>
            </a:r>
            <a:r>
              <a:rPr b="1" lang="el-GR" sz="2800" spc="-1" strike="noStrike">
                <a:solidFill>
                  <a:srgbClr val="ff0000"/>
                </a:solidFill>
                <a:latin typeface="Tahoma"/>
              </a:rPr>
              <a:t>Ι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своих рефор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228600" y="797040"/>
            <a:ext cx="4603680" cy="5582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зиция 1. Петр направил Россию к свету европейской образованности, ввел в число европейских держа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го преобразования способствовали преодолению отсталости России, превращению ее в великую европейскую и морскую держав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Куда ты скачешь, гордый кон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И где опустишь ты копы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О, мощный властелин судьбы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е так ли ты над самой бездн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а высоте, уздой желез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Россию поднял на дыб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.С. Пушкин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4800600" y="777960"/>
            <a:ext cx="39625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2 точки зр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об итогах прав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Петра Велик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4800600" y="1816200"/>
            <a:ext cx="4114800" cy="4208760"/>
          </a:xfrm>
          <a:prstGeom prst="rect">
            <a:avLst/>
          </a:prstGeom>
          <a:solidFill>
            <a:srgbClr val="29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озиция 2. Петр подверг жестокому испытанию национальную самобытность русского народа, заразил ее скверной подражательства чужому. 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Преобразовательная деятельность Петра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 нарушила эволюционный ход развития Ро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т, не змия Всадник Мед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астоптал, стремясь вперед,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астоптал народ наш бед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астоптал простой нар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Н.Ф. Щербина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900igr.net/datas/istorija/Vneshnjaja-politika-Petra-1/0007-007-Detstvo-Petra-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Прямоугольник 1"/>
          <p:cNvSpPr/>
          <p:nvPr/>
        </p:nvSpPr>
        <p:spPr>
          <a:xfrm>
            <a:off x="0" y="231840"/>
            <a:ext cx="9144000" cy="520560"/>
          </a:xfrm>
          <a:prstGeom prst="rect">
            <a:avLst/>
          </a:prstGeom>
          <a:solidFill>
            <a:srgbClr val="ddeae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2a40"/>
                </a:solidFill>
                <a:latin typeface="Tahoma"/>
              </a:rPr>
              <a:t>Становление реформа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http://lusana.ru/files/4087/573/6.jpg"/>
          <p:cNvPicPr/>
          <p:nvPr/>
        </p:nvPicPr>
        <p:blipFill>
          <a:blip r:embed="rId2"/>
          <a:stretch/>
        </p:blipFill>
        <p:spPr>
          <a:xfrm>
            <a:off x="2209680" y="1523880"/>
            <a:ext cx="6629400" cy="42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600" y="1932120"/>
          <a:ext cx="9095040" cy="3471840"/>
        </p:xfrm>
        <a:graphic>
          <a:graphicData uri="http://schemas.openxmlformats.org/drawingml/2006/table">
            <a:tbl>
              <a:tblPr/>
              <a:tblGrid>
                <a:gridCol w="1933560"/>
                <a:gridCol w="2436840"/>
                <a:gridCol w="2438640"/>
                <a:gridCol w="2286000"/>
              </a:tblGrid>
              <a:tr h="173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735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1" name="Прямоугольник 2"/>
          <p:cNvSpPr/>
          <p:nvPr/>
        </p:nvSpPr>
        <p:spPr>
          <a:xfrm>
            <a:off x="1970280" y="1150920"/>
            <a:ext cx="54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ратники Пет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0" y="5473800"/>
            <a:ext cx="91123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«Пигмеями, спорящими о наследии великана» назвал Н.М. Карамзин сподвижников Петра 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-28440" y="123840"/>
          <a:ext cx="9096120" cy="6576840"/>
        </p:xfrm>
        <a:graphic>
          <a:graphicData uri="http://schemas.openxmlformats.org/drawingml/2006/table">
            <a:tbl>
              <a:tblPr/>
              <a:tblGrid>
                <a:gridCol w="1933560"/>
                <a:gridCol w="3135240"/>
                <a:gridCol w="1913040"/>
                <a:gridCol w="211428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0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Борис Петрович Шереметь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52-1719)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20 лет старше Петра 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усский полководец времени Северной войны, дипломат, один из первых русских генерал-фельдмаршалов. В 1706 году первым возведён в графское Российского царства достоинств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 13 лет – стольник (обслуживал комнату) царя Алексея Михайловича. К 30-ти годам воевода, тамбовский наместник. Боярин. Дипломат («Вечный мир» с Польшей. 1686, Западная Европа – обновление одежды дворян.). Участник Северной войны. Успехи в боях с 1701-1704. Участник Полтавской битвы 1709г.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 Шереметьеве Петра привлекали его основательность, осторожность. Не способен он был и на необдуманные поступки. И, хотя обратной стороной этого были его медлительность и пассивность, опыт дипломата так же был необходим Петр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Шереметьева в Петре ничего не привлекало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корее наоборот, ему было некомфортно в обществе царя, ведь тот позволял себе многое, что Борис Петрович считал недостойным себя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3366"/>
                          </a:solidFill>
                          <a:uFillTx/>
                          <a:latin typeface="Tahoma"/>
                        </a:rPr>
                        <a:t>К реформам Петра относился с понимание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7" descr="http://books.iqbuy.ru/img/books/9785/76/32/07/87/9785763207873-b.jpg"/>
          <p:cNvPicPr/>
          <p:nvPr/>
        </p:nvPicPr>
        <p:blipFill>
          <a:blip r:embed="rId1"/>
          <a:stretch/>
        </p:blipFill>
        <p:spPr>
          <a:xfrm>
            <a:off x="0" y="2819520"/>
            <a:ext cx="19051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76320"/>
          <a:ext cx="9144000" cy="6873840"/>
        </p:xfrm>
        <a:graphic>
          <a:graphicData uri="http://schemas.openxmlformats.org/drawingml/2006/table">
            <a:tbl>
              <a:tblPr/>
              <a:tblGrid>
                <a:gridCol w="1600200"/>
                <a:gridCol w="3110040"/>
                <a:gridCol w="2179440"/>
                <a:gridCol w="2254320"/>
              </a:tblGrid>
              <a:tr h="5490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2484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Пётр Андреевич Толсто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645 – 1729)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27 лет старш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а 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олонтер в Великом посольстве. Первый российский посол – резидент в Константинополе. Сенатор (1714). Видный российский дипломат в Европе – Дания, Англия, Прусс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адение царевны Софьи заставило Толстого резко перейти на сторону царя Петра, но последний долго относился к Толстому очень сдержанно. В 1717 г. Толстой вернул домой сына Петра Алексея. С этих пор Толстой становится одним из самых близких и доверенных лиц государ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олстой стремился к царю, потому что легко приспосабливался к изменениям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3366"/>
                          </a:solidFill>
                          <a:uFillTx/>
                          <a:latin typeface="Tahoma"/>
                        </a:rPr>
                        <a:t>Петр Андреевич был единственным сподвижником Петра, который начинал свою карьеру его противником, а заканчивал его верным слугой.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 В ряды сподвижников Петра Толстой влился в зрелые годы, и, несмотря на это, он с усердием стал постигать новое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http://ppt4web.ru/images/581/18149/640/img6.jpg"/>
          <p:cNvPicPr/>
          <p:nvPr/>
        </p:nvPicPr>
        <p:blipFill>
          <a:blip r:embed="rId1"/>
          <a:stretch/>
        </p:blipFill>
        <p:spPr>
          <a:xfrm>
            <a:off x="257040" y="3886200"/>
            <a:ext cx="2673360" cy="200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drawingml/2006/table">
            <a:tbl>
              <a:tblPr/>
              <a:tblGrid>
                <a:gridCol w="1600200"/>
                <a:gridCol w="3110040"/>
                <a:gridCol w="2179440"/>
                <a:gridCol w="2254320"/>
              </a:tblGrid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 к не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отношение к цар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83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Алексей Васильевич Макаров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соба, приближенная к царю. Волонтер в Великом посольстве. Первый российский посол – резидент в Константинополе. Сенатор (1714). Видный российский дипломат в Европе – Дания, Англия, Пруссия. Способствовал согласованию строительства флота по европейскому образц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Царю, бесспорно, импонировали спокойствие, уравновешенность, благоразумие и пунктуальность кабинет-секретаря. </a:t>
                      </a:r>
                      <a:r>
                        <a:rPr b="1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ahoma"/>
                        </a:rPr>
                        <a:t>Аналогичные качества Петра, в свою очередь, привлекали Макар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 был тенью царя, его памятью, глазами и ушами. Как и Пётр, Алексей Васильевич работал, не зная усталости, с полной отдачей сил, поддерживая рефор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http://www.hrono.ru/biograf/bio_m/makarov_alvas.jpg"/>
          <p:cNvPicPr/>
          <p:nvPr/>
        </p:nvPicPr>
        <p:blipFill>
          <a:blip r:embed="rId1"/>
          <a:stretch/>
        </p:blipFill>
        <p:spPr>
          <a:xfrm>
            <a:off x="0" y="3048120"/>
            <a:ext cx="1600200" cy="2332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1657800" y="360360"/>
            <a:ext cx="60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3. Соратники Пет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623880"/>
          <a:ext cx="9144000" cy="6234120"/>
        </p:xfrm>
        <a:graphic>
          <a:graphicData uri="http://schemas.openxmlformats.org/drawingml/2006/table">
            <a:tbl>
              <a:tblPr/>
              <a:tblGrid>
                <a:gridCol w="1844640"/>
                <a:gridCol w="2865600"/>
                <a:gridCol w="2179440"/>
                <a:gridCol w="2254320"/>
              </a:tblGrid>
              <a:tr h="77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 к цар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45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вва Лукич Рагузинский-Владисла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женец Серби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ехал из страны в связи с трагедией в семь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ерб. Первый русский разведчик. Купец-торговец в Венеции, Испании, Франции, Стамбуле. Сблизился с русским послом Украинцевым, создал предпосылки для русско-турецкого перемирия. Знакомство с Петром приносит ему статус посла России. Вынашивая идеи мести мусульманам за семью, создает под прикрытием торговли разведывательную сеть, став первым русским разведчиком в Турции! За службу получил бесплатное проживание, торговлю, дом на Покровке. Привозит из Турции в подарок Петру абиссинца Ибрагима (вот кому мы должны быть благодарны за Пушкина!)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Доверие царя к нему было безгранично, особенно, когда Савва поддерживает обучающихся в Италии русских художников и финансистов, покупает гондолы, научное оборудование и - скульптуры для Летнего сада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авва всегда был верным советником Петра, кажется, иногда даже забывая о собственных интересах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1" descr="C:\Users\Stas\Desktop\1371898.jpg"/>
          <p:cNvPicPr/>
          <p:nvPr/>
        </p:nvPicPr>
        <p:blipFill>
          <a:blip r:embed="rId1"/>
          <a:stretch/>
        </p:blipFill>
        <p:spPr>
          <a:xfrm>
            <a:off x="7126200" y="3591000"/>
            <a:ext cx="1621080" cy="4443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922120" y="5256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Соратники Петр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-36360" y="1371600"/>
          <a:ext cx="9144000" cy="5486400"/>
        </p:xfrm>
        <a:graphic>
          <a:graphicData uri="http://schemas.openxmlformats.org/drawingml/2006/table">
            <a:tbl>
              <a:tblPr/>
              <a:tblGrid>
                <a:gridCol w="1601640"/>
                <a:gridCol w="3110040"/>
                <a:gridCol w="2178000"/>
                <a:gridCol w="2254320"/>
              </a:tblGrid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ца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 к цар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97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Франц Яковлевич Лефо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значально торговец. Прибыл в Москву. Решил стать военным. С Петром познакомился в Троице-Сергиевом монастыре.  Поселился в Немецкой слободе.  Идеолог «Великого посольства».  Генерал-майор, генерал, затем адмирал русского флота, он принимал участие во всех походах Петра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  <a:ea typeface="Times New Roman"/>
                        </a:rPr>
                        <a:t>Как европеец Лефорт был интересен царю, тянувшемуся ко всему европейскому.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Царь, в свою очередь, дружил с иностранцем, словно в знак протеста старому двору, цеплявшемуся за консерватизм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азделял страсть российского государя к военному делу, Лефорта всегда привлекала его активность, готовность к активным действиям, поддерживал все идеи и был неразлучен с Петром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74" name="Прямоугольник 2"/>
          <p:cNvSpPr/>
          <p:nvPr/>
        </p:nvSpPr>
        <p:spPr>
          <a:xfrm>
            <a:off x="1505520" y="609480"/>
            <a:ext cx="60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5. Соратники Пет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http://www.istpravda.ru/upload/medialibrary/cd9/cd97007f9d2afaf4f1a302a475cb0dfc.jpg"/>
          <p:cNvPicPr/>
          <p:nvPr/>
        </p:nvPicPr>
        <p:blipFill>
          <a:blip r:embed="rId1"/>
          <a:stretch/>
        </p:blipFill>
        <p:spPr>
          <a:xfrm>
            <a:off x="-12600" y="3200400"/>
            <a:ext cx="15602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2:47:25Z</dcterms:created>
  <dc:creator>Admin</dc:creator>
  <dc:description/>
  <dc:language>en-US</dc:language>
  <cp:lastModifiedBy>PC</cp:lastModifiedBy>
  <dcterms:modified xsi:type="dcterms:W3CDTF">2019-10-07T14:18:2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