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D5AB-0C05-4566-902E-7B8B22C54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C624-5383-430F-987E-810DB5C3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BC7E-FD07-4BA8-8682-8DF887A71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71C1-D91A-4F10-A936-D454F9CBD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9BDA-E96D-4E1B-99B1-CF322637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520D-11E1-489B-95F3-9D36A1E7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2AE0-D5F2-44C5-99AB-E73EF0E9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CFEC-BDC8-4A7F-86C3-AEFB1B08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39B3-DCE4-48D9-9F4C-92E6AF98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972C-4638-40E0-B0C4-9BE10A05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4E0F-A249-4454-91F7-D427A0BA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4850-29F0-4965-9172-78CD8EEB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FA64-493B-46E0-9795-D1AF174FD8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bezdtp.ru/campaigns/prognoz-bezopasnosti/poveliteli-nepogodi/images/slide1-1.jpg"/>
          <p:cNvPicPr/>
          <p:nvPr/>
        </p:nvPicPr>
        <p:blipFill>
          <a:blip r:embed="rId1"/>
          <a:srcRect l="50002" t="0" r="0" b="0"/>
          <a:stretch/>
        </p:blipFill>
        <p:spPr>
          <a:xfrm>
            <a:off x="1403280" y="0"/>
            <a:ext cx="6697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://bezdtp.ru/campaigns/prognoz-bezopasnosti/poveliteli-nepogodi/images/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bezdtp.ru/campaigns/prognoz-bezopasnosti/poveliteli-nepogodi/images/slid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bezdtp.ru/campaigns/prognoz-bezopasnosti/poveliteli-nepogodi/images/slide4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bezdtp.ru/campaigns/prognoz-bezopasnosti/poveliteli-nepogodi/images/slide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bezdtp.ru/campaigns/prognoz-bezopasnosti/poveliteli-nepogodi/images/slide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4T11:53:15Z</dcterms:created>
  <dc:creator>Людмила</dc:creator>
  <dc:description/>
  <dc:language>en-US</dc:language>
  <cp:lastModifiedBy>Людмила</cp:lastModifiedBy>
  <dcterms:modified xsi:type="dcterms:W3CDTF">2015-03-14T12:11:29Z</dcterms:modified>
  <cp:revision>2</cp:revision>
  <dc:subject/>
  <dc:title>Слайд 1</dc:title>
</cp:coreProperties>
</file>