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8.jpeg" ContentType="image/jpeg"/>
  <Override PartName="/ppt/media/image13.jpeg" ContentType="image/jpe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674-1C0B-4AAA-8FEE-A47D4565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D46-05B8-4F54-8D86-EC968459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C88-E5FC-4390-A472-38C8624A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D6E5-3C13-4DEB-9286-4F918EDD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D191-B4DC-413B-8C7E-3F144680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4719-64D2-496E-A627-338BEF10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36A5-D2A4-4945-A362-C08EC887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7581-EA20-4B18-8DE7-5F315F07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A0CC-442B-4BC0-A291-9ED7EA95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CDCB-C3D7-4269-9A4D-CB27D050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2047-AA61-47E7-94D0-0937A438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8D0-A7EC-42D2-9347-E4353D47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B9D4-E482-4865-8B86-285AB480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69C8-FD17-4E50-AF23-43AA80E0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866E-C72D-40E6-8BC8-E6A30A83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E757-5DEF-498B-80BB-7E50F4A3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A208-C147-47BC-9698-6D0A97A6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CBF0-BF5A-4C9E-B179-C3CA9107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D9D6-FB62-4354-9077-35C75FE5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E0C-1B9A-402D-9D27-D44AF248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6439-BC8F-423E-A003-E698CE3F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4D6-6316-4B15-A4DD-56208231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F4D-B642-4F8C-A1F3-81DE1B20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459-4F64-40B9-A074-F9691B65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37C2-CA9F-4D8E-A900-3BDB4D62814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9BCD-3C2C-41F8-87A2-6C170336636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зуб"/>
          <p:cNvPicPr/>
          <p:nvPr/>
        </p:nvPicPr>
        <p:blipFill>
          <a:blip r:embed="rId1"/>
          <a:stretch/>
        </p:blipFill>
        <p:spPr>
          <a:xfrm>
            <a:off x="826920" y="2781360"/>
            <a:ext cx="3333960" cy="2219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руки"/>
          <p:cNvPicPr/>
          <p:nvPr/>
        </p:nvPicPr>
        <p:blipFill>
          <a:blip r:embed="rId2"/>
          <a:stretch/>
        </p:blipFill>
        <p:spPr>
          <a:xfrm>
            <a:off x="2124000" y="7461360"/>
            <a:ext cx="2448000" cy="1885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3"/>
          <p:cNvSpPr/>
          <p:nvPr/>
        </p:nvSpPr>
        <p:spPr>
          <a:xfrm>
            <a:off x="-181080" y="620640"/>
            <a:ext cx="932508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ПОЧЕМУ НУЖ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ЧИСТИТЬ ЗУБЫ И МЫТЬ РУ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kids%20hand%20washing"/>
          <p:cNvPicPr/>
          <p:nvPr/>
        </p:nvPicPr>
        <p:blipFill>
          <a:blip r:embed="rId3"/>
          <a:stretch/>
        </p:blipFill>
        <p:spPr>
          <a:xfrm>
            <a:off x="5076720" y="3141720"/>
            <a:ext cx="196848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1" descr="MCj02960830000[1]"/>
          <p:cNvPicPr/>
          <p:nvPr/>
        </p:nvPicPr>
        <p:blipFill>
          <a:blip r:embed="rId1"/>
          <a:stretch/>
        </p:blipFill>
        <p:spPr>
          <a:xfrm>
            <a:off x="2268360" y="981000"/>
            <a:ext cx="4176720" cy="2581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8"/>
          <p:cNvSpPr/>
          <p:nvPr/>
        </p:nvSpPr>
        <p:spPr>
          <a:xfrm>
            <a:off x="1979640" y="3860640"/>
            <a:ext cx="66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остяная спин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На брюшке щетин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о частоколу прыг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сю грязь повыгнала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зп"/>
          <p:cNvPicPr/>
          <p:nvPr/>
        </p:nvPicPr>
        <p:blipFill>
          <a:blip r:embed="rId1"/>
          <a:stretch/>
        </p:blipFill>
        <p:spPr>
          <a:xfrm>
            <a:off x="5724360" y="476280"/>
            <a:ext cx="3114720" cy="5170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5"/>
          <p:cNvSpPr/>
          <p:nvPr/>
        </p:nvSpPr>
        <p:spPr>
          <a:xfrm>
            <a:off x="468360" y="1521000"/>
            <a:ext cx="532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Не сметана я, не кр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Но на них слегка похо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На зубы попа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о утрам всегда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gigiena"/>
          <p:cNvPicPr/>
          <p:nvPr/>
        </p:nvPicPr>
        <p:blipFill>
          <a:blip r:embed="rId1"/>
          <a:stretch/>
        </p:blipFill>
        <p:spPr>
          <a:xfrm>
            <a:off x="539640" y="2349360"/>
            <a:ext cx="4213440" cy="2625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КАК НАДО ЧИСТИТЬ ЗУБЫ?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4572000" y="2637000"/>
            <a:ext cx="41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аже самый дальний зу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чень важный з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826920" y="1557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до чистить каждый зу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ерхний зуб, нижний зу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003640" y="3933720"/>
            <a:ext cx="39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знутри, снаружи, тр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ри снаружи, изнутр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7"/>
          <p:cNvSpPr/>
          <p:nvPr/>
        </p:nvSpPr>
        <p:spPr>
          <a:xfrm>
            <a:off x="971640" y="47628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Гладко, душисто, моет чист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Нужно, чтобы у каждого был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6" descr="small"/>
          <p:cNvPicPr/>
          <p:nvPr/>
        </p:nvPicPr>
        <p:blipFill>
          <a:blip r:embed="rId1"/>
          <a:stretch/>
        </p:blipFill>
        <p:spPr>
          <a:xfrm>
            <a:off x="2484360" y="2349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92170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Garamond"/>
              </a:rPr>
              <a:t>КАК ПРАВИЛЬНО ВЫМЫТЬ РУКИ?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Намочить ру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Взять мы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Намылить руки до п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Помы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Смыть пену вод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Если вода ещё грязная, то процедуру повт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7" descr="health-kids-washing-hands"/>
          <p:cNvPicPr/>
          <p:nvPr/>
        </p:nvPicPr>
        <p:blipFill>
          <a:blip r:embed="rId1"/>
          <a:stretch/>
        </p:blipFill>
        <p:spPr>
          <a:xfrm>
            <a:off x="6443640" y="1197000"/>
            <a:ext cx="2311560" cy="3456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538200" y="839880"/>
            <a:ext cx="786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Да здравствует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   душист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И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   пушисто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И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И густой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  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Cj04079400000[1]"/>
          <p:cNvPicPr/>
          <p:nvPr/>
        </p:nvPicPr>
        <p:blipFill>
          <a:blip r:embed="rId1"/>
          <a:stretch/>
        </p:blipFill>
        <p:spPr>
          <a:xfrm>
            <a:off x="4643280" y="692280"/>
            <a:ext cx="1224000" cy="1012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MCj04126360000[1]"/>
          <p:cNvPicPr/>
          <p:nvPr/>
        </p:nvPicPr>
        <p:blipFill>
          <a:blip r:embed="rId2"/>
          <a:stretch/>
        </p:blipFill>
        <p:spPr>
          <a:xfrm>
            <a:off x="1258920" y="1557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MCj03513040000[1]"/>
          <p:cNvPicPr/>
          <p:nvPr/>
        </p:nvPicPr>
        <p:blipFill>
          <a:blip r:embed="rId3"/>
          <a:stretch/>
        </p:blipFill>
        <p:spPr>
          <a:xfrm>
            <a:off x="2916360" y="2924280"/>
            <a:ext cx="1008000" cy="1355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poroshok"/>
          <p:cNvPicPr/>
          <p:nvPr/>
        </p:nvPicPr>
        <p:blipFill>
          <a:blip r:embed="rId4"/>
          <a:stretch/>
        </p:blipFill>
        <p:spPr>
          <a:xfrm>
            <a:off x="1187280" y="2349360"/>
            <a:ext cx="865440" cy="73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oz117396"/>
          <p:cNvPicPr/>
          <p:nvPr/>
        </p:nvPicPr>
        <p:blipFill>
          <a:blip r:embed="rId5"/>
          <a:srcRect l="0" t="0" r="0" b="17922"/>
          <a:stretch/>
        </p:blipFill>
        <p:spPr>
          <a:xfrm>
            <a:off x="5292720" y="2276640"/>
            <a:ext cx="263052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aramond"/>
              </a:rPr>
              <a:t>Презентацию подготовила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Garamond"/>
              </a:rPr>
              <a:t>Кодацкая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Garamond"/>
              </a:rPr>
              <a:t>Наталья Юрьевна</a:t>
            </a: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000099"/>
                </a:solidFill>
                <a:latin typeface="Garamond"/>
              </a:rPr>
              <a:t>учитель начальных классов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Garamond"/>
              </a:rPr>
              <a:t>МБОУ «Митрофановская СОШ»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Garamond"/>
              </a:rPr>
              <a:t>Кантемировского района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07:10:50Z</dcterms:created>
  <dc:creator>Klass</dc:creator>
  <dc:description/>
  <dc:language>en-US</dc:language>
  <cp:lastModifiedBy>User</cp:lastModifiedBy>
  <dcterms:modified xsi:type="dcterms:W3CDTF">2018-02-17T15:37:05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