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5FC-01D7-466B-9310-F4BAED93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F4A-96A2-4966-B457-FD0EA1E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A25-0BB4-4BE2-BB6A-4EE77594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255-0764-4ACC-ADFC-45ABC897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5B4-E5EF-4D83-A66B-5B1F23E3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F2A-B647-4950-8D36-107B1877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159-44F0-41C2-A57D-3305001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D8D-E7FD-4692-B3B3-B98D4F44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53F-882E-496B-B230-EAA360A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8B1-9B95-4018-B10C-5D2D0A0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BE9-ED2B-42CB-BDEC-56D1985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B9D-A2ED-4730-85D5-A5ADB9C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920B-8893-4248-A43C-166D5A31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897E-DC66-40BF-8E6D-63A0DB8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4DA-02D3-4F86-91B4-6D4F95D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FFBD-264F-4BED-B257-7DF3DF4A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37F-9470-44C2-9B1A-15A5C025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66D-E840-45DD-A1E8-0DB84EE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1FC-9F18-4265-8426-088D14E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A2D-73BC-4F90-A74A-0112685B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CA7-CF5A-4FC4-B039-ACBAB089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00D-49BF-4605-85F6-D927CC4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18E-A04C-4656-AD78-276D8E1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F0D-C0EF-4FD3-90D0-DE5D6B8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2478-1818-445F-AFD9-A29C199B7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493-A060-4587-BCA8-9FBAA000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3933720"/>
            <a:ext cx="2067120" cy="206712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860640"/>
            <a:ext cx="1944720" cy="194472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5" descr="Копия 710b8898bb10">
            <a:hlinkClick r:id="rId1" action="ppaction://hlinksldjump"/>
          </p:cNvPr>
          <p:cNvPicPr/>
          <p:nvPr/>
        </p:nvPicPr>
        <p:blipFill>
          <a:blip r:embed="rId2"/>
          <a:srcRect l="0" t="926" r="23529" b="2779"/>
          <a:stretch/>
        </p:blipFill>
        <p:spPr>
          <a:xfrm>
            <a:off x="539640" y="249228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7ae125dcab67"/>
          <p:cNvPicPr/>
          <p:nvPr/>
        </p:nvPicPr>
        <p:blipFill>
          <a:blip r:embed="rId3"/>
          <a:srcRect l="31674" t="0" r="0" b="0"/>
          <a:stretch/>
        </p:blipFill>
        <p:spPr>
          <a:xfrm>
            <a:off x="6659640" y="2781360"/>
            <a:ext cx="1571400" cy="2428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564000" y="2205000"/>
            <a:ext cx="1922400" cy="163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post-38494-1202326558 копия"/>
          <p:cNvPicPr/>
          <p:nvPr/>
        </p:nvPicPr>
        <p:blipFill>
          <a:blip r:embed="rId4"/>
          <a:stretch/>
        </p:blipFill>
        <p:spPr>
          <a:xfrm>
            <a:off x="3851280" y="476280"/>
            <a:ext cx="1576440" cy="2413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276720" y="4437000"/>
            <a:ext cx="2571480" cy="127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321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628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3141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1989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221000"/>
            <a:ext cx="192060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3640" y="414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2708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360" y="566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33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5300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1640" y="4365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1197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404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476280"/>
            <a:ext cx="192096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404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1844640"/>
            <a:ext cx="41148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40360" y="5661000"/>
            <a:ext cx="411120" cy="40968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4292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0360" y="3429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96360" y="321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628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3141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4221000"/>
            <a:ext cx="192060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3640" y="414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59280" y="2708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566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33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300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4365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67280" y="1197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51640" y="404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4000" y="476280"/>
            <a:ext cx="192096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404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68360" y="1844640"/>
            <a:ext cx="41148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40360" y="5661000"/>
            <a:ext cx="411120" cy="40968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6360" y="4292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40360" y="3429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96360" y="321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1628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3141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4221000"/>
            <a:ext cx="192060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414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59280" y="2708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566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33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67640" y="5300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11640" y="4365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67280" y="1197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51640" y="404640"/>
            <a:ext cx="914400" cy="914400"/>
          </a:xfrm>
          <a:prstGeom prst="rect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476280"/>
            <a:ext cx="1920960" cy="2138400"/>
          </a:xfrm>
          <a:prstGeom prst="triangle">
            <a:avLst>
              <a:gd name="adj" fmla="val 50000"/>
            </a:avLst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404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8360" y="1844640"/>
            <a:ext cx="41148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4292640"/>
            <a:ext cx="411120" cy="4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342900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116000" y="692280"/>
            <a:ext cx="187164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877080" y="3644640"/>
            <a:ext cx="1295280" cy="10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3357720"/>
            <a:ext cx="187164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780000" y="4797000"/>
            <a:ext cx="10792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476360" y="4365720"/>
            <a:ext cx="180036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156360" y="907560"/>
            <a:ext cx="1871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35640" y="5805360"/>
            <a:ext cx="480960" cy="482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2276640"/>
            <a:ext cx="480960" cy="482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333360"/>
            <a:ext cx="481320" cy="482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2062080"/>
            <a:ext cx="2158920" cy="5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51640" y="5734080"/>
            <a:ext cx="259236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140360" y="620640"/>
            <a:ext cx="71892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0" spc="-1" strike="noStrike">
                <a:solidFill>
                  <a:srgbClr val="000000"/>
                </a:solidFill>
                <a:latin typeface="Arial"/>
                <a:ea typeface="Arial"/>
              </a:rPr>
              <a:t>≠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о строчной буквы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исло и цифр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авнение групп предметов. Столько 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натные 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4000" y="909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авнение групп предметов . Столько 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6560" y="71280"/>
            <a:ext cx="22525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жно сравнить группы предме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количест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ить па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19640" y="1341360"/>
            <a:ext cx="3132360" cy="2087640"/>
          </a:xfrm>
          <a:prstGeom prst="ellipse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3716280"/>
            <a:ext cx="3132360" cy="2087640"/>
          </a:xfrm>
          <a:prstGeom prst="ellipse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6858000"/>
            <a:ext cx="914400" cy="914400"/>
          </a:xfrm>
          <a:prstGeom prst="sun">
            <a:avLst>
              <a:gd name="adj" fmla="val 25000"/>
            </a:avLst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6000" y="249228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8720" y="270828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84720" y="1628640"/>
            <a:ext cx="41148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59640" y="414972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8720" y="414972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0360" y="4149720"/>
            <a:ext cx="411120" cy="4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36000" y="1628640"/>
            <a:ext cx="409320" cy="4096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653000"/>
            <a:ext cx="409320" cy="4096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40360" y="4653000"/>
            <a:ext cx="409680" cy="4096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8000" y="2205000"/>
            <a:ext cx="409680" cy="4096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каким настроением ты уходишь с урок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2781360"/>
            <a:ext cx="1728720" cy="1728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19640" y="2781360"/>
            <a:ext cx="1728720" cy="16556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2781360"/>
            <a:ext cx="1727280" cy="1655640"/>
          </a:xfrm>
          <a:prstGeom prst="smileyFace">
            <a:avLst>
              <a:gd name="adj" fmla="val 21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каким настроением ты пришёл на уро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781360"/>
            <a:ext cx="1728720" cy="1728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2781360"/>
            <a:ext cx="1728720" cy="16556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2781360"/>
            <a:ext cx="1727280" cy="1655640"/>
          </a:xfrm>
          <a:prstGeom prst="smileyFace">
            <a:avLst>
              <a:gd name="adj" fmla="val 217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1270080"/>
            <a:ext cx="244800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92360" y="155736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 больше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90792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177336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187280" y="177336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5373720"/>
            <a:ext cx="273708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429264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28000" y="443700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8000" y="191628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852640"/>
            <a:ext cx="1490760" cy="1417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2997360"/>
            <a:ext cx="1490400" cy="141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364000" y="5445000"/>
            <a:ext cx="259272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596800">
            <a:off x="4140360" y="5445000"/>
            <a:ext cx="1056960" cy="105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56000" y="551664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96360" y="3357720"/>
            <a:ext cx="8650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+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5640" y="3284640"/>
            <a:ext cx="8650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-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908000" y="1268280"/>
            <a:ext cx="7923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443640" y="1268280"/>
            <a:ext cx="7923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189000"/>
            <a:ext cx="2232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356000" y="260280"/>
            <a:ext cx="37152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188640"/>
            <a:ext cx="56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й должна быть последняя бус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98920" cy="2814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27280" y="3213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3357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068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2637000"/>
            <a:ext cx="914400" cy="91440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206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1916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916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2997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22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386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5445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157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5734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5589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530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4581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08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47640" y="5229360"/>
            <a:ext cx="358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2720" cy="2139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92720" y="3645000"/>
            <a:ext cx="1943280" cy="18730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867280" y="213372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59280" y="188640"/>
            <a:ext cx="56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й должна быть последняя бус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14720" cy="2309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27280" y="3213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3357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3068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2637000"/>
            <a:ext cx="914400" cy="91440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67280" y="2060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1916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191628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08720" y="2997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2276640"/>
            <a:ext cx="914400" cy="91440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08720" y="3860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5445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5157720"/>
            <a:ext cx="914400" cy="91440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57340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558972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6000" y="5300640"/>
            <a:ext cx="914400" cy="91440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4581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5084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547640" y="5229360"/>
            <a:ext cx="358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2520" cy="234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292720" y="3645000"/>
            <a:ext cx="1943280" cy="1873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156360" y="1700280"/>
            <a:ext cx="360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4508640"/>
            <a:ext cx="2066760" cy="206676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4365720"/>
            <a:ext cx="1944720" cy="194472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5" descr="Копия 710b8898bb10">
            <a:hlinkClick r:id="rId1" action="ppaction://hlinksldjump"/>
          </p:cNvPr>
          <p:cNvPicPr/>
          <p:nvPr/>
        </p:nvPicPr>
        <p:blipFill>
          <a:blip r:embed="rId2"/>
          <a:srcRect l="0" t="926" r="23529" b="2779"/>
          <a:stretch/>
        </p:blipFill>
        <p:spPr>
          <a:xfrm>
            <a:off x="468360" y="33336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" descr="7ae125dcab67"/>
          <p:cNvPicPr/>
          <p:nvPr/>
        </p:nvPicPr>
        <p:blipFill>
          <a:blip r:embed="rId3"/>
          <a:srcRect l="31674" t="0" r="0" b="0"/>
          <a:stretch/>
        </p:blipFill>
        <p:spPr>
          <a:xfrm>
            <a:off x="7020000" y="260280"/>
            <a:ext cx="1571400" cy="2428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64000" y="3429000"/>
            <a:ext cx="1922400" cy="163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post-38494-1202326558 копия"/>
          <p:cNvPicPr/>
          <p:nvPr/>
        </p:nvPicPr>
        <p:blipFill>
          <a:blip r:embed="rId4"/>
          <a:stretch/>
        </p:blipFill>
        <p:spPr>
          <a:xfrm>
            <a:off x="4067280" y="189000"/>
            <a:ext cx="1576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3933720"/>
            <a:ext cx="2067120" cy="2067120"/>
          </a:xfrm>
          <a:prstGeom prst="ellipse">
            <a:avLst/>
          </a:prstGeom>
          <a:solidFill>
            <a:srgbClr val="5b00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3860640"/>
            <a:ext cx="1944720" cy="194472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5" descr="Копия 710b8898bb10">
            <a:hlinkClick r:id="rId1" action="ppaction://hlinksldjump"/>
          </p:cNvPr>
          <p:cNvPicPr/>
          <p:nvPr/>
        </p:nvPicPr>
        <p:blipFill>
          <a:blip r:embed="rId2"/>
          <a:srcRect l="0" t="926" r="23529" b="2779"/>
          <a:stretch/>
        </p:blipFill>
        <p:spPr>
          <a:xfrm>
            <a:off x="539640" y="278136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7ae125dcab67"/>
          <p:cNvPicPr/>
          <p:nvPr/>
        </p:nvPicPr>
        <p:blipFill>
          <a:blip r:embed="rId3"/>
          <a:srcRect l="31674" t="0" r="0" b="0"/>
          <a:stretch/>
        </p:blipFill>
        <p:spPr>
          <a:xfrm>
            <a:off x="6659640" y="2781360"/>
            <a:ext cx="1571400" cy="2428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564000" y="2205000"/>
            <a:ext cx="1922400" cy="163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" descr="post-38494-1202326558 копия"/>
          <p:cNvPicPr/>
          <p:nvPr/>
        </p:nvPicPr>
        <p:blipFill>
          <a:blip r:embed="rId4"/>
          <a:stretch/>
        </p:blipFill>
        <p:spPr>
          <a:xfrm>
            <a:off x="3708360" y="765000"/>
            <a:ext cx="1576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05:40Z</dcterms:created>
  <dc:creator>Елена</dc:creator>
  <dc:description/>
  <dc:language>en-US</dc:language>
  <cp:lastModifiedBy>Елена</cp:lastModifiedBy>
  <dcterms:modified xsi:type="dcterms:W3CDTF">2012-10-30T18:24:29Z</dcterms:modified>
  <cp:revision>9</cp:revision>
  <dc:subject/>
  <dc:title>Слайд 1</dc:title>
</cp:coreProperties>
</file>