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2C4-E349-4125-AB2C-67261684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B0A-5A9C-41C8-BA4A-EED5B907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EA5-9094-4767-A49E-47E47F7B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41F-F36A-493B-B8E0-22F94DE4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8A7-563B-4F34-AA75-E11FF5DD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B78-6515-4EC5-ADD4-0F110071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A56-C6AC-4A36-A442-4DAEB417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AFE-FC7A-42D7-9973-39C1196D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077-5751-48F2-AC3C-F65D143A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887-4B8B-41B6-B90F-96B8C665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69B-1214-4089-B4CC-9DBE0FB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06F-B519-4802-B257-30A6F05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6797-3995-4254-ABFC-79C60597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heoryandpractice.ru/posts/1008-kak-obrazuyutsya-snezhinki-i-pochemu-vse-oni-takie-raznye" TargetMode="External"/><Relationship Id="rId3" Type="http://schemas.openxmlformats.org/officeDocument/2006/relationships/hyperlink" Target="http://theoryandpractice.ru/posts/1008-kak-obrazuyutsya-snezhinki-i-pochemu-vse-oni-takie-raznye" TargetMode="External"/><Relationship Id="rId4" Type="http://schemas.openxmlformats.org/officeDocument/2006/relationships/hyperlink" Target="http://theoryandpractice.ru/posts/1008-kak-obrazuyutsya-snezhinki-i-pochemu-vse-oni-takie-raznye" TargetMode="External"/><Relationship Id="rId5" Type="http://schemas.openxmlformats.org/officeDocument/2006/relationships/hyperlink" Target="http://theoryandpractice.ru/posts/1008-kak-obrazuyutsya-snezhinki-i-pochemu-vse-oni-takie-raznye" TargetMode="External"/><Relationship Id="rId6" Type="http://schemas.openxmlformats.org/officeDocument/2006/relationships/hyperlink" Target="http://theoryandpractice.ru/posts/1008-kak-obrazuyutsya-snezhinki-i-pochemu-vse-oni-takie-raznye" TargetMode="External"/><Relationship Id="rId7" Type="http://schemas.openxmlformats.org/officeDocument/2006/relationships/hyperlink" Target="http://theoryandpractice.ru/posts/1008-kak-obrazuyutsya-snezhinki-i-pochemu-vse-oni-takie-raznye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8120" y="3581280"/>
            <a:ext cx="304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прое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080" y="487656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а ученица 5Б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БОУ СОШ «Центр образован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. Варлам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това Вал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ководитель учитель географ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сенков С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1371600"/>
            <a:ext cx="655308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Тай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нежин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44" name="" descr="снежинка / VFL.Ru это, фотохостинг без регистрации, и быстрый хостинг изображений."/>
          <p:cNvPicPr/>
          <p:nvPr/>
        </p:nvPicPr>
        <p:blipFill>
          <a:blip r:embed="rId2"/>
          <a:stretch/>
        </p:blipFill>
        <p:spPr>
          <a:xfrm>
            <a:off x="1066680" y="38862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ростая класс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простая классифик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нная в 195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иссией снега и 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дународной ассоци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ной гидрологии — вс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 форм снежных кристал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стинки, звезды, столб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лы, дендриты, увенч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лбики  и неправи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37339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ак  формируются снежинк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нежинки зарождаются в облаках, где на мельчай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ылевых частицах при отрицательной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разуются кристаллики льда. Затем на эт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ристаллах нарастают новые, и так далее.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олекулы воды обуславливает шестиугольную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рис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скольку в каждый момент времени услов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 которых растет снежинка  различаются, то кажд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ристалл имеет уникальную форму. При этом вс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дной снежинки очень похожи, так как кристалли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дновременно в очень похожих услов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Можно  найти две одинаковые снежинки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школьник знает фраз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нет двух одинаковых снежинок«.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жинок более 100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ов, что дает 10158 (а это 1 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 нулями) вариантов соз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ж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примерно в два раза боль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м атомов во Вселенной, так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маловероятно, что мы най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е одинаковых! И поскольку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жинки является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ействия окружающей сре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же малейший пере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ы или влажности буд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менять форму снеж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20271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3558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чему снежинки имеют шесть луч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жинка начинает свою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 облаке, когда вокруг малень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ылинки образуется кристал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ьда. Кристаллы льда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 шестигранника.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-за этого больш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жинок имеют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стиконечной звез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от на вопрос, почему снеж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ские, пока ответа так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7404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снежинки разные, но сходство  их в том, что  они имеют шесть лучиков. В этом  закономерность форм снеж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нежинки образуются из пара на очень большой высоте, где не только сильный холод, но и высокая влажность воздуха. Самые пушистые снежинки образуются от 0 до 50 моро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Снежинки – чудо природы, нужно це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кра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Ресурсы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Фон презентации Ранько Еле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oryandpractic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ost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1008-kak-obrazuyutsya-snezhinki-i-pochemu-vse-oni-takie-raznye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mbdou--teremok8.ucoz.ru/_ld/1/75514493.g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www.ronhaley.com/24/johannes-kepler-theory-216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matematika2x2.my1.ru/_ph/3/2/759286356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s.newslab.ru/photoalbum/2953/3291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newsimg.bbc.co.uk/media/images/41044000/jpg/_41044464_kglinlab2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newsimg.bbc.co.uk/media/images/41044000/jpg/_41044472_t15mix2m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www.kulturologia.ru/files/enteria/snowflakes/snowflakes2.jpg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www.kulturologia.ru/files/enteria/snowflakes/snowflakes3.jpg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img1.liveinternet.ru/images/attach/c/2/67/947/67947367_snow.jp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www.gismeteo.ru/static/news/img/src/12767/2639b7ea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st4.gisstatic.ru/static/news/img/src/12767/b77cdcaa.j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http://ib1.keep4u.ru/b/080128/e0/e092ab6876181c6c21.jp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Проблем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 и когда образуются снежин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снежинки бел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 чего зависит форма снежинк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снежинки плос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найти две одинак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ежинки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нный проект позволяет  расши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 обогатить,  знания  о таком явлении неживой природе, как снежи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редполагается, что в одном кубическом метре снега находится 350 миллионов снеж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языке эскимосов для наименования снега существует больше 20 слов. В якутском языке - около 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Снежинки состоят на 95% из воздуха, поэтому у них  медленная скорость пад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 белый, потому что снежинки — это кристаллы, которые отражают весь спектр света, который мы видим как бе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альная гармония снежинок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яжении многих лет  вызы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и дни изучение снеж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вратилось в науку –кристаллограф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в 1555 году швейца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ем Мангусом были сде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исовки форм снеж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сследования уче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троном  Иоганн Кеп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исал в 1611 году со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 шестиугольных снежинка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ий  философ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тематик Рене Декар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35 году описал не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редко встре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жино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4256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09680" y="3200400"/>
            <a:ext cx="256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ервые фото снежи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419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85 года Уилсон Эл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нтли получил первый сни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ежинки, приладив  фотоапп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икроскопу (более 5 тысяч)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л их в книге «О кристал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ег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едной шаг в изу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 снежных крис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нежинок) сделан професс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ки американц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том Либбрехтом.9 (род.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58 году) В его лабора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ежинки н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графируют 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щиваются искусств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30286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3033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Фото снежинок из лаборатории Либбре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Классификация Укихиро Накай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90476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61722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25:56Z</dcterms:created>
  <dc:creator>Котова Валерия</dc:creator>
  <dc:description/>
  <dc:language>en-US</dc:language>
  <cp:lastModifiedBy>М.видео</cp:lastModifiedBy>
  <dcterms:modified xsi:type="dcterms:W3CDTF">2019-10-07T14:17:0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lpwstr>Котова В</vt:lpwstr>
  </property>
</Properties>
</file>