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1BEB0-054B-4494-8E2F-A35D59E9C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B9CDE-BDF6-4B53-8FEF-2F865905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83D9E-AC2C-483E-A098-CD5B5DAB3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F1D54-9F69-47B4-9F92-464E4EEC8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4D11-DC15-47C9-A103-95DE9CCE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83D4-426F-4893-884E-0075B753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A0A4-BE33-4081-A780-E68E4CF3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DA1E-0BF7-4CD7-ACF8-4F2084B2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2E22-EAFF-4D56-B60D-F609C924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A347-9B93-46B4-B1FC-0B1D60B6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7E69-91B3-4A7D-A80D-37DC8B7C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3F42E-6136-4848-82FE-D3FFAAC5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1C42-24E5-43B2-95F4-E2FE2E70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3F83-E95D-4E7D-A855-C564AA77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1FDB-4E58-4166-B1E9-BC05591D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3527-99B6-4962-8A17-F366B3EAB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829A-14F7-4B39-8357-FF16EEA96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181E8-D76F-4E00-818D-67AB3F20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BF1C1-2B35-4F79-BB8B-E3ED3BA1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B88E2-D1C2-420D-BAF8-711C001D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59F93-F28D-4AA1-9D11-0A3ECADD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CB502-B812-491F-81C2-634321FA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C03AF-8D69-433D-8815-BBAFBE5A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14208-0451-4ECE-93F9-ACDE325F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287F-04FD-4F72-8934-F842F967C6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AD24-E9B5-4448-86E4-5CC79F666C2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Если у производителя нет качественного, ориентированного на потребителя товара, - у него нет ничего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e5ff"/>
                </a:solidFill>
                <a:latin typeface="Times New Roman"/>
              </a:rPr>
              <a:t>Таблица. </a:t>
            </a:r>
            <a:r>
              <a:rPr b="1" lang="ru-RU" sz="2400" spc="-1" strike="noStrike">
                <a:solidFill>
                  <a:srgbClr val="e5e5ff"/>
                </a:solidFill>
                <a:latin typeface="Times New Roman"/>
              </a:rPr>
              <a:t>Классификация и характеристика товаров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1413000"/>
          <a:ext cx="8497800" cy="4862520"/>
        </p:xfrm>
        <a:graphic>
          <a:graphicData uri="http://schemas.openxmlformats.org/drawingml/2006/table">
            <a:tbl>
              <a:tblPr/>
              <a:tblGrid>
                <a:gridCol w="595080"/>
                <a:gridCol w="2676600"/>
                <a:gridCol w="3102120"/>
                <a:gridCol w="2124000"/>
              </a:tblGrid>
              <a:tr h="69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знаки классифик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ппы товар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87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Цель применения това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требительские товар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овары производственного назнач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1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Times New Roman"/>
              </a:rPr>
              <a:t>I</a:t>
            </a: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. Цель применения товар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требительские товар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- это товары, предназначенные непосредственно для конечного потребителя (для личного, семейного или домашнего использования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овары производственного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назначения - приобретаются для использования в производстве других товаров, для перепродажи другим потребителя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II. Характер потребления потребительских товаров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овары краткосрочного пользования - используются один или несколько раз (продукты питания, мыло, спички, газета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овары длительного пользования - используются многократно (мебель, холодильник, обувь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слуги - любая деятельность, которую одна сторона может предложить другой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III. Поведение потребителя (потребительские товары)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67694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IV. Товары производственного назначения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ни делятся на следующие группы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питальное имущество (стационарные сооружения, оборудование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•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териалы и детали (сырье, полуфабрикаты, детали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помогательные материалы и услуг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Times New Roman"/>
              </a:rPr>
              <a:t>Используются и другие признаки классификации: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ровень принятия решений, которые необходимы для совершения покупк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оимость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ыстрота потреблени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оль в производств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т. д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V. Услуга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7777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К</a:t>
            </a:r>
            <a:r>
              <a:rPr b="1" i="1" lang="ru-RU" sz="4000" spc="-1" strike="noStrike">
                <a:solidFill>
                  <a:srgbClr val="e5e5ff"/>
                </a:solidFill>
                <a:latin typeface="Times New Roman"/>
              </a:rPr>
              <a:t> бытовым услугам</a:t>
            </a: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 относятся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итание - столовая, кафе, ресторан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жилье - строительство, ремонт и т. д.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служивание - стирка, уборка, химчистка, ремонт и др.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дых - кино, театр, дискотеки, музеи и пр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К </a:t>
            </a:r>
            <a:r>
              <a:rPr b="1" i="1" lang="ru-RU" sz="4000" spc="-1" strike="noStrike">
                <a:solidFill>
                  <a:srgbClr val="e5e5ff"/>
                </a:solidFill>
                <a:latin typeface="Times New Roman"/>
              </a:rPr>
              <a:t>деловым услугам</a:t>
            </a: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 относятся: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хнические - наладка, обслуживание, ремонт оборудования и пр.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нтеллектуальные - правовые, бухгалтерские, рекламные, маркетинговые, управленческие и пр.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инансовые - расчетно-кассовое обслуживание, кредитование, страхование и пр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К</a:t>
            </a:r>
            <a:r>
              <a:rPr b="1" i="1" lang="ru-RU" sz="4000" spc="-1" strike="noStrike">
                <a:solidFill>
                  <a:srgbClr val="e5e5ff"/>
                </a:solidFill>
                <a:latin typeface="Times New Roman"/>
              </a:rPr>
              <a:t> социальным услугам</a:t>
            </a: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 относятся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разование - школы, техникумы, лицеи, колледжи, институты, аспирантура и пр.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дравоохранение - поликлиники, больницы, профилактории, санатории и пр.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езопасность - охрана, правовая защита и п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5e5ff"/>
                </a:solidFill>
                <a:latin typeface="Times New Roman"/>
              </a:rPr>
              <a:t>Тема:</a:t>
            </a: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03280" y="220500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Товар как средство удовлетворения потребностей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Вопросы для обобщен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На какие группы можно разбить потребительские товары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К какой классификационной группе относятся следующие товары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ловарь иностранных слов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леб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онтик от дожд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ветной телевизор «Самсунг»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Times New Roman"/>
              </a:rPr>
              <a:t>Тестовое задание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Термин «товар» означает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любое предложение фирмы, удовлетворяющее потребност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физический объект, удовлетворяющий потребност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товар, производимый в массовых количествах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Товарами с уникальными свойствами называются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товары пассивного спрос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товары для экстренных случаев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товары предварительного выбор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товары особого спрос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Рынок товаров потребительского назначения состоит из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аний, приобретающих товары для их последующей реализации потребителям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упателей, приобретающих товары для личного потребления;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юдей, приобретающих товары для продажи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дельных лиц, приобретающих промышленные товары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рм-производителей готовой продукции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К какой группе рынка относятся следующие товары: мебель, телевизоры, продукты питания, одежда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рынок товаров производственного назначен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групповой рынок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рынок сбыта продукци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рынок товаров потребительского назначения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К товарам производственного назначения относятся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узлы и агрегат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сырь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товары длительного пользован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вспомогательные материал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) услуг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) товары краткосрочного пользован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) основное оборудовани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) вспомогательное оборудовани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Вопросы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Маркетинговое понимание това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Классификация товар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Вопрос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ркетинговое понимание това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Что же представляет собой товар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 позиций маркетинга остается справедливым общепринятое представление о товаре как о продукте труда, произведенном для продаж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днако в маркетинге на первый план выдвигается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потребительская ценность товара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т.е. то, что составляет его способность удовлетворять потребност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9912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 маркетинговом понимании товар - это единство трех составляющих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продукт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поддержка продукт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инструменты маркетинг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Вопросы для обобщен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В чем отличие понятия товара в экономике и в маркетинг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Выделите составляющие товара в маркетинговом значении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акет молока 2,5% жирност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уфли женские в упаковке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робка шоколадных конфет «Раздолье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Вопрос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лассификация товар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09:47:26Z</dcterms:created>
  <dc:creator>FuckYouBill</dc:creator>
  <dc:description/>
  <dc:language>en-US</dc:language>
  <cp:lastModifiedBy>www.PHILka.RU</cp:lastModifiedBy>
  <dcterms:modified xsi:type="dcterms:W3CDTF">2014-11-21T14:53:09Z</dcterms:modified>
  <cp:revision>159</cp:revision>
  <dc:subject/>
  <dc:title>Средства маркетинга</dc:title>
</cp:coreProperties>
</file>