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E14-D7CD-4940-A20A-2840D4AE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4CE-5180-44C5-9430-D7D4CD5C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F03-25ED-42C8-B61C-870E563C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C0D-65A1-4E76-BFB5-44C4B75B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319-0BDC-4FD2-A5B9-DF88508B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897-ABDF-4042-BE78-04CDE537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931-26D1-4B15-A5B0-2F8ECE9A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066-8611-4E0E-AB06-BB2C3DE1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CCC-E4AC-42FB-A8E8-36AB2936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476-AA38-47E4-AEAB-1BF4D94A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4C9-2061-4B38-AC9F-6B670886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766-0DC2-4858-9F1C-DF58DA60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1BD-73E7-4623-9EB9-EE041882E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51408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Моя будущая професс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опрос  -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Что в голов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зовите первую появившуюся ассоциацию, слово, словосочет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611520" y="3659040"/>
            <a:ext cx="55324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280" y="22320"/>
            <a:ext cx="374508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Calibri"/>
              </a:rPr>
              <a:t>Видеосюж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'КЕМ МНЕ СТАТЬ' - Формула 'хочу-могу-надо' - Видеофильм о профессиях будущего.mp4" descr=""/>
          <p:cNvPicPr/>
          <p:nvPr/>
        </p:nvPicPr>
        <p:blipFill>
          <a:blip r:embed="rId1"/>
          <a:stretch/>
        </p:blipFill>
        <p:spPr>
          <a:xfrm>
            <a:off x="1114560" y="846000"/>
            <a:ext cx="74768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08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ПРОФЕССИЯ ДЛЯ МЕНЯ = ХОЧУ + МОГУ + НАДО</a:t>
            </a:r>
            <a:br>
              <a:rPr sz="18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847440"/>
            <a:ext cx="5040000" cy="589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амые распространённые ошиб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ап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«Хочу»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Решение принимается не самостоятельно. Тебе стоит серьезно подумать над тем, правда ли это твой выбор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ап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«Могу»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Незнание своих способностей, непонимание их соотношения с профессией. А сможешь ли ты выполнять все требования, что ставит перед тобой специальность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ап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«Надо»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гнорирование конкурентоспособности, спроса профессии. В таком случае ты окажешься без работы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453564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760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… </a:t>
            </a: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ТЕСТ НА ОПРЕДЕЛЕНИЕ ЛИЧНОСТНЫХ КАЧЕСТВ (ТИГР) ПСИХОГРАФИЧЕСКИЙ ТЕСТ ЛИБИНА</a:t>
            </a:r>
            <a:br>
              <a:rPr sz="18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2565000"/>
            <a:ext cx="799308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Вам нужн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исовать фигуру человека, составленную из 10 элементов (треугольников, кругов и квадрат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). Вы можете увеличивать или уменьшать эти элементы, накладывая друг на друга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ажно, чтобы все перечисленные геометрические фигуры присутствовали в изображен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Если в рисовании вы использовали больше 10 элементов, то лишние нужно зачеркнуть, а если меньше –дорисовать недостающие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ем «числовой код» состоит из 3х цифр (1- число треугольников, 2- число кругов, 3- число квадрат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5508720" y="1249200"/>
            <a:ext cx="31035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Calibri"/>
              </a:rPr>
              <a:t>Игра- «портрет профе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5 груп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обрать качества необходимые в предложенном направлении, привести примеры профессии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оставить портрет (особенности поведения, общ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ранные качества записываете на ватмане, там же изображаете образы (картинки, схем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редставляем результа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9200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Проверка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фференциально-диагностический опросник направленности (современная модификация Азбел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делено 6 групп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1089000" y="2455920"/>
            <a:ext cx="576900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другие лю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при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тех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знаковые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художественные обра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сам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5435640" y="2452680"/>
            <a:ext cx="26193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работу! С Наступающи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84360" y="1065240"/>
            <a:ext cx="77832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6:25:29Z</dcterms:created>
  <dc:creator>User</dc:creator>
  <dc:description/>
  <dc:language>en-US</dc:language>
  <cp:lastModifiedBy>Попович</cp:lastModifiedBy>
  <dcterms:modified xsi:type="dcterms:W3CDTF">2017-12-27T05:50:46Z</dcterms:modified>
  <cp:revision>49</cp:revision>
  <dc:subject/>
  <dc:title>Урок риторики по теме "Комплимент"</dc:title>
</cp:coreProperties>
</file>