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E45-8E70-46F6-9882-B83279EC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E63-7755-47D6-891C-ED65C5A9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9F21-2B33-4A13-98C4-1815EA24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8B6E-6488-475C-AB06-D2AB5051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0809-0D99-409B-AD00-D9E66549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EB3D-8DFC-48C0-AB6D-8C1B3164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34A2-76D8-44B1-83FF-3989527F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99D5-CB72-49F5-BC5F-434F2C13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8900-1A79-4B8B-AA1E-8EEDF6EF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0FAC-C21A-4524-AB6E-2EA0D60E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F05C-3838-4D7C-BE86-2A490960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46AB-C931-4F91-B434-98C9FF48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E303-0F68-4A52-9370-3E103A5D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6393-E2F1-4644-8F75-8EC6DE5C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1F02-198D-4262-B68C-02277DAC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C09B-2C7E-4E67-96B3-18F4A6B9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98A2-CF4A-48AF-8574-AB787188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CB1C3-966B-4413-B8E4-A880D5C6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ACC57-3881-477A-BC45-FDB1BC4D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4EF83-00BF-45B0-A0B5-83CA6A4E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C5213-4032-4FC7-99F0-517585EC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37B9F-9328-408A-B694-0A174EB8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C0D6-45DB-4B87-A570-AD41DDD7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55649-E013-4D0D-9C6D-2DD60AAF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44DEE-CED5-4AF8-8C82-5D2A5166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5A38E-0C78-46CB-B6E9-7B3D64C8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B58C2-98CF-4F8D-9637-A812D5FE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C032-EC68-4EFB-80E3-34B95C1D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BCE20-3F0B-4F58-979D-D1FA7A34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99BAC-49FE-4A94-A3C5-E7C66EB4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CF1BA-FD10-4C09-A4C2-5647F8D3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251A8-CE1A-425E-BD16-6765A698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854BD-A981-4D40-B006-7676448F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A7F-D465-48D4-9E45-E0212BA6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774E5-5220-4EF6-B6AD-5D5DCA70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0A917-A00E-4EB5-AB93-56570EE5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1AEA5-B1AB-4B7D-83D0-AF06726E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B4462-6CB3-4727-94A0-1C3CF4D2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16748-CEDB-4290-B015-2296E078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11E40-92AB-4A0E-879F-D20D3DBC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B524D-BCE8-4F1C-A027-A2A2C3C8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CB463-7B35-4567-B0F4-7B9D8C9C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EF984-752E-4EB0-8D40-0725FB6E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697-D201-480A-AC90-064313A4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3CB-1D21-4AC7-9C9B-19954426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DB3A-F525-4BF0-B589-98FABA12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73F-AD68-4688-98A2-4A45010C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70B-19F1-4D62-9D66-1F65EC59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C6DA-B2CB-410C-9130-D7D4B64A38E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2642-261B-4802-85FF-FF1876D601A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647E-4E2B-4127-B5AF-EF94CD8AADB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88C6-7C67-469C-9C05-D9C759C5EC6F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1792440" y="2382840"/>
            <a:ext cx="6649920" cy="3133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900000" y="9079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Учитель русского языка и литературы МБОУ «Моргаушская СОШ» Моргаушского района Чувашской Республики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457200" y="-19080"/>
            <a:ext cx="8497800" cy="1500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323640" y="1413000"/>
            <a:ext cx="8521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лач украдкой учительницы на уроке об утрате близкого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ирота Леньк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Эвакуированный из блокадного Ленинграда Ванька Серегин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«Сербиянка, сербиянка...» Частушка Леньк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«Жмых!» Большая рубчатая плитка спрессованного льняного жмыха, которую вытащил Ленька из щели под складо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лакат-карикатура Гитлера с растопыренными ногам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укавицы отца Ваньк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«Сербиянка, сербиянка...» Частушка Леньк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«СЖД. Тормоз Матросова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9" descr=""/>
          <p:cNvPicPr/>
          <p:nvPr/>
        </p:nvPicPr>
        <p:blipFill>
          <a:blip r:embed="rId1"/>
          <a:stretch/>
        </p:blipFill>
        <p:spPr>
          <a:xfrm>
            <a:off x="396720" y="-291960"/>
            <a:ext cx="8650440" cy="14983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2505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так,  мы подошли к конц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ак же заканчивается рассказ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чему мы не можем точно предсказать дальнейшие события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А не потому ли, что идет слишком жестокое испытание – война. Автор оставляет нас на перекрестке трудных военных дорог – ведь это правда жизни. Можно только надеяться на счастливый фина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адежда! Она остается, автор дарит ее нам и героям. Мальчики  обязательно выживут, выкрутятся, если будут держаться вместе, и отец Вани отыщет свою семью. Мы попытались с помощью авторского текста ответить на поставленные нами вопросы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ишло время ответить на главный вопрос нашего урок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 несмотря на неопределенный  финал рассказа, почему нам светло на душе? </a:t>
            </a:r>
            <a:r>
              <a:rPr b="0" i="1" lang="ru-RU" sz="2400" spc="-1" strike="noStrike">
                <a:solidFill>
                  <a:srgbClr val="59a8d1"/>
                </a:solidFill>
                <a:latin typeface="Trebuchet MS"/>
              </a:rPr>
              <a:t>Откуда пробивается к нам луч надежды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е потому ль, что у мальчиков есть в жизни непреходящие ценности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: любовь,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доброта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,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совесть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, которые  ребята Леня и Ваня хранят даже на пределе своих возможносте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1332000" y="404640"/>
            <a:ext cx="633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АЯ РАБОТА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WordArt 5"/>
          <p:cNvSpPr txBox="1"/>
          <p:nvPr/>
        </p:nvSpPr>
        <p:spPr>
          <a:xfrm>
            <a:off x="1835280" y="1916280"/>
            <a:ext cx="5924520" cy="32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ДАЙТЕ СВОИ</a:t>
            </a:r>
            <a:endParaRPr b="0" lang="en-US" sz="2000" spc="1" strike="noStrike">
              <a:ln w="9360">
                <a:solidFill>
                  <a:srgbClr val="ff99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ПЕЧАТЛЕНИЯ ОТ</a:t>
            </a:r>
            <a:endParaRPr b="0" lang="en-US" sz="2000" spc="1" strike="noStrike">
              <a:ln w="9360">
                <a:solidFill>
                  <a:srgbClr val="ff99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ЧИТАННОГО, ПЕРЕЖИТОГО</a:t>
            </a:r>
            <a:endParaRPr b="0" lang="en-US" sz="2000" spc="1" strike="noStrike">
              <a:ln w="9360">
                <a:solidFill>
                  <a:srgbClr val="ff99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УСЛЫШАННОГО</a:t>
            </a:r>
            <a:endParaRPr b="0" lang="en-US" sz="2000" spc="1" strike="noStrike">
              <a:ln w="9360">
                <a:solidFill>
                  <a:srgbClr val="ff99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УРОКЕ В РИСУНКЕ,</a:t>
            </a:r>
            <a:endParaRPr b="0" lang="en-US" sz="2000" spc="1" strike="noStrike">
              <a:ln w="9360">
                <a:solidFill>
                  <a:srgbClr val="ff99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ИХОТВОРЕНИИ,</a:t>
            </a:r>
            <a:endParaRPr b="0" lang="en-US" sz="2000" spc="1" strike="noStrike">
              <a:ln w="9360">
                <a:solidFill>
                  <a:srgbClr val="ff99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ЧИНЕНИИ-</a:t>
            </a:r>
            <a:endParaRPr b="0" lang="en-US" sz="2000" spc="1" strike="noStrike">
              <a:ln w="9360">
                <a:solidFill>
                  <a:srgbClr val="ff99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МЫШЛЕНИИ</a:t>
            </a:r>
            <a:endParaRPr b="0" lang="en-US" sz="2000" spc="1" strike="noStrike">
              <a:ln w="9360">
                <a:solidFill>
                  <a:srgbClr val="ff99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КАКИМ МОЖЕТ</a:t>
            </a:r>
            <a:endParaRPr b="0" lang="en-US" sz="2000" spc="1" strike="noStrike">
              <a:ln w="9360">
                <a:solidFill>
                  <a:srgbClr val="ff99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ЫТЬ</a:t>
            </a:r>
            <a:endParaRPr b="0" lang="en-US" sz="2000" spc="1" strike="noStrike">
              <a:ln w="9360">
                <a:solidFill>
                  <a:srgbClr val="ff99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ДОЛЖЕНИЕ ЖИЗНИ Леньки Комлева и Вани С</a:t>
            </a:r>
            <a:endParaRPr b="0" lang="en-US" sz="2000" spc="1" strike="noStrike">
              <a:ln w="9360">
                <a:solidFill>
                  <a:srgbClr val="ff99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8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516360" cy="1500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3419640" y="1052640"/>
            <a:ext cx="5473440" cy="4464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Мы 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обраться  обязаны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той боли,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мир перенёс..."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асилий Иванович  Белов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Picture 6" descr="В.И. Белов"/>
          <p:cNvPicPr/>
          <p:nvPr/>
        </p:nvPicPr>
        <p:blipFill>
          <a:blip r:embed="rId1"/>
          <a:stretch/>
        </p:blipFill>
        <p:spPr>
          <a:xfrm>
            <a:off x="122400" y="189000"/>
            <a:ext cx="3093840" cy="36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ctangle 2" descr=""/>
          <p:cNvPicPr/>
          <p:nvPr/>
        </p:nvPicPr>
        <p:blipFill>
          <a:blip r:embed="rId1"/>
          <a:stretch/>
        </p:blipFill>
        <p:spPr>
          <a:xfrm>
            <a:off x="324000" y="103320"/>
            <a:ext cx="8862840" cy="1012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324000" y="907560"/>
            <a:ext cx="44416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00720" y="836640"/>
            <a:ext cx="43192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4" marL="1361160" indent="-178920"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61160" indent="-178920"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Один из самых глубоких и талантливых авторов деревенской прозы В.И. Белов родился в 1932 г. В с. Тимониха, Вологодской обл. Встретил   войну 9-летним подростком. Потерял  в 1943 году отца, погибшего под Смоленском. Он познал все тяготы военного детства. Работал, учился в вечерней школе. Богатый трудовой опыт пригодился В. Белову. В 1964г. Заканчивает Литературный институт в Москве. Живет в Вологде, занимаясь литературными и общественными делами.Первое роизведение – повесть «Деревня Бердяйка»(1964г.)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5" descr="сканирование0013"/>
          <p:cNvPicPr/>
          <p:nvPr/>
        </p:nvPicPr>
        <p:blipFill>
          <a:blip r:embed="rId2"/>
          <a:stretch/>
        </p:blipFill>
        <p:spPr>
          <a:xfrm>
            <a:off x="324000" y="1052640"/>
            <a:ext cx="381636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1792440" y="4157640"/>
            <a:ext cx="6833880" cy="21938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1. «Плачет!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2.«Ну, кто самый смелый?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3.«- Эх, Ванча, не мог убежать! 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4</a:t>
            </a: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.</a:t>
            </a: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На железной дороге</a:t>
            </a: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-360" y="765000"/>
            <a:ext cx="74026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1. «Плачет!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Расскажите о школе, в которой учились Леня Комлев и Ваня Серегин. Попробуйте описать её, подтверждая текстом. Почему плачет учительница? Как ребята ведут себя при этом? Найдите в тесте штрихи, говорящие о военном времен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Picture 16" descr="сканирование0006"/>
          <p:cNvPicPr/>
          <p:nvPr/>
        </p:nvPicPr>
        <p:blipFill>
          <a:blip r:embed="rId1"/>
          <a:stretch/>
        </p:blipFill>
        <p:spPr>
          <a:xfrm>
            <a:off x="900000" y="260280"/>
            <a:ext cx="6313680" cy="4489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95280" y="1196640"/>
            <a:ext cx="8569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2.«Ну, кто самый смелый?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Как в этом эпизоде передает автор поведение Лёни и Вани  перед предстоящим уколом? Подтвердите текстом. Как вы думаете, почему до глубины души трогает нас этот эпизод, не оставляет равнодушными? Действительно ли Лёнька трус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Picture 4" descr="3"/>
          <p:cNvPicPr/>
          <p:nvPr/>
        </p:nvPicPr>
        <p:blipFill>
          <a:blip r:embed="rId1"/>
          <a:stretch/>
        </p:blipFill>
        <p:spPr>
          <a:xfrm>
            <a:off x="1476360" y="460440"/>
            <a:ext cx="6400800" cy="3341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9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404040"/>
                </a:solidFill>
                <a:uFillTx/>
                <a:latin typeface="Trebuchet MS"/>
              </a:rPr>
              <a:t>3.«- Эх, Ванча, не мог убежать!» Плакат гитлер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Какое состояние переживает Лёнька после побега из школы и когда видит мучения друга,   подтвердите текстом рассказа. Чем он пытается утешить друга? О чем беспокоится, тревожится? Почему Ваня отдает Лёне рукавицы отца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747960" cy="478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4000" y="1010880"/>
            <a:ext cx="3887640" cy="306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176760" indent="0">
              <a:lnSpc>
                <a:spcPct val="60000"/>
              </a:lnSpc>
              <a:spcBef>
                <a:spcPts val="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04040"/>
              </a:solidFill>
              <a:latin typeface="Trebuchet MS"/>
            </a:endParaRPr>
          </a:p>
          <a:p>
            <a:pPr marL="176760" indent="0">
              <a:lnSpc>
                <a:spcPct val="60000"/>
              </a:lnSpc>
              <a:spcBef>
                <a:spcPts val="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04040"/>
              </a:solidFill>
              <a:latin typeface="Trebuchet MS"/>
            </a:endParaRPr>
          </a:p>
          <a:p>
            <a:pPr marL="176760" indent="0">
              <a:lnSpc>
                <a:spcPct val="60000"/>
              </a:lnSpc>
              <a:spcBef>
                <a:spcPts val="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04040"/>
              </a:solidFill>
              <a:latin typeface="Trebuchet MS"/>
            </a:endParaRPr>
          </a:p>
          <a:p>
            <a:pPr marL="176760" indent="0">
              <a:lnSpc>
                <a:spcPct val="60000"/>
              </a:lnSpc>
              <a:spcBef>
                <a:spcPts val="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04040"/>
              </a:solidFill>
              <a:latin typeface="Trebuchet MS"/>
            </a:endParaRPr>
          </a:p>
          <a:p>
            <a:pPr marL="176760" indent="0">
              <a:lnSpc>
                <a:spcPct val="60000"/>
              </a:lnSpc>
              <a:spcBef>
                <a:spcPts val="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04040"/>
              </a:solidFill>
              <a:latin typeface="Trebuchet MS"/>
            </a:endParaRPr>
          </a:p>
          <a:p>
            <a:pPr marL="176760" indent="0">
              <a:lnSpc>
                <a:spcPct val="60000"/>
              </a:lnSpc>
              <a:spcBef>
                <a:spcPts val="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04040"/>
              </a:solidFill>
              <a:latin typeface="Trebuchet MS"/>
            </a:endParaRPr>
          </a:p>
          <a:p>
            <a:pPr marL="176760" indent="0">
              <a:lnSpc>
                <a:spcPct val="60000"/>
              </a:lnSpc>
              <a:spcBef>
                <a:spcPts val="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04040"/>
              </a:solidFill>
              <a:latin typeface="Trebuchet MS"/>
            </a:endParaRPr>
          </a:p>
          <a:p>
            <a:pPr marL="176760" indent="0">
              <a:lnSpc>
                <a:spcPct val="60000"/>
              </a:lnSpc>
              <a:spcBef>
                <a:spcPts val="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04040"/>
              </a:solidFill>
              <a:latin typeface="Trebuchet MS"/>
            </a:endParaRPr>
          </a:p>
          <a:p>
            <a:pPr marL="176760" indent="0">
              <a:lnSpc>
                <a:spcPct val="60000"/>
              </a:lnSpc>
              <a:spcBef>
                <a:spcPts val="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04040"/>
              </a:solidFill>
              <a:latin typeface="Trebuchet MS"/>
            </a:endParaRPr>
          </a:p>
          <a:p>
            <a:pPr marL="176760" indent="0">
              <a:lnSpc>
                <a:spcPct val="60000"/>
              </a:lnSpc>
              <a:spcBef>
                <a:spcPts val="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04040"/>
              </a:solidFill>
              <a:latin typeface="Trebuchet MS"/>
            </a:endParaRPr>
          </a:p>
          <a:p>
            <a:pPr marL="176760" indent="0">
              <a:lnSpc>
                <a:spcPct val="60000"/>
              </a:lnSpc>
              <a:spcBef>
                <a:spcPts val="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04040"/>
              </a:solidFill>
              <a:latin typeface="Trebuchet MS"/>
            </a:endParaRPr>
          </a:p>
          <a:p>
            <a:pPr marL="176760" indent="0">
              <a:lnSpc>
                <a:spcPct val="60000"/>
              </a:lnSpc>
              <a:spcBef>
                <a:spcPts val="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04040"/>
              </a:solidFill>
              <a:latin typeface="Trebuchet MS"/>
            </a:endParaRPr>
          </a:p>
          <a:p>
            <a:pPr marL="176760" indent="0">
              <a:lnSpc>
                <a:spcPct val="60000"/>
              </a:lnSpc>
              <a:spcBef>
                <a:spcPts val="1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176760" indent="0">
              <a:lnSpc>
                <a:spcPct val="6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404040"/>
                </a:solidFill>
                <a:uFillTx/>
                <a:latin typeface="Trebuchet MS"/>
              </a:rPr>
              <a:t>4</a:t>
            </a:r>
            <a:r>
              <a:rPr b="1" i="1" lang="ru-RU" sz="1600" spc="-1" strike="noStrike" u="sng">
                <a:solidFill>
                  <a:srgbClr val="404040"/>
                </a:solidFill>
                <a:uFillTx/>
                <a:latin typeface="Trebuchet MS"/>
              </a:rPr>
              <a:t>.</a:t>
            </a:r>
            <a:r>
              <a:rPr b="0" lang="ru-RU" sz="1600" spc="-1" strike="noStrike" u="sng">
                <a:solidFill>
                  <a:srgbClr val="404040"/>
                </a:solidFill>
                <a:uFillTx/>
                <a:latin typeface="Trebuchet MS"/>
              </a:rPr>
              <a:t>На железной дороге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76760" indent="0">
              <a:lnSpc>
                <a:spcPct val="6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76760" indent="0">
              <a:lnSpc>
                <a:spcPct val="6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i="1" lang="ru-RU" sz="1600" spc="-1" strike="noStrike">
                <a:solidFill>
                  <a:srgbClr val="404040"/>
                </a:solidFill>
                <a:latin typeface="Trebuchet MS"/>
              </a:rPr>
              <a:t>Как действует Лёнька?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76760" indent="0">
              <a:lnSpc>
                <a:spcPct val="6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1" i="1" lang="ru-RU" sz="1600" spc="-1" strike="noStrike">
                <a:solidFill>
                  <a:srgbClr val="404040"/>
                </a:solidFill>
                <a:latin typeface="Trebuchet MS"/>
              </a:rPr>
              <a:t>Прочитайте то место, где он цепляется за идущий поезд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76760" indent="0">
              <a:lnSpc>
                <a:spcPct val="6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i="1" lang="ru-RU" sz="1600" spc="-1" strike="noStrike">
                <a:solidFill>
                  <a:srgbClr val="404040"/>
                </a:solidFill>
                <a:latin typeface="Trebuchet MS"/>
              </a:rPr>
              <a:t>Как характеризует это его?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76760" indent="0">
              <a:lnSpc>
                <a:spcPct val="6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1" i="1" lang="ru-RU" sz="1600" spc="-1" strike="noStrike">
                <a:solidFill>
                  <a:srgbClr val="404040"/>
                </a:solidFill>
                <a:latin typeface="Trebuchet MS"/>
              </a:rPr>
              <a:t>Ребята, чем заканчивается рассказ?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76760" indent="0">
              <a:lnSpc>
                <a:spcPct val="6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76760" indent="0">
              <a:lnSpc>
                <a:spcPct val="6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726840" y="4463640"/>
            <a:ext cx="63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4" descr="сканирование0008"/>
          <p:cNvPicPr/>
          <p:nvPr/>
        </p:nvPicPr>
        <p:blipFill>
          <a:blip r:embed="rId1"/>
          <a:stretch/>
        </p:blipFill>
        <p:spPr>
          <a:xfrm>
            <a:off x="4809960" y="1011240"/>
            <a:ext cx="3480120" cy="6615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1792440" y="4157640"/>
            <a:ext cx="6699240" cy="1693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250560" y="1341360"/>
            <a:ext cx="45147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Ленька Комле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еловек добрый и отзывчивый. Любит жизнь и находит маленькие радости:радуется решенной задаче, интересной книге, его душа открыта в мир. Он готов делится всем, но делиться может немноги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У него чуткая душа, но он не любит боль. Старается изо всех поддержать друга, переживая за него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н пытается выжить в это страшное время и помогает своим близким, забыв о страхе, иногда и совести и даже о смер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76360" y="1341360"/>
            <a:ext cx="4226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404040"/>
                </a:solidFill>
                <a:uFillTx/>
                <a:latin typeface="Trebuchet MS"/>
              </a:rPr>
              <a:t>Ванька Серегин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Ваня не просто смелый мальчик, он сильный духом человечек. Он по-взрослому решает проблемы, доказывая самому себе в первую очередь принимает боль. Он - эвакуированный из блокадного Ленинграда, переживший смерть. Директор понимает, что духом самый сильный, а не трус. Он рассудителен, не осуждает своего друга Леньку, а старается поддержать, чтобы тот не переживал за побег. И отдает рукавицы – дорогую память об отце, понимая, что это сейчас нужнее всег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05:41:43Z</dcterms:created>
  <dc:creator>Customer</dc:creator>
  <dc:description/>
  <dc:language>en-US</dc:language>
  <cp:lastModifiedBy>User</cp:lastModifiedBy>
  <dcterms:modified xsi:type="dcterms:W3CDTF">2019-10-07T16:20:40Z</dcterms:modified>
  <cp:revision>35</cp:revision>
  <dc:subject/>
  <dc:title>Слайд 1</dc:title>
</cp:coreProperties>
</file>