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83B-2E9B-4233-A2EA-CAC4331E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EF2-DE1A-4D15-BDE5-1BE5ADD9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B1F-55C3-4669-A73F-F1AD19BA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0F0-2F7C-408C-9A08-2ACBD4B1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ED1-D82C-4579-9385-AD27EF05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03C-11EA-4699-B95C-2A28A919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9B1-4EA7-49F7-9F1E-616D6FA6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A78-E9DC-4C33-ADB0-80597330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774-00E9-454B-B15B-D7167B9B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D78-48D2-4742-9099-E9166205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3CA-7500-471B-A873-C9E330A9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8A1-9FEF-452A-B79A-B7EC5F1F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FB7B-0D6A-4FB1-B3CD-0391111A68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4400" y="928800"/>
            <a:ext cx="8769240" cy="25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Calibri"/>
              </a:rPr>
              <a:t>весна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98989"/>
                </a:solidFill>
                <a:latin typeface="Calibri"/>
              </a:rPr>
              <a:t>приро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2582_ves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C:\post-44635-1206115877.jpg"/>
          <p:cNvPicPr/>
          <p:nvPr/>
        </p:nvPicPr>
        <p:blipFill>
          <a:blip r:embed="rId1"/>
          <a:srcRect l="0" t="456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193248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40173716_podsnejnik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7c94509fd9b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123641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C:\1236122114_358fcf6728d9.jpg"/>
          <p:cNvPicPr/>
          <p:nvPr/>
        </p:nvPicPr>
        <p:blipFill>
          <a:blip r:embed="rId1"/>
          <a:srcRect l="0" t="0" r="0" b="102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C:\470.jpg"/>
          <p:cNvPicPr/>
          <p:nvPr/>
        </p:nvPicPr>
        <p:blipFill>
          <a:blip r:embed="rId1"/>
          <a:srcRect l="0" t="0" r="0" b="34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40268187_3636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40354586_0_17ebe_5e54430c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0_8fdc_77a3dd38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3b315a0536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C:\весна.jpg"/>
          <p:cNvPicPr/>
          <p:nvPr/>
        </p:nvPicPr>
        <p:blipFill>
          <a:blip r:embed="rId1"/>
          <a:srcRect l="0" t="0" r="0" b="56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C:\5161.jpg"/>
          <p:cNvPicPr/>
          <p:nvPr/>
        </p:nvPicPr>
        <p:blipFill>
          <a:blip r:embed="rId1"/>
          <a:srcRect l="0" t="0" r="0" b="25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Мои документы\ДОКУМЕНТЫ\Рисунки\Радуга\000414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C:\1205090738_vesna_18.jpg"/>
          <p:cNvPicPr/>
          <p:nvPr/>
        </p:nvPicPr>
        <p:blipFill>
          <a:blip r:embed="rId1"/>
          <a:srcRect l="3609" t="6157" r="7099" b="87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C:\sol3.jpg"/>
          <p:cNvPicPr/>
          <p:nvPr/>
        </p:nvPicPr>
        <p:blipFill>
          <a:blip r:embed="rId1"/>
          <a:srcRect l="0" t="5065" r="-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C:\41226963_30014.jpg"/>
          <p:cNvPicPr/>
          <p:nvPr/>
        </p:nvPicPr>
        <p:blipFill>
          <a:blip r:embed="rId1"/>
          <a:srcRect l="0" t="0" r="-50" b="56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3767db9af7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1T06:48:55Z</dcterms:modified>
  <cp:revision>15</cp:revision>
  <dc:subject/>
  <dc:title>Слайд 1</dc:title>
</cp:coreProperties>
</file>