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6EF-1D20-4571-A518-19BEA0E6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739-BAAF-4387-9FED-F4DDF862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A5F-EC7B-49E4-B81D-0CFB678F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CD5-5B7C-425D-AE55-73A3DA2C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A11-39BA-437F-9773-3CC1B0BF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B63-A3CE-4A29-BBD5-F724EE73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812-0390-4E65-A757-929D0E59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67F-FCA6-4858-8DB9-4FFE3E1D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F61-9937-49AA-BAC8-491F9AB8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E23-3023-4EDE-8185-F9ECCB3C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21A-2327-480F-9D81-8CB12676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05A-593E-4233-B2C5-63EEE15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F386-F215-45B7-9123-B966A4A1D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4400" y="928800"/>
            <a:ext cx="8769240" cy="25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000000"/>
                </a:solidFill>
                <a:latin typeface="Calibri"/>
              </a:rPr>
              <a:t>весна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98989"/>
                </a:solidFill>
                <a:latin typeface="Calibri"/>
              </a:rPr>
              <a:t>прир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2582_ves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C:\post-44635-1206115877.jpg"/>
          <p:cNvPicPr/>
          <p:nvPr/>
        </p:nvPicPr>
        <p:blipFill>
          <a:blip r:embed="rId1"/>
          <a:srcRect l="0" t="45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193248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40173716_podsnejnik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7c94509fd9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123641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C:\1236122114_358fcf6728d9.jpg"/>
          <p:cNvPicPr/>
          <p:nvPr/>
        </p:nvPicPr>
        <p:blipFill>
          <a:blip r:embed="rId1"/>
          <a:srcRect l="0" t="0" r="0" b="102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C:\470.jpg"/>
          <p:cNvPicPr/>
          <p:nvPr/>
        </p:nvPicPr>
        <p:blipFill>
          <a:blip r:embed="rId1"/>
          <a:srcRect l="0" t="0" r="0" b="34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40268187_3636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40354586_0_17ebe_5e54430c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0_8fdc_77a3dd38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3b315a0536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C:\весна.jpg"/>
          <p:cNvPicPr/>
          <p:nvPr/>
        </p:nvPicPr>
        <p:blipFill>
          <a:blip r:embed="rId1"/>
          <a:srcRect l="0" t="0" r="0" b="56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C:\5161.jpg"/>
          <p:cNvPicPr/>
          <p:nvPr/>
        </p:nvPicPr>
        <p:blipFill>
          <a:blip r:embed="rId1"/>
          <a:srcRect l="0" t="0" r="0" b="25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\ДОКУМЕНТЫ\Рисунки\Радуга\000414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C:\1205090738_vesna_18.jpg"/>
          <p:cNvPicPr/>
          <p:nvPr/>
        </p:nvPicPr>
        <p:blipFill>
          <a:blip r:embed="rId1"/>
          <a:srcRect l="3609" t="6157" r="7099" b="87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C:\sol3.jpg"/>
          <p:cNvPicPr/>
          <p:nvPr/>
        </p:nvPicPr>
        <p:blipFill>
          <a:blip r:embed="rId1"/>
          <a:srcRect l="0" t="5065" r="-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C:\41226963_30014.jpg"/>
          <p:cNvPicPr/>
          <p:nvPr/>
        </p:nvPicPr>
        <p:blipFill>
          <a:blip r:embed="rId1"/>
          <a:srcRect l="0" t="0" r="-50" b="5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3767db9af7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1T06:48:55Z</dcterms:modified>
  <cp:revision>15</cp:revision>
  <dc:subject/>
  <dc:title>Слайд 1</dc:title>
</cp:coreProperties>
</file>