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4F4E-15FE-4532-A658-D5823C2D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7975-322E-4227-A9E4-D2C24B39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EC0-F768-4FA3-98E1-AB205268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9C8D-269B-4838-9B6E-E3C82CED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0A2E-54F9-4FD0-B643-D215751C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52A2-44CF-4B25-AFE2-6ED0ACB7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4F9D-6B00-4352-8F34-F3559EAB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FDD5-E214-4E09-8E3D-2F9B7BBF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588E-00C9-46A0-B56B-69B66C12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489-E649-4E5C-AEF7-A9B18F32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F00-1534-446C-A800-AB7B3E54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6BF9-729D-4399-915C-DE076530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2C7E-08A8-4A3C-99DB-3579099151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4400" y="928800"/>
            <a:ext cx="8769240" cy="25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000000"/>
                </a:solidFill>
                <a:latin typeface="Calibri"/>
              </a:rPr>
              <a:t>весна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98989"/>
                </a:solidFill>
                <a:latin typeface="Calibri"/>
              </a:rPr>
              <a:t>природ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2582_ves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C:\post-44635-1206115877.jpg"/>
          <p:cNvPicPr/>
          <p:nvPr/>
        </p:nvPicPr>
        <p:blipFill>
          <a:blip r:embed="rId1"/>
          <a:srcRect l="0" t="456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193248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40173716_podsnejnik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7c94509fd9b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123641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C:\1236122114_358fcf6728d9.jpg"/>
          <p:cNvPicPr/>
          <p:nvPr/>
        </p:nvPicPr>
        <p:blipFill>
          <a:blip r:embed="rId1"/>
          <a:srcRect l="0" t="0" r="0" b="102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C:\470.jpg"/>
          <p:cNvPicPr/>
          <p:nvPr/>
        </p:nvPicPr>
        <p:blipFill>
          <a:blip r:embed="rId1"/>
          <a:srcRect l="0" t="0" r="0" b="34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40268187_3636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40354586_0_17ebe_5e54430c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0_8fdc_77a3dd38_X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3b315a0536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2" descr="C:\весна.jpg"/>
          <p:cNvPicPr/>
          <p:nvPr/>
        </p:nvPicPr>
        <p:blipFill>
          <a:blip r:embed="rId1"/>
          <a:srcRect l="0" t="0" r="0" b="56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2" descr="C:\5161.jpg"/>
          <p:cNvPicPr/>
          <p:nvPr/>
        </p:nvPicPr>
        <p:blipFill>
          <a:blip r:embed="rId1"/>
          <a:srcRect l="0" t="0" r="0" b="25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Мои документы\ДОКУМЕНТЫ\Рисунки\Радуга\000414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C:\1205090738_vesna_18.jpg"/>
          <p:cNvPicPr/>
          <p:nvPr/>
        </p:nvPicPr>
        <p:blipFill>
          <a:blip r:embed="rId1"/>
          <a:srcRect l="3609" t="6157" r="7099" b="87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C:\sol3.jpg"/>
          <p:cNvPicPr/>
          <p:nvPr/>
        </p:nvPicPr>
        <p:blipFill>
          <a:blip r:embed="rId1"/>
          <a:srcRect l="0" t="5065" r="-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C:\41226963_30014.jpg"/>
          <p:cNvPicPr/>
          <p:nvPr/>
        </p:nvPicPr>
        <p:blipFill>
          <a:blip r:embed="rId1"/>
          <a:srcRect l="0" t="0" r="-50" b="56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3767db9af7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21T06:48:55Z</dcterms:modified>
  <cp:revision>15</cp:revision>
  <dc:subject/>
  <dc:title>Слайд 1</dc:title>
</cp:coreProperties>
</file>