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B40E-7710-4B31-B8CF-C4244709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A466-F90A-49C9-AE1B-39D03056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D45D-526D-458C-B75A-414C4E68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C6C8-D986-47E6-BD2C-61263814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0894-EBBE-494F-9813-F0DB1241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2D4B-6682-4D37-B115-CDE31C76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74F4-C710-41C7-9ADB-A41B4509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4425-439E-475B-B38B-BC855B93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45D4-A2C9-4DAA-A12A-F4AEBCD6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8C03-8D8C-4359-9BCF-2E5B3953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4C2C-2ED4-4C73-A311-71B807EC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3974-5A29-4C0C-B8E2-26604A1F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F765-B5A5-45FC-9789-1EB06BB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A663-A889-4193-9D0D-F40EE03D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C317-FA09-43AF-A3FE-041BBB42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117B-DB0A-4CA1-873F-0621D430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3053-63E2-4F63-9AB6-65CD5EB5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815F-3DFB-4448-98FA-5913AD85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616D-4749-4A62-9778-202391DA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DDA0-8EF0-42B6-B30A-8DED97F3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C397-3AD8-4FAD-A83D-953396E0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F47E-6790-404E-97C9-2665207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F42B-2BDD-4FF8-B6B9-C9EA1070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D824-5DE3-4E3A-8DD3-BC7F303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A4A-FFF4-45C3-9AD2-DD5FC48E9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13C0-7A41-4E1C-B3A4-C3FE0F863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59280" y="1557360"/>
            <a:ext cx="576072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 на тему:</a:t>
            </a:r>
            <a:endParaRPr b="0" lang="en-US" sz="1800" spc="1" strike="noStrike">
              <a:ln cap="rnd"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27640" y="2924280"/>
            <a:ext cx="3209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Здоровый образ жизни"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ОЖ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360" y="4437000"/>
            <a:ext cx="45244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79057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ченицы 8Б класса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79057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0920" y="5516640"/>
            <a:ext cx="3619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Возняк Екатерины</a:t>
            </a:r>
            <a:endParaRPr b="0" lang="en-US" sz="1800" spc="1" strike="noStrike">
              <a:ln w="9360">
                <a:solidFill>
                  <a:srgbClr val="ffcccc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341360"/>
            <a:ext cx="7775640" cy="22885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физиологическое состояние человека большое влияние оказывает его психоэмоциональное состояние, которое зависит, в свою очередь, от его ментальных установок. Поэтому некоторые авторы также выделяют дополнительно следующие аспекты ЗОЖ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716280"/>
            <a:ext cx="7704000" cy="8254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моциональное самочув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сихогигиена, умение справляться с собственными эмоц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64000" y="4869000"/>
            <a:ext cx="19130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628640"/>
            <a:ext cx="828036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теллектуальное самочув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пособность человека узнавать и использовать новую информацию для оптимальных действий в новых обстоятельств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37512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484280"/>
            <a:ext cx="7848360" cy="1557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уховное самочув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пособность устанавливать действительно значимые, конструктивные жизненные цели и стремиться к ним, оптим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392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Формирование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341360"/>
            <a:ext cx="8208720" cy="3753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образа жизни, способствующего укреплению здоровья человека, осуществляется на трёх уровн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циаль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пропаганда через СМИ, информационно-просветительская рабо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нфраструктур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конкретные условия в основных сферах жизнедеятельности (наличие свободного времени, материальных средств), профилактические учреждения, экологический контрол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чностном: система ценностных ориентаций человека, стандартизация бытового укл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ичност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истема ценностных ориентаций человека, стандартизация бытового укл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00000" y="549360"/>
            <a:ext cx="763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Известные теоретики и пропагандисты здорового образа жизни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268280"/>
            <a:ext cx="8207640" cy="48265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мосов, Николай Михайло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13—2002) — советский хирург-кардиолог, русский писатель, автор новаторских методик в кардиологии, работ по геронтологии и рационального планирования общественной жизни («социальной инженерии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емёнов, Сергей Петро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од. 1952) — русский врач, учёный, поэт, философ, изобретатель, основатель оригинального психотерапевтического направления, духовный и общественный деятель. Лидер сообщества, участники которого заинтересованы мировоззренческими вопросами, природой человека, его духов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данов, Владимир Георгие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од. 1949) — российский лектор и пропагандист, известен своими лекциями о здоровом образе жизни, вреде курения и алк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00000" y="98100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Здоровый образ жизни 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25360"/>
            <a:ext cx="7345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 жизни отд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ловека с целью профилактики болезней и укреп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оровь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526716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484280"/>
            <a:ext cx="8064360" cy="1557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реализация комплекса действий во всех основных формах жизнедеятельности человека: трудовой, общественной, семейно-бытовой, досуг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3213000"/>
            <a:ext cx="4064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413000"/>
            <a:ext cx="828180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кружающая ср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безопасная и благоприятная для обитания, знания о влиянии окружающих предметов на здоров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572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557360"/>
            <a:ext cx="7920000" cy="1557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ит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умеренное, соответствующее физиологическим особенностям конкретного человека, информированность о качестве употребляемых продуктов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3898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484280"/>
            <a:ext cx="799308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физически активная жизнь, включая специальные физические упражнения с учётом возрастных и физиологических особен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47624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628640"/>
            <a:ext cx="799128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гиена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облюдение правил личной и общественной гигиены, владение навыками первой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щ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02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557360"/>
            <a:ext cx="3529080" cy="4597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4685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135640" cy="8254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аз от вредных привы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курения, употребления психоактивных  веществ, употребления алког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6978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09:27Z</dcterms:created>
  <dc:creator>User</dc:creator>
  <dc:description/>
  <dc:language>en-US</dc:language>
  <cp:lastModifiedBy>User</cp:lastModifiedBy>
  <dcterms:modified xsi:type="dcterms:W3CDTF">2009-05-18T18:39:24Z</dcterms:modified>
  <cp:revision>3</cp:revision>
  <dc:subject/>
  <dc:title>Слайд 1</dc:title>
</cp:coreProperties>
</file>