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C102A-9EA7-4438-8710-F84A5254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AF52F-4A5F-4D62-BAA8-384A4FA2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D726A-6FD4-4F69-B981-3ECEB33F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512A3-557F-4EE9-80D2-59BB9EB1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AF64-63F7-4621-B51C-F0EB27D6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35E1-ABA8-47F9-BE10-B8AB8703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15C8-1BEC-415E-8CBE-048BDBBE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7645-A9F8-4E99-BE07-22675FA1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A688-B8CD-47BB-AEA1-7E865A5C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3FDF-D8AA-49C4-9B11-101AC660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EAD1-6039-4396-A90C-68C2D016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E5F42-ABE0-4F97-9FDA-6778B8BD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34B1-889A-44C6-BF8A-D990950C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80D0-521E-4466-AA34-95CFAB18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FAAE-ABE1-4200-A852-A1793C9D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FAD3-FEFD-4FAA-88AF-DC8F612B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BAFA-D902-4273-8CD5-0BBD0FF4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088A1-0A17-4257-8C09-D03DBFA7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952A-9515-4830-AE9B-8EC06F6D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6E4F0-0E56-402F-8A31-1A70A1AD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B745A-2070-4AE8-80F0-98664AC1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F61BE-8C8E-435F-8443-1C053225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03645-2A00-4751-AB8A-CB9A1118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C77A1-DD12-4085-AA36-3998471B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628A-BE3B-46AE-B8AF-150825151F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4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64B7-20BE-4E60-BCD4-1ED1686C64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59280" y="1557360"/>
            <a:ext cx="576072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зентация на тему:</a:t>
            </a:r>
            <a:endParaRPr b="0" lang="en-US" sz="1800" spc="1" strike="noStrike">
              <a:ln cap="rnd"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427640" y="2924280"/>
            <a:ext cx="32097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"Здоровый образ жизни"</a:t>
            </a:r>
            <a:endParaRPr b="0" lang="en-US" sz="24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ОЖ</a:t>
            </a:r>
            <a:endParaRPr b="0" lang="en-US" sz="24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76360" y="4437000"/>
            <a:ext cx="45244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790571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ченицы 8Б класса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790571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050920" y="5516640"/>
            <a:ext cx="36198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Возняк Екатерины</a:t>
            </a:r>
            <a:endParaRPr b="0" lang="en-US" sz="1800" spc="1" strike="noStrike">
              <a:ln w="9360">
                <a:solidFill>
                  <a:srgbClr val="ffcccc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1341360"/>
            <a:ext cx="7775640" cy="228852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физиологическое состояние человека большое влияние оказывает его психоэмоциональное состояние, которое зависит, в свою очередь, от его ментальных установок. Поэтому некоторые авторы также выделяют дополнительно следующие аспекты ЗОЖ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716280"/>
            <a:ext cx="7704000" cy="82548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моциональное самочувств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психогигиена, умение справляться с собственными эмоция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564000" y="4869000"/>
            <a:ext cx="19130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628640"/>
            <a:ext cx="8280360" cy="119124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теллектуальное самочувств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способность человека узнавать и использовать новую информацию для оптимальных действий в новых обстоятельств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627280" y="3284640"/>
            <a:ext cx="375120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1484280"/>
            <a:ext cx="7848360" cy="155700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уховное самочувств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способность устанавливать действительно значимые, конструктивные жизненные цели и стремиться к ним, оптим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411280" y="2997360"/>
            <a:ext cx="4392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Формирование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1341360"/>
            <a:ext cx="8208720" cy="375300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ование образа жизни, способствующего укреплению здоровья человека, осуществляется на трёх уровн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оциаль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пропаганда через СМИ, информационно-просветительская рабо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нфраструктур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конкретные условия в основных сферах жизнедеятельности (наличие свободного времени, материальных средств), профилактические учреждения, экологический контрол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чностном: система ценностных ориентаций человека, стандартизация бытового укла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ичност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система ценностных ориентаций человека, стандартизация бытового укла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900000" y="549360"/>
            <a:ext cx="7632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Известные теоретики и пропагандисты здорового образа жизни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268280"/>
            <a:ext cx="8207640" cy="482652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мосов, Николай Михайлови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13—2002) — советский хирург-кардиолог, русский писатель, автор новаторских методик в кардиологии, работ по геронтологии и рационального планирования общественной жизни («социальной инженерии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емёнов, Сергей Петрови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род. 1952) — русский врач, учёный, поэт, философ, изобретатель, основатель оригинального психотерапевтического направления, духовный и общественный деятель. Лидер сообщества, участники которого заинтересованы мировоззренческими вопросами, природой человека, его духовными возможнос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Жданов, Владимир Георгиеви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род. 1949) — российский лектор и пропагандист, известен своими лекциями о здоровом образе жизни, вреде курения и алког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00000" y="981000"/>
            <a:ext cx="3219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Impact"/>
              </a:rPr>
              <a:t>Здоровый образ жизни </a:t>
            </a:r>
            <a:endParaRPr b="0" lang="en-US" sz="24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Impact"/>
              <a:ea typeface="Impact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125360"/>
            <a:ext cx="7345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э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з жизни отде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ловека с целью профилактики болезней и укреп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оровь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526716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1484280"/>
            <a:ext cx="8064360" cy="155700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доровый образ жиз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это реализация комплекса действий во всех основных формах жизнедеятельности человека: трудовой, общественной, семейно-бытовой, досуго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56000" y="3213000"/>
            <a:ext cx="40640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1413000"/>
            <a:ext cx="8281800" cy="119124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кружающая сре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безопасная и благоприятная для обитания, знания о влиянии окружающих предметов на здоровь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68360" y="2852640"/>
            <a:ext cx="45720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557360"/>
            <a:ext cx="7920000" cy="155700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ит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умеренное, соответствующее физиологическим особенностям конкретного человека, информированность о качестве употребляемых продуктов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38988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484280"/>
            <a:ext cx="7993080" cy="119124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физически активная жизнь, включая специальные физические упражнения с учётом возрастных и физиологических особенно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476244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628640"/>
            <a:ext cx="7991280" cy="119124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игиена организ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соблюдение правил личной и общественной гигиены, владение навыками первой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щ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43280" y="3068640"/>
            <a:ext cx="3024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1557360"/>
            <a:ext cx="3529080" cy="45972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калив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59280" y="2565360"/>
            <a:ext cx="246852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413000"/>
            <a:ext cx="8135640" cy="82548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каз от вредных привыч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курения, употребления психоактивных  веществ, употребления алкого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69780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6:09:27Z</dcterms:created>
  <dc:creator>User</dc:creator>
  <dc:description/>
  <dc:language>en-US</dc:language>
  <cp:lastModifiedBy>User</cp:lastModifiedBy>
  <dcterms:modified xsi:type="dcterms:W3CDTF">2009-05-18T18:39:24Z</dcterms:modified>
  <cp:revision>3</cp:revision>
  <dc:subject/>
  <dc:title>Слайд 1</dc:title>
</cp:coreProperties>
</file>