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CBA6-EEE9-4E73-9DC6-E996DA6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31DE-8828-4C50-A6C5-D82887AA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1EE5-1A52-4516-A796-BC9E3119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9518-95D2-4974-8FEA-8FF3FF9A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77F-43C9-4FF5-8814-89B59FBC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2866-DB6C-4D18-A2A2-A44260F9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7D5-FA27-4645-8BCE-94F40D3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D46D-C72C-4FF5-A55B-2093C7C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E286-335B-4216-A25E-256DA5B0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2EAD-77DE-420D-AC04-70990F3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7DE-EE17-4B77-9FE5-7929A8C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D262-0EBC-4E87-9115-BDC85627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F7AD-82BC-4FEC-81EB-CF746A7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45E-64B5-4442-806D-389A37F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4B5E-A5B7-484B-B6BD-CD49D065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D8FD-0527-43D4-B6DC-C0BE3B4F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D79A-E992-4738-A19E-F77CD644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76F5-4DBE-49C7-A023-0FFB1451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18D6-022C-4E44-8A30-1E9B3EA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04C3-14F6-4BB6-87EF-DA8C50B0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F849-7324-434B-8D0C-41A10C4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E647-0832-4933-BEFE-7CF6C30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99FF-5D06-4B90-8106-4AC1574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21F5-D311-445A-958B-5F6DA150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B247-E066-4684-B606-38ACCE46E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512-9F74-4D5A-81A7-08D4FAEED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59280" y="1557360"/>
            <a:ext cx="576072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 на тему:</a:t>
            </a:r>
            <a:endParaRPr b="0" lang="en-US" sz="1800" spc="1" strike="noStrike">
              <a:ln cap="rnd"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7640" y="2924280"/>
            <a:ext cx="3209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Здоровый образ жизни"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ОЖ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437000"/>
            <a:ext cx="4524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790571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ченицы 8Б класса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790571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0920" y="5516640"/>
            <a:ext cx="3619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Возняк Екатерины</a:t>
            </a:r>
            <a:endParaRPr b="0" lang="en-US" sz="1800" spc="1" strike="noStrike">
              <a:ln w="9360">
                <a:solidFill>
                  <a:srgbClr val="ffcccc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1360"/>
            <a:ext cx="7775640" cy="2288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физиологическое состояние человека большое влияние оказывает его психоэмоциональное состояние, которое зависит, в свою очередь, от его ментальных установок. Поэтому некоторые авторы также выделяют дополнительно следующие аспекты ЗО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716280"/>
            <a:ext cx="770400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моцион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сихогигиена, умение справляться с собственными эмоц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1913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628640"/>
            <a:ext cx="828036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ллектуаль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человека узнавать и использовать новую информацию для оптимальных действий в новых обстоятельств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7512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484280"/>
            <a:ext cx="7848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уховное самочув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пособность устанавливать действительно значимые, конструктивные жизненные цели и стремиться к ним, оптим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39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Формирование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341360"/>
            <a:ext cx="8208720" cy="3753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циаль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пропаганда через СМИ, информационно-просветительская рабо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фраструкту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ностном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чнос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истема ценностных ориентаций человека, стандартизация бытового укл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00000" y="549360"/>
            <a:ext cx="763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звестные теоретики и пропагандисты здорового образа жизни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268280"/>
            <a:ext cx="8207640" cy="48265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мосов, Николай Михайл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13—2002) — советский хирург-кардиолог, русский писатель, автор новаторских методик в кардиологии, работ по геронтологии и рационального планирования общественной жизни («социальной инженерии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мёнов, Сергей Петро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52) — русский врач, учёный, поэт, философ, изобретатель, основатель оригинального психотерапевтического направления, духовный и общественный деятель. Лидер сообщества, участники которого заинтересованы мировоззренческими вопросами, природой человека, его духов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анов, Владимир Георг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од. 1949) — российский лектор и пропагандист, известен своими лекциями о здоровом образе жизни, вреде курения и 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000" y="98100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Здоровый образ жизни 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25360"/>
            <a:ext cx="734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 жизни отд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а с целью профилактики болезней и укреп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2671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84280"/>
            <a:ext cx="806436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реализация комплекса действий во всех основных формах жизнедеятельности человека: трудовой, общественной, семейно-бытовой, досуг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4064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413000"/>
            <a:ext cx="828180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безопасная и благоприятная для обитания, знания о влиянии окружающих предметов на здоров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557360"/>
            <a:ext cx="7920000" cy="15570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меренное, соответствующее физиологическим особенностям конкретного человека, информированность о качестве употребляемых продуктов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898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484280"/>
            <a:ext cx="79930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изически активная жизнь, включая специальные физические упражнения с учётом возрастных и физиологических особен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7624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628640"/>
            <a:ext cx="7991280" cy="1191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гиена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соблюдение правил личной и общественной гигиены, владение навыками первой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щ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02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557360"/>
            <a:ext cx="3529080" cy="45972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4685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56000" y="54936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Элементы ЗОЖ</a:t>
            </a:r>
            <a:endParaRPr b="0" lang="en-US" sz="4000" spc="1" strike="noStrike">
              <a:ln w="9360">
                <a:solidFill>
                  <a:srgbClr val="ffcccc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135640" cy="8254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курения, употребления психоактивных  веществ, употребления алког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6978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09:27Z</dcterms:created>
  <dc:creator>User</dc:creator>
  <dc:description/>
  <dc:language>en-US</dc:language>
  <cp:lastModifiedBy>User</cp:lastModifiedBy>
  <dcterms:modified xsi:type="dcterms:W3CDTF">2009-05-18T18:39:24Z</dcterms:modified>
  <cp:revision>3</cp:revision>
  <dc:subject/>
  <dc:title>Слайд 1</dc:title>
</cp:coreProperties>
</file>