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5.png" ContentType="image/png"/>
  <Override PartName="/ppt/media/image5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7CE7C-0FE8-42D5-8B8B-B6405B6C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5FC1B-EE6F-442A-A682-75B7C748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5F6D8-77BD-4F42-9055-A7274D1C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3F926-54F1-4FAD-A09E-C3AAA05A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9F1B4-94C3-4E9A-9F3D-EE527EB0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C02E2-AE58-4421-97E1-4A86CB61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A6EE1-7A3A-44C0-980E-6D67C05E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BFCA2-BBCE-49E7-BAFB-E54088F4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01338-4336-40CE-90C6-091016B1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93DFD-6278-4DBE-8C41-E4CFFE95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E04A6-01DC-4091-B9A4-B24E69CA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3125C-97C9-4983-AD9B-3592E2E7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A915A-1D61-4B01-B291-11A6C52C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8ECA6-7C39-4DFF-8B0A-F61CB5C3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D2A1F-04E6-4AB9-95FC-A9875990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1D1F3-F2DF-46F9-8EC1-B1C086A4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D0B1D-6E42-43D2-9B3F-7304D2CA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72AEB-BA30-4512-AFC7-DF5B13E3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26979-5B7A-4B8F-B304-8417DCE9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9510E-7924-410E-A75C-5C043C96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3A14C-48C9-40EC-B010-2CAC78D7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C7908-26DB-418C-862E-A110EDC7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1578C-84C5-4175-8B7E-3E99390C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28F59-0EC5-4580-84BF-B2B676CE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7121A-E6EA-45EF-BE6F-CFF212B0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4BF0C-41F6-4570-B5E8-A16D0CC3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A1A1E-4DEB-4FFF-B98B-79C51735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71E31-A416-4FFD-8BC4-3D8156FF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0DCCE-FD29-4A8D-B39E-F7E66759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7ADEF-D2DC-4EF0-8E02-0FC80A57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4ED7C-6683-444C-9A8B-B1BE7886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48F35-BC1B-4565-8759-5171EE5A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1E234-5076-4314-82F8-4DDED42D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E4A07-3179-463C-B0B8-05E2C0A1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A17C-3D0F-47ED-B9FF-A5C4262F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FE4A4-02B0-47A1-9EB6-302D6009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76AB3-6D20-41B6-9788-2DB5A162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E797B-B135-427F-BCDE-4120A986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4C92D6-A887-4E2A-A373-CF3C6DE3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CE54EB-F5C5-4640-9BDE-33F19A25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912CEF-BADD-4D85-9135-CBB431A5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891A6E-7566-40A6-9990-E81FA38D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D8AD3A-46B1-47DA-853B-BC37E87A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BBD485-C01E-4DB9-B2FF-F0B85A0E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AA6868-0C7A-4037-AF46-1AB0F5F5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60A4-A8C7-4FFE-85B8-5E1FBB44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DDCE85-28A1-4D4B-ACEA-08267E94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ADC352-DDD2-44C8-AFB1-80BA6CE7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FA982F-F421-4617-853E-043D1F6F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D6A7D3-4D4B-4799-9C1F-C9A4489D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9472EF-D2B5-4154-8E0D-3976CF6F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1E06-66CD-43B2-9613-082E480A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48E2-8E4B-4D97-96BE-03CCE5A2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2640-E019-4876-843B-525C8AF0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9A63-A3FA-4220-869D-9C98BE9A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D144-7A84-4362-90B5-97F14730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E9D49-44E0-4AE6-998E-591D24CD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6964-C419-422D-912F-0CAABD49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F45B-3E05-4B0E-BC60-8D6ACE3C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4213-0BBC-4E20-97B7-06F49DFB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8DBC-9880-42FC-A366-C298B091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2809-369E-466F-8AA3-9FB94B57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0F2AA-B17B-4294-88A4-B133D64E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4CB8B-476D-4A38-BAEC-E4F8DB14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A4DE5-C5BF-4511-BBBD-3B52ABF1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58FFA-C1A6-464C-B484-0D058651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2A9D4-A3F4-4B71-A6C8-D0EFE28C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B6D7D-2BE0-47AD-9BBF-FE0CA92B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8C190-C636-4812-92D2-433A7055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26F30-9205-4DC5-9D67-0941601B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CBF2A-C70C-4018-85AC-52F73EA7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7D718-B6FC-4309-BEF7-D7EA96CB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3AB7A-5831-4375-BED3-9161325C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C4BED-954B-424A-A32A-E54CC5FF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EFA7A-212F-43AA-9877-BC7DC76A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9C54B-A450-422E-B2A1-ABB840DB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65116-9F37-4E7C-BA9B-F6BC6FED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B7404-5716-43C9-A6E0-907A20F8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C38F6-9010-463D-8BAE-8514CEDA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6E36D-CB74-4159-8C58-A4053960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1DA48-1C80-4C05-A6B5-12D9E9A9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27B99-E739-45B1-9AA0-66130DF8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9F0F0-9935-46F6-AE16-5E348FB6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D8B6F-3F2B-45D9-9F6E-AC072C2B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6D36F-CAC7-43B2-BBEF-930E876D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6B906-DC35-44D1-9007-4C92E6EC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4F735-BBF1-404D-A603-88D56A64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B9506-8284-464B-83FD-AC0D22A8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15F52-C8FC-44B9-B687-5558E860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5ED22-CDB4-4F88-80FB-DFD29452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17E99-5055-457E-B381-698D2BE8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2A64D-CB7C-43A1-AE56-DD957150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21693-A503-482D-9621-F074911C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D6C01-E85B-44B0-B83C-DCDD871F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A6E60-5A2A-406E-B80C-0FF42D5F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C1C43-0054-4C00-B95B-9C461E36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A0AC9-FA0F-499C-A6D3-7F32F154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5E1ED-F8F7-4D76-B3DE-F0C23849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0B456-7A84-425D-96E2-9B56974E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10639-FC4C-4317-A3DD-1B3CE992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CA1EF-4F46-4DFE-864C-71EE71BA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CA491-1E46-4B2D-86FE-992409DE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9F1F1-71C9-41FD-A748-7F1D628B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1A6A7-7DDD-47E3-A207-3B047F76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00933-E40D-4A11-A9AF-F2B0E9EA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92D87-CD25-42C0-9FC2-75139175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C4B9C-283E-4A2F-BF96-C2F91FEB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3FC7C-2373-446F-A83D-8CC79C93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D7EEF-843D-4F27-9ED6-ECBE67A3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E4A9C-31E9-49E0-B5A7-EAD617CE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7C399-A05D-4B7D-BB1E-5944FD8D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F0704-32F5-44F2-B95E-62EC072A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54A8C-F28C-4513-8532-EF2D5576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8D564-AB35-4460-87EF-A4377837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1238F-2D69-40EF-BA43-5F1DDBF2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767EB-C414-45E5-864A-6DD60C45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48E94-93B8-4EC0-8E4D-093F2BBF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4EF7F-633B-482A-8B3E-7AA30813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4E9DD-C3C5-42FB-81F9-5FD37445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11B46-50B9-44A2-B6B1-DF001D78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B3B24-4A4A-4AB6-99DC-F3E7A059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6D0B5-A285-4D20-8DA4-59446B27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07742-075C-4874-B7E9-3626A4D3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DAAFF-7990-42DD-B31A-381ABDDF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DA9BE-2227-4E03-AF87-EE819BC8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C2C1A-52E1-4142-86B7-B1717671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BD5C5-A937-4293-B21C-04D64613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6301C-83AF-4F53-8E36-E39C24EB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F2F96-E6D9-4387-98D1-24A74A1E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95260-8947-4F0D-B140-F3937872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45F51-06A5-43C8-8D81-3CA63FB5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17BF2-AEA7-4EEA-B12E-02C5EE92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05513-A552-4AD8-9E6F-D7AF20CB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5D48B-6E60-44BA-980F-871A5C97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EFC51-70EC-43FA-8EB8-9907285F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C5BB7-7623-4094-AAEB-66D54B7B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DAA27-0CB0-4FC0-B1A2-B8D207D2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B74D9-53E3-400C-A0B6-F14DE72D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18FA6-25A9-467D-8097-0D362D00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A282B-8D79-4A7A-BC23-B6E38B4B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A987F-D127-41E8-B29E-772E19CE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D2F9F-39E0-4FB4-B06D-42139733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3948F-E317-422F-B91D-04D5F3E4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4EE55-96D2-46C9-9CF6-6AAA4F17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AF95-10FB-4987-B9B4-AB2F593E5F9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9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9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9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9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0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08D3-ECA8-4693-8A7B-C107A9132D7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5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DA20-C832-4AE8-93F7-5860B9115B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54ED-7AE5-40EA-9487-8B107DF16F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4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B77B-A040-49F1-8733-E219CFE50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FAF9-4716-4404-A879-298909425F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2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6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6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FBD4-2A85-454C-B271-70C39D5D2A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4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E55C-9B4B-458F-AD14-BCC77A4CD2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767F-7D78-4C6F-89C1-5AC2262230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3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2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3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F0BB-4653-4AA0-B7D0-3228BBB99B4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96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7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9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0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1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8508-353A-4B8A-B4E7-100D99F2B9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50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1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E3E2-3A01-4092-9A62-71DF40AFBC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6" descr=""/>
          <p:cNvPicPr/>
          <p:nvPr/>
        </p:nvPicPr>
        <p:blipFill>
          <a:blip r:embed="rId1"/>
          <a:stretch/>
        </p:blipFill>
        <p:spPr>
          <a:xfrm rot="745200">
            <a:off x="4648320" y="2133360"/>
            <a:ext cx="3962160" cy="32004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Bell MT"/>
              </a:rPr>
              <a:t>УРОК ОКРУЖАЮЩЕГО МИРА </a:t>
            </a:r>
            <a:br>
              <a:rPr sz="4000"/>
            </a:br>
            <a:r>
              <a:rPr b="1" lang="ru-RU" sz="6600" spc="-1" strike="noStrike">
                <a:solidFill>
                  <a:srgbClr val="0000cc"/>
                </a:solidFill>
                <a:latin typeface="Bodoni MT"/>
              </a:rPr>
              <a:t>во 2 классе</a:t>
            </a:r>
            <a:r>
              <a:rPr b="1" lang="ru-RU" sz="6600" spc="-1" strike="noStrike">
                <a:solidFill>
                  <a:srgbClr val="0000cc"/>
                </a:solidFill>
                <a:latin typeface="Arial Black"/>
              </a:rPr>
              <a:t> </a:t>
            </a:r>
            <a:br>
              <a:rPr sz="6600"/>
            </a:br>
            <a:r>
              <a:rPr b="1" lang="ru-RU" sz="6600" spc="-1" strike="noStrike">
                <a:solidFill>
                  <a:srgbClr val="0000cc"/>
                </a:solidFill>
                <a:latin typeface="Arial Black"/>
              </a:rPr>
              <a:t> </a:t>
            </a:r>
            <a:r>
              <a:rPr b="1" lang="ru-RU" sz="6600" spc="-1" strike="noStrike">
                <a:solidFill>
                  <a:srgbClr val="0000cc"/>
                </a:solidFill>
                <a:latin typeface="Century"/>
              </a:rPr>
              <a:t>«НЕЖИВАЯ И ЖИВАЯ ПРИРОДА»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304920" y="5334120"/>
            <a:ext cx="57909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1058760" y="1600200"/>
          <a:ext cx="5253120" cy="4479840"/>
        </p:xfrm>
        <a:graphic>
          <a:graphicData uri="http://schemas.openxmlformats.org/drawingml/2006/table">
            <a:tbl>
              <a:tblPr/>
              <a:tblGrid>
                <a:gridCol w="712800"/>
                <a:gridCol w="727200"/>
                <a:gridCol w="758880"/>
                <a:gridCol w="771480"/>
                <a:gridCol w="770040"/>
                <a:gridCol w="782640"/>
                <a:gridCol w="73008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 </a:t>
                      </a: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4" name="Rectangle 158"/>
          <p:cNvSpPr/>
          <p:nvPr/>
        </p:nvSpPr>
        <p:spPr>
          <a:xfrm>
            <a:off x="6934320" y="1676520"/>
            <a:ext cx="22096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2. Летом бежит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А зимой стои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914400" y="1600200"/>
          <a:ext cx="5105520" cy="4608360"/>
        </p:xfrm>
        <a:graphic>
          <a:graphicData uri="http://schemas.openxmlformats.org/drawingml/2006/table">
            <a:tbl>
              <a:tblPr/>
              <a:tblGrid>
                <a:gridCol w="685800"/>
                <a:gridCol w="693720"/>
                <a:gridCol w="758880"/>
                <a:gridCol w="757080"/>
                <a:gridCol w="739800"/>
                <a:gridCol w="760680"/>
                <a:gridCol w="70956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7" name="Rectangle 138"/>
          <p:cNvSpPr/>
          <p:nvPr/>
        </p:nvSpPr>
        <p:spPr>
          <a:xfrm>
            <a:off x="6019920" y="1676520"/>
            <a:ext cx="2971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3. Хвост пушистый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Мех золотистый,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В лесу живет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В деревне кур краде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685800" y="1600200"/>
          <a:ext cx="4876920" cy="4516560"/>
        </p:xfrm>
        <a:graphic>
          <a:graphicData uri="http://schemas.openxmlformats.org/drawingml/2006/table">
            <a:tbl>
              <a:tblPr/>
              <a:tblGrid>
                <a:gridCol w="646200"/>
                <a:gridCol w="671400"/>
                <a:gridCol w="762120"/>
                <a:gridCol w="685800"/>
                <a:gridCol w="706320"/>
                <a:gridCol w="727200"/>
                <a:gridCol w="677880"/>
              </a:tblGrid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0" name="Rectangle 123"/>
          <p:cNvSpPr/>
          <p:nvPr/>
        </p:nvSpPr>
        <p:spPr>
          <a:xfrm>
            <a:off x="5638680" y="1676520"/>
            <a:ext cx="33530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4. Непоседа пестрая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Птица длиннохвостая,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Птица говорливая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Самая болтлива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609480" y="1600200"/>
          <a:ext cx="4648320" cy="4637160"/>
        </p:xfrm>
        <a:graphic>
          <a:graphicData uri="http://schemas.openxmlformats.org/drawingml/2006/table">
            <a:tbl>
              <a:tblPr/>
              <a:tblGrid>
                <a:gridCol w="615960"/>
                <a:gridCol w="619200"/>
                <a:gridCol w="747720"/>
                <a:gridCol w="652320"/>
                <a:gridCol w="673200"/>
                <a:gridCol w="693720"/>
                <a:gridCol w="6462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3" name="Rectangle 121"/>
          <p:cNvSpPr/>
          <p:nvPr/>
        </p:nvSpPr>
        <p:spPr>
          <a:xfrm>
            <a:off x="5334120" y="1676520"/>
            <a:ext cx="35812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5. Ну-ка, кто из вас ответит: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Не огонь, а больно жжет,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Не фонарь, а ярко светит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Не пекарь, а печет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685800" y="1600200"/>
          <a:ext cx="4267080" cy="4481640"/>
        </p:xfrm>
        <a:graphic>
          <a:graphicData uri="http://schemas.openxmlformats.org/drawingml/2006/table">
            <a:tbl>
              <a:tblPr/>
              <a:tblGrid>
                <a:gridCol w="565200"/>
                <a:gridCol w="568440"/>
                <a:gridCol w="631800"/>
                <a:gridCol w="596880"/>
                <a:gridCol w="676080"/>
                <a:gridCol w="635040"/>
                <a:gridCol w="593640"/>
              </a:tblGrid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6" name="Rectangle 131"/>
          <p:cNvSpPr/>
          <p:nvPr/>
        </p:nvSpPr>
        <p:spPr>
          <a:xfrm>
            <a:off x="5029200" y="1676520"/>
            <a:ext cx="38862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6. В этом белом ,сундучище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Мы храним на полках пищу.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На дворе стоит жарища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В сундучище - холодищ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609480" y="1600200"/>
          <a:ext cx="4343400" cy="4394160"/>
        </p:xfrm>
        <a:graphic>
          <a:graphicData uri="http://schemas.openxmlformats.org/drawingml/2006/table">
            <a:tbl>
              <a:tblPr/>
              <a:tblGrid>
                <a:gridCol w="574920"/>
                <a:gridCol w="579240"/>
                <a:gridCol w="642960"/>
                <a:gridCol w="608040"/>
                <a:gridCol w="642960"/>
                <a:gridCol w="690480"/>
                <a:gridCol w="604800"/>
              </a:tblGrid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9" name="Rectangle 122"/>
          <p:cNvSpPr/>
          <p:nvPr/>
        </p:nvSpPr>
        <p:spPr>
          <a:xfrm>
            <a:off x="5029200" y="1676520"/>
            <a:ext cx="38862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7. Что же это за девица?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Не швея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Не мастерица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Ничего сама не шьет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А в иголках круглый год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1600200" y="1752480"/>
          <a:ext cx="5867280" cy="4500720"/>
        </p:xfrm>
        <a:graphic>
          <a:graphicData uri="http://schemas.openxmlformats.org/drawingml/2006/table">
            <a:tbl>
              <a:tblPr/>
              <a:tblGrid>
                <a:gridCol w="776160"/>
                <a:gridCol w="782640"/>
                <a:gridCol w="868320"/>
                <a:gridCol w="822600"/>
                <a:gridCol w="868320"/>
                <a:gridCol w="931680"/>
                <a:gridCol w="8175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ъясни схему.</a:t>
            </a:r>
            <a:br>
              <a:rPr sz="4400"/>
            </a:b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Что обозначают стрелки на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этой схеме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5105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едите примеры, что относится к неживой, а что - к живой приро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сните, как связаны между собой неживая и живая при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4" name="Picture 4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705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10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10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0592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ff33"/>
                </a:solidFill>
                <a:latin typeface="Complex"/>
              </a:rPr>
              <a:t>Благодарю за работу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Complex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 u="sng">
                <a:solidFill>
                  <a:srgbClr val="ffc000"/>
                </a:solidFill>
                <a:uFillTx/>
                <a:latin typeface="Complex"/>
              </a:rPr>
              <a:t> </a:t>
            </a:r>
            <a:r>
              <a:rPr b="1" i="1" lang="ru-RU" sz="9600" spc="-1" strike="noStrike" u="sng">
                <a:solidFill>
                  <a:srgbClr val="ffc000"/>
                </a:solidFill>
                <a:uFillTx/>
                <a:latin typeface="Complex"/>
              </a:rPr>
              <a:t>Вы молодцы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ut thruBlk="true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609120" y="380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Посмотри, мой милый друг,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Что находится вокруг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Небо светло-голубое,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Солнце светит золотое,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Ветер листьями играет,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Тучка в небе проплывает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Поле, речка и трава,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Горы, воздух и листва,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Птицы, звери и леса,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Гром, туманы и рос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Человек и время года –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Это все вокруг…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(природа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20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6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6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7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66"/>
                </a:solidFill>
                <a:latin typeface="Garamond"/>
              </a:rPr>
              <a:t>КАКАЯ ПОГОДА БЫВАЕТ ЛЕТОМ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2514600" cy="20512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6019920" y="16765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" descr=""/>
          <p:cNvPicPr/>
          <p:nvPr/>
        </p:nvPicPr>
        <p:blipFill>
          <a:blip r:embed="rId3"/>
          <a:stretch/>
        </p:blipFill>
        <p:spPr>
          <a:xfrm>
            <a:off x="4572000" y="3962520"/>
            <a:ext cx="2743200" cy="21333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7" descr=""/>
          <p:cNvPicPr/>
          <p:nvPr/>
        </p:nvPicPr>
        <p:blipFill>
          <a:blip r:embed="rId4"/>
          <a:stretch/>
        </p:blipFill>
        <p:spPr>
          <a:xfrm>
            <a:off x="533520" y="3886200"/>
            <a:ext cx="259056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01680" y="277560"/>
            <a:ext cx="748512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cff33"/>
                </a:solidFill>
                <a:latin typeface="Times New Roman"/>
              </a:rPr>
              <a:t>ЧТО ТАКОЕ ПРИРОДА?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76" name="Picture 4" descr=""/>
          <p:cNvPicPr/>
          <p:nvPr/>
        </p:nvPicPr>
        <p:blipFill>
          <a:blip r:embed="rId1"/>
          <a:stretch/>
        </p:blipFill>
        <p:spPr>
          <a:xfrm rot="1956600">
            <a:off x="527040" y="1390680"/>
            <a:ext cx="1905120" cy="17017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5" descr=""/>
          <p:cNvPicPr/>
          <p:nvPr/>
        </p:nvPicPr>
        <p:blipFill>
          <a:blip r:embed="rId2"/>
          <a:stretch/>
        </p:blipFill>
        <p:spPr>
          <a:xfrm rot="20217600">
            <a:off x="6735600" y="1515600"/>
            <a:ext cx="2149560" cy="16052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6" descr=""/>
          <p:cNvPicPr/>
          <p:nvPr/>
        </p:nvPicPr>
        <p:blipFill>
          <a:blip r:embed="rId3"/>
          <a:stretch/>
        </p:blipFill>
        <p:spPr>
          <a:xfrm rot="19576200">
            <a:off x="533520" y="4419720"/>
            <a:ext cx="1828800" cy="14857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7" descr=""/>
          <p:cNvPicPr/>
          <p:nvPr/>
        </p:nvPicPr>
        <p:blipFill>
          <a:blip r:embed="rId4"/>
          <a:stretch/>
        </p:blipFill>
        <p:spPr>
          <a:xfrm rot="1377000">
            <a:off x="6783120" y="4327560"/>
            <a:ext cx="2019240" cy="171432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8" descr=""/>
          <p:cNvPicPr/>
          <p:nvPr/>
        </p:nvPicPr>
        <p:blipFill>
          <a:blip r:embed="rId5"/>
          <a:stretch/>
        </p:blipFill>
        <p:spPr>
          <a:xfrm>
            <a:off x="3352680" y="2819520"/>
            <a:ext cx="2362320" cy="1942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ccff33"/>
                </a:solidFill>
                <a:latin typeface="Times New Roman"/>
              </a:rPr>
              <a:t>НЕЖИВАЯ  ПРИРОДА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e1"/>
                </a:solidFill>
                <a:latin typeface="Arial"/>
              </a:rPr>
              <a:t>СОЛ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685800" y="2590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e1"/>
                </a:solidFill>
                <a:latin typeface="Arial"/>
              </a:rPr>
              <a:t>ЗВЕЗД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685800" y="3505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e1"/>
                </a:solidFill>
                <a:latin typeface="Arial"/>
              </a:rPr>
              <a:t>ВОЗДУ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762120" y="4419720"/>
            <a:ext cx="5410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e1"/>
                </a:solidFill>
                <a:latin typeface="Arial"/>
              </a:rPr>
              <a:t>ВОД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762120" y="5410080"/>
            <a:ext cx="2819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e1"/>
                </a:solidFill>
                <a:latin typeface="Arial"/>
              </a:rPr>
              <a:t>КАМНИ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ff33"/>
                </a:solidFill>
                <a:latin typeface="Arial Black"/>
              </a:rPr>
              <a:t>ЖИВАЯ  ПРИРОДА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8" name="Rectangle 4"/>
          <p:cNvSpPr/>
          <p:nvPr/>
        </p:nvSpPr>
        <p:spPr>
          <a:xfrm>
            <a:off x="914400" y="152388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914400" y="2743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РИБ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Rectangle 8"/>
          <p:cNvSpPr/>
          <p:nvPr/>
        </p:nvSpPr>
        <p:spPr>
          <a:xfrm>
            <a:off x="914400" y="39625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Rectangle 9"/>
          <p:cNvSpPr/>
          <p:nvPr/>
        </p:nvSpPr>
        <p:spPr>
          <a:xfrm>
            <a:off x="9144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ЧЕЛОВЕК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WordArt 4"/>
          <p:cNvSpPr txBox="1"/>
          <p:nvPr/>
        </p:nvSpPr>
        <p:spPr>
          <a:xfrm rot="20552400">
            <a:off x="561600" y="-961560"/>
            <a:ext cx="7443720" cy="612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8950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зкультминут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3" name="Picture 6" descr="j0215306"/>
          <p:cNvPicPr/>
          <p:nvPr/>
        </p:nvPicPr>
        <p:blipFill>
          <a:blip r:embed="rId3"/>
          <a:stretch/>
        </p:blipFill>
        <p:spPr>
          <a:xfrm>
            <a:off x="3048120" y="1600200"/>
            <a:ext cx="2235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ПРИРОДА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457200" y="2666880"/>
            <a:ext cx="3048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ЕЖИВА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5791320" y="2743200"/>
            <a:ext cx="2514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ЖИВА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Line 9"/>
          <p:cNvSpPr/>
          <p:nvPr/>
        </p:nvSpPr>
        <p:spPr>
          <a:xfrm flipH="1">
            <a:off x="1752120" y="1371600"/>
            <a:ext cx="213372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Line 10"/>
          <p:cNvSpPr/>
          <p:nvPr/>
        </p:nvSpPr>
        <p:spPr>
          <a:xfrm>
            <a:off x="4495680" y="1371600"/>
            <a:ext cx="198144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4800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685800" y="1523880"/>
          <a:ext cx="5257800" cy="4437360"/>
        </p:xfrm>
        <a:graphic>
          <a:graphicData uri="http://schemas.openxmlformats.org/drawingml/2006/table">
            <a:tbl>
              <a:tblPr/>
              <a:tblGrid>
                <a:gridCol w="712800"/>
                <a:gridCol w="708120"/>
                <a:gridCol w="780840"/>
                <a:gridCol w="770040"/>
                <a:gridCol w="762120"/>
                <a:gridCol w="761760"/>
                <a:gridCol w="762120"/>
              </a:tblGrid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 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1" name="Rectangle 1836"/>
          <p:cNvSpPr/>
          <p:nvPr/>
        </p:nvSpPr>
        <p:spPr>
          <a:xfrm>
            <a:off x="6095880" y="1676520"/>
            <a:ext cx="3048120" cy="350496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1. Тронь, только тронь –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Отдерешь ладонь: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Обжигает трава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Как огон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09-01T15:17:06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