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EE89-D5F7-4E98-8E20-4DF10FA6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EFE6-6B70-4355-80C6-E7781A32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1F00E-2821-4401-BDC1-209CFFD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176F1-F0E4-4F45-9AD9-2C3FDE03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CBA97-ADB4-47F4-9D37-11EC110C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3E82A-47FA-47B4-A958-6A6C227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D299D-A378-4CE2-BA53-B971EF4D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ECFF8-C9EF-48B4-8BD3-6715DD5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3B2CE-9FED-473C-928A-DC6014B0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BE238-AF82-4AD6-B219-920D8B3E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A06A4-9A90-41E9-B8FC-97E19DF3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9BF12-2538-48C2-A8FF-62C0B39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639F-B040-4B2F-915E-3D4C4A54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1ACF1-C61D-4756-8AA6-1406EBAE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19F5A-069F-495F-ADA1-B8198895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A27A3-BF54-411C-BD40-1FB5B7A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0FB8A-730D-4F1F-8A2B-49638679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0FCBC-3620-451A-A173-D6DB2583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9415B-C33F-4D7E-A8DE-80A89EA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48880-562B-4FE4-9572-895E105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91D36-CA3D-425E-A341-EA65854E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02986-67F3-4E2F-B7D0-EDDFEC6B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BAA84-4398-4FA9-95D4-86928F6E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0E1B-5052-4342-B925-6C539B52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8F58B-D7A3-4D0D-AA3F-8D856779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F98E4-9C9C-49A8-B15F-8B07A1BC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D720A-F4AE-405F-80DC-E7993BAC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57C0C-DA24-4EBC-99C9-2005DF7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D476A-5A8C-4903-8628-A66AC80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A4B3B-4C23-4BCF-B35F-DC1461E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64586-B444-43FB-B56C-28E4F56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2B16D-696E-4F46-A687-62C080D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F40A-75BD-4984-91E8-8A24A2F9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5B170-1F87-4A2F-9B01-8558FBC1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F574-C974-425A-8282-B76A1064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E8BEA-D869-4DB7-B59E-2738A50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D3539-366C-4E38-8221-2986C80C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4FB21-925F-41A9-BCC5-7B9E45BD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BE7368-8F00-4E9F-A095-9C37591E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FD95B2-39F3-4524-9A2F-4EE565A8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5A012B-8EC0-48C3-A759-A4930A1D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DFA06B-B78A-46B1-BFCA-B228FD2A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098845-1A15-4EEB-9550-A5705783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CFF201-7146-48A2-8510-B9B79A1A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C5B795-DE51-4941-A6C0-EAC23E3A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5023-53CE-4C7A-803B-EA84425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5B136B-0158-4174-8D77-8E12273D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9C8ECB-4385-4484-88F7-3CA84C30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19878F-113B-47D4-9CC5-CD160922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EB00EC-300F-44E2-BEF6-4E4DCCA8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807867-2795-409A-B687-0B390FD3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F465-4ADE-421C-A9D6-6190A08C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347-533C-4B60-882E-176EEBA5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4F74-D417-4553-AFD6-C039B2FC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4526-D763-4253-87BC-C2D8A115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2AFC-5A56-483B-A402-4C5A126C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5F29-8600-40A3-BED3-2A430BD4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B89C-6206-410D-87D5-087D211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63B0-F200-4CA8-9478-01501E3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8540-286F-4CF9-ACAC-514E5D19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5F0A-F517-4ED5-8523-7C61FD19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0BCF-D1AB-454F-930F-67A730F9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2AC31-651E-4033-9E4A-9709F169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3B913-46F3-4786-B694-B1425250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173E4-B7F6-4629-8F2B-8DC6EEBF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2D2E0-4F71-40B2-B357-22A5C229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3AA44-715E-4C89-AB59-10B255EF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90E2-C1E1-472A-82B8-710E3CBB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1A182-3071-4B4A-897F-1FDB3449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3FA4A-0B70-4B33-B2EC-5A2C77CE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D36E0-5CC5-4852-B630-2864144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9AB85-0966-4A1B-8E0A-F52B65FF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1C45D-51CB-4CF5-82D1-1C884C6A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8700E-1D40-4C6F-919B-8FF58ED7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2008F-B397-423A-AFD6-BC16F4E1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C652-BD70-4123-BE8E-58E2EA89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3B52-1C27-44C8-8536-A2D650C8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52DE-78FD-4A6F-A5FC-A22FF072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BB30-B534-4D44-A560-32B9C4D9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DB46-C55C-4B60-BD1B-BE8D9CF5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D146-2F7C-4E9F-A299-DE00CB87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6558-226D-40BD-9851-5E0BB541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9EF0-367A-4F0C-83EE-5368823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5AF8-8881-4D4B-85A4-2FEC5AC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0CCF-5F2C-4885-81EA-E38BB399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4A1D-CD33-455D-82F4-6DFAFC45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BB80-07A3-49F8-9167-3B694E8A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523E-0356-4A72-8211-EFD8DDD3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647C-DB20-4477-A218-32DDB3F4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07A0-32F1-44AE-B892-AAFC7289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A6098-6A2F-4E06-A73B-DA4A4E06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CE2F-B265-4931-BB2A-29A6B2A3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15A02-F9BA-4A3A-B55C-FDFBEB1C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C823E-315C-4A21-9364-F911DE33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5437-1FAB-47F1-860C-F4F62C6A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6F95-F269-44AC-B663-A12D0227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72F2B-E95A-4B00-A87F-8255C69E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398E3-8FBD-4444-B78F-A62EE386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1549-8E4D-43D7-BFCB-7E9838B9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8A43-9C29-498B-8118-327A7A36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6002-61BF-4597-B7B5-FBBEBAB4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A085-C8E9-4723-AE56-85E83949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117B7-E72A-497D-B326-967496C6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E633C-A789-429C-8AC4-3F611673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ECAA0-4594-4377-AD95-595C3427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84010-BE5D-4F3A-A8D3-1F0000CB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C409-B3A9-448B-B82E-0CD0520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A2A63-EF4F-4FB6-871D-EA79358D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7047-EDB5-4E28-A787-C6D0C49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95291-8FC4-48B9-B78C-ED63DEB5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D327-276D-40DB-B1BC-954B5EF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94DA-7468-42E8-ACBA-4FF894E4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34178-A49A-4040-887D-D9FE7CBB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9832-5B33-4A0B-983F-7A792DAD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9306-31C4-4758-9BDB-F4749D72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0B204-8D75-479D-9E1C-BDA6CF38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AC56-5BD8-4F7D-B282-40136B1B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A4D9-0A9D-4964-ADD4-E9F27F3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9AD25-63B6-473E-B96D-FC30D542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6497-4947-4451-9119-C6A37A68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C4FA-67E1-4C96-86E5-FFC7A6B4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BE4A-C364-49F1-9B72-8CFE501C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2BD5-C3FE-4558-B3BA-20C24E9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60997-2BC4-48AF-AB37-307B9B88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8875D-043A-4EFD-AB7F-6B178CD3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50A2F-AD38-4DD6-BD10-C92EE202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5C26-4B9A-4F63-90C3-D9E0FE6D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FE9D1-BB1E-4D2F-926B-C7983D36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A3C14-F986-490F-B56C-CEFF39AC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96CEE-3A7D-490E-8C91-16038DC2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A9E5-7633-4460-AAB0-A4DF180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579DB-C82D-489E-86CA-7735F6A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72CCB-14B4-4061-A14D-A09EED0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2729-3023-4330-9FBB-8EAE70FA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BD44-E68A-42BE-A4A9-E23D210B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E9FC6-D6DC-41C5-B9B7-CFF6478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6181C-F418-4563-B4CE-4BE582DA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8EACA-8031-4C6F-94ED-E4E0DBD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37F24-4FE2-42A1-A1ED-E2B0127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89AAA-0A1A-491C-ACFD-08BD2473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96571-11DD-40A7-AF09-3E59F3E2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9AC0F-AF44-403C-8524-7D4B6648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DB3D1-6B71-4551-ADF6-98ACDD9D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86AA7-FFD8-4FD4-B50E-5FBE3C98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ACD7-6AA3-427C-B5C7-BF3517B33DA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9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AE05-121E-4345-B636-B866BDB0E8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489-D70B-435A-A17A-8D02B3F6FD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3B7-5CF1-48C2-AC77-261A12BD7D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0DE3-C1CE-4CD1-8F6A-81EDE841D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B62-CC60-4750-A2BC-8A239610D0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6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6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FB64-4EE5-4F88-A8BE-20D7A065C1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4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714B-4636-4198-90A0-F2E3C25129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502C-22A0-4D71-B2CD-4AC60F9E0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39E7-2F69-4211-A374-3BF024D3979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E96-9971-4993-83E3-288A8750A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0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F374-6E65-42C2-AD7D-A1126927A2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"/>
          <p:cNvPicPr/>
          <p:nvPr/>
        </p:nvPicPr>
        <p:blipFill>
          <a:blip r:embed="rId1"/>
          <a:stretch/>
        </p:blipFill>
        <p:spPr>
          <a:xfrm rot="745200">
            <a:off x="4648320" y="2133360"/>
            <a:ext cx="3962160" cy="32004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УРОК ОКРУЖАЮЩЕГО МИРА </a:t>
            </a:r>
            <a:br>
              <a:rPr sz="4000"/>
            </a:br>
            <a:r>
              <a:rPr b="1" lang="ru-RU" sz="6600" spc="-1" strike="noStrike">
                <a:solidFill>
                  <a:srgbClr val="0000cc"/>
                </a:solidFill>
                <a:latin typeface="Bodoni MT"/>
              </a:rPr>
              <a:t>во 2 классе</a:t>
            </a:r>
            <a:r>
              <a:rPr b="1" lang="ru-RU" sz="66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1" lang="ru-RU" sz="6600" spc="-1" strike="noStrike">
                <a:solidFill>
                  <a:srgbClr val="0000cc"/>
                </a:solidFill>
                <a:latin typeface="Century"/>
              </a:rPr>
              <a:t>«НЕЖИВАЯ И ЖИВАЯ ПРИРОДА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04920" y="533412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058760" y="1600200"/>
          <a:ext cx="5253120" cy="4479840"/>
        </p:xfrm>
        <a:graphic>
          <a:graphicData uri="http://schemas.openxmlformats.org/drawingml/2006/table">
            <a:tbl>
              <a:tblPr/>
              <a:tblGrid>
                <a:gridCol w="712800"/>
                <a:gridCol w="727200"/>
                <a:gridCol w="758880"/>
                <a:gridCol w="771480"/>
                <a:gridCol w="770040"/>
                <a:gridCol w="782640"/>
                <a:gridCol w="73008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4" name="Rectangle 158"/>
          <p:cNvSpPr/>
          <p:nvPr/>
        </p:nvSpPr>
        <p:spPr>
          <a:xfrm>
            <a:off x="6934320" y="1676520"/>
            <a:ext cx="2209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2. Летом бежи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А зимой стои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914400" y="1600200"/>
          <a:ext cx="5105520" cy="4608360"/>
        </p:xfrm>
        <a:graphic>
          <a:graphicData uri="http://schemas.openxmlformats.org/drawingml/2006/table">
            <a:tbl>
              <a:tblPr/>
              <a:tblGrid>
                <a:gridCol w="685800"/>
                <a:gridCol w="693720"/>
                <a:gridCol w="758880"/>
                <a:gridCol w="757080"/>
                <a:gridCol w="739800"/>
                <a:gridCol w="760680"/>
                <a:gridCol w="7095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7" name="Rectangle 138"/>
          <p:cNvSpPr/>
          <p:nvPr/>
        </p:nvSpPr>
        <p:spPr>
          <a:xfrm>
            <a:off x="6019920" y="1676520"/>
            <a:ext cx="2971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3. Хвост пушистый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Мех золотистый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лесу живе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деревне кур крад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85800" y="1600200"/>
          <a:ext cx="4876920" cy="4516560"/>
        </p:xfrm>
        <a:graphic>
          <a:graphicData uri="http://schemas.openxmlformats.org/drawingml/2006/table">
            <a:tbl>
              <a:tblPr/>
              <a:tblGrid>
                <a:gridCol w="646200"/>
                <a:gridCol w="671400"/>
                <a:gridCol w="762120"/>
                <a:gridCol w="685800"/>
                <a:gridCol w="706320"/>
                <a:gridCol w="727200"/>
                <a:gridCol w="67788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Rectangle 123"/>
          <p:cNvSpPr/>
          <p:nvPr/>
        </p:nvSpPr>
        <p:spPr>
          <a:xfrm>
            <a:off x="5638680" y="1676520"/>
            <a:ext cx="33530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4. Непоседа пестрая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Птица длиннохвостая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Птица говорливая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Самая болтлив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609480" y="1600200"/>
          <a:ext cx="4648320" cy="4637160"/>
        </p:xfrm>
        <a:graphic>
          <a:graphicData uri="http://schemas.openxmlformats.org/drawingml/2006/table">
            <a:tbl>
              <a:tblPr/>
              <a:tblGrid>
                <a:gridCol w="615960"/>
                <a:gridCol w="619200"/>
                <a:gridCol w="747720"/>
                <a:gridCol w="652320"/>
                <a:gridCol w="673200"/>
                <a:gridCol w="693720"/>
                <a:gridCol w="646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Rectangle 121"/>
          <p:cNvSpPr/>
          <p:nvPr/>
        </p:nvSpPr>
        <p:spPr>
          <a:xfrm>
            <a:off x="5334120" y="1676520"/>
            <a:ext cx="3581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5. Ну-ка, кто из вас ответит: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огонь, а больно жжет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фонарь, а ярко свети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пекарь, а печет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600200"/>
          <a:ext cx="4267080" cy="4481640"/>
        </p:xfrm>
        <a:graphic>
          <a:graphicData uri="http://schemas.openxmlformats.org/drawingml/2006/table">
            <a:tbl>
              <a:tblPr/>
              <a:tblGrid>
                <a:gridCol w="565200"/>
                <a:gridCol w="568440"/>
                <a:gridCol w="631800"/>
                <a:gridCol w="596880"/>
                <a:gridCol w="676080"/>
                <a:gridCol w="635040"/>
                <a:gridCol w="59364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Rectangle 131"/>
          <p:cNvSpPr/>
          <p:nvPr/>
        </p:nvSpPr>
        <p:spPr>
          <a:xfrm>
            <a:off x="5029200" y="1676520"/>
            <a:ext cx="3886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6. В этом белом ,сундучище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Мы храним на полках пищу.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а дворе стоит жарища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сундучище - холодищ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609480" y="1600200"/>
          <a:ext cx="4343400" cy="4394160"/>
        </p:xfrm>
        <a:graphic>
          <a:graphicData uri="http://schemas.openxmlformats.org/drawingml/2006/table">
            <a:tbl>
              <a:tblPr/>
              <a:tblGrid>
                <a:gridCol w="574920"/>
                <a:gridCol w="579240"/>
                <a:gridCol w="642960"/>
                <a:gridCol w="608040"/>
                <a:gridCol w="642960"/>
                <a:gridCol w="690480"/>
                <a:gridCol w="60480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Rectangle 122"/>
          <p:cNvSpPr/>
          <p:nvPr/>
        </p:nvSpPr>
        <p:spPr>
          <a:xfrm>
            <a:off x="5029200" y="1676520"/>
            <a:ext cx="3886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7. Что же это за девица?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швея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Не мастерица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ичего сама не шье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А в иголках кругл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1600200" y="1752480"/>
          <a:ext cx="5867280" cy="4500720"/>
        </p:xfrm>
        <a:graphic>
          <a:graphicData uri="http://schemas.openxmlformats.org/drawingml/2006/table">
            <a:tbl>
              <a:tblPr/>
              <a:tblGrid>
                <a:gridCol w="776160"/>
                <a:gridCol w="782640"/>
                <a:gridCol w="868320"/>
                <a:gridCol w="822600"/>
                <a:gridCol w="868320"/>
                <a:gridCol w="931680"/>
                <a:gridCol w="8175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ъясни схему.</a:t>
            </a:r>
            <a:br>
              <a:rPr sz="4400"/>
            </a:b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Что обозначают стрелки н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этой схеме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ите примеры, что относится к неживой, а что - к живой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е, как связаны между собой неживая и живая при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ff33"/>
                </a:solidFill>
                <a:latin typeface="Complex"/>
              </a:rPr>
              <a:t>Благодарю за работу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omplex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c000"/>
                </a:solidFill>
                <a:uFillTx/>
                <a:latin typeface="Complex"/>
              </a:rPr>
              <a:t> </a:t>
            </a:r>
            <a:r>
              <a:rPr b="1" i="1" lang="ru-RU" sz="9600" spc="-1" strike="noStrike" u="sng">
                <a:solidFill>
                  <a:srgbClr val="ffc000"/>
                </a:solidFill>
                <a:uFillTx/>
                <a:latin typeface="Complex"/>
              </a:rPr>
              <a:t>Вы молодцы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ut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осмотри, мой милый друг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Что находится вокруг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Небо светло-голубое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олнце светит золотое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етер листьями играет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Тучка в небе проплывает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оле, речка и трав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Горы, воздух и листв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тицы, звери и лес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Гром, туманы и рос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Человек и время года –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Это все вокруг…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(природа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7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Garamond"/>
              </a:rPr>
              <a:t>КАКАЯ ПОГОДА БЫВАЕТ ЛЕТОМ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2514600" cy="2051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"/>
          <p:cNvPicPr/>
          <p:nvPr/>
        </p:nvPicPr>
        <p:blipFill>
          <a:blip r:embed="rId3"/>
          <a:stretch/>
        </p:blipFill>
        <p:spPr>
          <a:xfrm>
            <a:off x="4572000" y="396252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"/>
          <p:cNvPicPr/>
          <p:nvPr/>
        </p:nvPicPr>
        <p:blipFill>
          <a:blip r:embed="rId4"/>
          <a:stretch/>
        </p:blipFill>
        <p:spPr>
          <a:xfrm>
            <a:off x="533520" y="3886200"/>
            <a:ext cx="25905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01680" y="277560"/>
            <a:ext cx="748512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cff33"/>
                </a:solidFill>
                <a:latin typeface="Times New Roman"/>
              </a:rPr>
              <a:t>ЧТО ТАКОЕ ПРИРОДА?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 rot="1956600">
            <a:off x="527040" y="1390680"/>
            <a:ext cx="1905120" cy="17017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5" descr=""/>
          <p:cNvPicPr/>
          <p:nvPr/>
        </p:nvPicPr>
        <p:blipFill>
          <a:blip r:embed="rId2"/>
          <a:stretch/>
        </p:blipFill>
        <p:spPr>
          <a:xfrm rot="20217600">
            <a:off x="6735600" y="1515600"/>
            <a:ext cx="2149560" cy="16052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6" descr=""/>
          <p:cNvPicPr/>
          <p:nvPr/>
        </p:nvPicPr>
        <p:blipFill>
          <a:blip r:embed="rId3"/>
          <a:stretch/>
        </p:blipFill>
        <p:spPr>
          <a:xfrm rot="19576200">
            <a:off x="533520" y="4419720"/>
            <a:ext cx="1828800" cy="1485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7" descr=""/>
          <p:cNvPicPr/>
          <p:nvPr/>
        </p:nvPicPr>
        <p:blipFill>
          <a:blip r:embed="rId4"/>
          <a:stretch/>
        </p:blipFill>
        <p:spPr>
          <a:xfrm rot="1377000">
            <a:off x="6783120" y="4327560"/>
            <a:ext cx="2019240" cy="17143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"/>
          <p:cNvPicPr/>
          <p:nvPr/>
        </p:nvPicPr>
        <p:blipFill>
          <a:blip r:embed="rId5"/>
          <a:stretch/>
        </p:blipFill>
        <p:spPr>
          <a:xfrm>
            <a:off x="3352680" y="281952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ff33"/>
                </a:solidFill>
                <a:latin typeface="Times New Roman"/>
              </a:rPr>
              <a:t>НЕЖИВАЯ  ПРИРОДА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685800" y="2590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6858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ВОЗДУ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762120" y="441972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762120" y="5410080"/>
            <a:ext cx="2819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КАМНИ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33"/>
                </a:solidFill>
                <a:latin typeface="Arial Black"/>
              </a:rPr>
              <a:t>ЖИВАЯ  ПРИРОД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914400" y="15238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914400" y="2743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914400" y="3962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9144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WordArt 4"/>
          <p:cNvSpPr txBox="1"/>
          <p:nvPr/>
        </p:nvSpPr>
        <p:spPr>
          <a:xfrm rot="20552400">
            <a:off x="561600" y="-961560"/>
            <a:ext cx="7443720" cy="612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950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3" name="Picture 6" descr="j0215306"/>
          <p:cNvPicPr/>
          <p:nvPr/>
        </p:nvPicPr>
        <p:blipFill>
          <a:blip r:embed="rId3"/>
          <a:stretch/>
        </p:blipFill>
        <p:spPr>
          <a:xfrm>
            <a:off x="3048120" y="1600200"/>
            <a:ext cx="223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ПРИРОД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457200" y="26668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ЕЖИВА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5791320" y="274320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ЖИВА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Line 9"/>
          <p:cNvSpPr/>
          <p:nvPr/>
        </p:nvSpPr>
        <p:spPr>
          <a:xfrm flipH="1">
            <a:off x="1752120" y="1371600"/>
            <a:ext cx="213372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Line 10"/>
          <p:cNvSpPr/>
          <p:nvPr/>
        </p:nvSpPr>
        <p:spPr>
          <a:xfrm>
            <a:off x="4495680" y="1371600"/>
            <a:ext cx="198144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4800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85800" y="1523880"/>
          <a:ext cx="5257800" cy="4437360"/>
        </p:xfrm>
        <a:graphic>
          <a:graphicData uri="http://schemas.openxmlformats.org/drawingml/2006/table">
            <a:tbl>
              <a:tblPr/>
              <a:tblGrid>
                <a:gridCol w="712800"/>
                <a:gridCol w="708120"/>
                <a:gridCol w="780840"/>
                <a:gridCol w="770040"/>
                <a:gridCol w="762120"/>
                <a:gridCol w="761760"/>
                <a:gridCol w="76212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 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Rectangle 1836"/>
          <p:cNvSpPr/>
          <p:nvPr/>
        </p:nvSpPr>
        <p:spPr>
          <a:xfrm>
            <a:off x="6095880" y="1676520"/>
            <a:ext cx="3048120" cy="350496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1. Тронь, только тронь –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Отдерешь ладонь: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Обжигает трава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Как огон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9-01T15:17:06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