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5.png" ContentType="image/png"/>
  <Override PartName="/ppt/media/image5.jpeg" ContentType="image/jpeg"/>
  <Override PartName="/ppt/media/image16.wmf" ContentType="image/x-wmf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8318A-8F88-40DC-A79B-EC717D697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D4855-95C6-43B2-85B7-842FB7B8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BA57E-FA75-4F5F-9C04-B2BD4484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24A9C-803C-4BF1-B7D6-CD96403B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671F33-9D66-47E7-B2FC-7276C569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107B7-F875-48CE-9D88-DDBDDA6A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5386E6-ECF0-44B8-8CB4-023484A0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853624-140E-4349-A2C8-2684278A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B7F9D-2C87-4F97-A1CD-A4DF9130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BE970-3B80-488C-B0E2-5EE1FD2B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1A6FD-2A54-4047-A4B3-35AAE1A7D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6430B1-10F6-4D79-82E5-2231D0F46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E5CB2-59A9-4669-8652-F5F5A2316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DFC8B9-D8A8-4793-A9C8-3E02565D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4C3F42-8F5C-4B4D-BA49-A747BAD8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4C377D-E13B-42C2-976A-9B9504CD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089458-7F92-4DF1-AA82-1A5304A7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1C32EA-AABF-4259-988B-EA01641C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293461-D78F-496A-BA70-969C0BD0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8200C3-4D52-4EE2-B838-8783801D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84176-3B98-447B-B46F-C0CBCCEF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3F2FA-42F0-4E66-BA97-1CFEE5EE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D3A76A-CCC1-43F0-9CE4-5B59636FB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41F07-ECB0-46FB-A689-A87F11CFE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B958EA-B11B-431E-ABF1-07CE1F11D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DB009-3A6F-4D37-8F00-CE15E0B6B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3F8AE-C20B-44A3-A721-364DF78D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BFBAE-747B-4595-92CF-622D2DEF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09BCC-5121-459F-A98B-510B5DF6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FA166-530E-4112-9A6B-544A6C01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5AD04-DDED-43A1-B8E0-3E8B49C4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856C3-8FD1-4415-9B30-FB941A65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8656B-AF70-4038-8EB4-1300ADB8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DEB58-474F-444A-95C2-9E60B96D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F68E-ED6F-4A31-8128-AD3F436C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501B2-659E-4C21-991E-86B2489E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32198-9DDC-4376-8F79-8976FC247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E5147-B0C4-4054-A74B-5E69B6C78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060E10A-D327-4FA3-A1B9-62EFA009F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FF5B3A5-7BF2-4767-8BF7-5246ADB3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75EA13E-E954-4B05-A852-1665A235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4920911-F457-46B4-968E-75724442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24ACD50-DD6D-4B89-A412-6C66E7C4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C31CEBB-6344-4F78-B94A-3D5F4DAE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BC3BE81-B87F-4288-845F-BED576A6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A1D0-1846-49F2-B7E4-F336D0BA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374DF0F-6039-479B-8F26-2628F2BC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19A0DC1-6BF0-4FCF-A8B3-83010A8A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DC8B545-EAD6-4ED5-A92B-1A2E6711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26D8673-3E3B-48B2-9BB5-4B4FA8E50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E7BE532-5325-4B23-B66A-A6FCA2E23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FC257-0243-4503-8614-6323C791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B14F-E7E3-4175-84FB-6413463E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7BA3-134A-4DB6-9FB4-976DDE7D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1E09-0250-48BE-A872-5141B1DD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C29D-89CA-4391-8ECE-3BB06CA2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C2513-26EB-4301-BEA4-D79A92E3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9F35-1E53-4F05-A3D9-FC23E62C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1547-DC1E-4AB9-A712-B26E53DA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CD34-2441-4A69-B40D-A0F34026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2ED6-7B87-4C1D-9715-B9464BE7F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921C-1B01-443E-BFE4-624D6C998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666F37-D105-44C3-8397-9F8C0E976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BB8DF3-4EF0-4905-B4C6-956FADA6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319F12-A72C-4A2F-AB81-C5593435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60B519-E929-4C99-8D7E-0C1AE81D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711F30-923C-4A0B-AF0E-C0B68850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EB2D1-46DC-4BBD-8929-749A81C5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96162D-2918-48D8-8E26-77CB4A16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636450-51E1-45C1-9C83-9F606279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615950-74BC-4166-8B82-20974ACA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81F057-95E1-4D4E-BEBE-569B1EAA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5F580D-018A-43FF-85B5-459BE675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CC121B-A14A-4FC2-BC74-1544473B7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3CDECA-9922-4D3D-B105-3D7DF9BE2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BEB95-FF31-4DB6-809A-9A101A6D4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65EC3-C2E4-4980-8A62-EC5D0FD8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20BE7-6C3E-4668-AB58-A8A9EB87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88075-2CFE-47A1-A0AD-5E2596FB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ACDD3-ABB5-469F-BCF0-540BF14A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9A22D-67F8-4F10-8AC0-E94184BE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048FE-382D-4EDE-B21E-619309F8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09CEE-4F6F-43A2-A1F0-F3D9C459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55EFD-656D-416A-A2C5-91049ED0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F2B17-D24F-46DE-A2D5-3D51AA17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CCC0D-CAD0-49BC-9995-EC793C52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1194F-97BA-458B-A5B1-0BC69B628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C9BFF-ADA4-4517-8767-D38A530BD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4D44F-539A-443E-93F2-C46968F14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3E911-42FC-4A59-9BA5-47AFADFB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CCA35-A381-4A36-AEA1-A4F69854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B9878-894E-4A65-B718-0C59CE2B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DFE59-6D58-411B-A6DD-744850A8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D3D76-590B-48BB-BB5F-D128D936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71747-AD11-449E-9CBB-72AC42AB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06844-9D52-4734-9C4A-A6479498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EAE2A-234B-4C33-97C8-8331C29E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8BF9B-1E34-427F-87C9-17B5B232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265BA-A395-4261-89DE-54094566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2DF39-BA14-4888-BB54-CF271C547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A68E9-2F7B-4051-BA65-F6E29674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AE2DD-8868-456A-8573-26CE6864F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56DB5-4BE5-4EF9-8789-0137DE15C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78D1C-A171-4606-BB0F-85C92212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989E9-A6A2-4368-A078-299B27B1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54CD9-1318-4AD0-B9C7-BCA9F610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5FB74-C2DD-4B06-8ECB-AC449C73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71DAC-B13A-41C7-81C8-F0E8CD53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CEAD5-15BF-465D-A3F3-E3FC4615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E2660-0EE9-49A4-91DE-082CFA58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5CDA3-E7C8-43EF-9E33-0F59BEBA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4EE7B-07E2-47CD-8344-254E4E92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65CFA-1BB8-451E-B663-D5CAE6C8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38559-163E-482C-BCB4-B97C5FC34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21FAF-1C52-4D0D-96C1-A4BC6B85E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65388-6C0E-430A-93BC-3D61F35B1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FA255-9070-449A-9344-63B8E53C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F2F52-EB2D-4F53-956A-28E2F0A7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0D438-6E05-475E-8010-2D87E6E7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CCF2B-79DB-4956-A383-484736D4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C0F6E-8FD7-4B79-9650-70B80528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9B5D3-EF00-49F0-8505-4D931C2D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766FB-22EC-43E8-A567-DA640A6A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0882A-6D52-43C2-BCEB-16836CEE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EA7B8-8BA6-4EFB-BB2C-55820FB1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A623D-15C6-45A3-95EF-09820D33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F8515-A8DB-4B19-A873-A4FE5FF68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D849C-704E-4AE9-A214-000FFD824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484C1-62AB-4A3A-9EAB-5E2FBD574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1CE90-DE4C-4212-9E95-1DFD1E44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D052C-EBDE-4683-B66C-24E118C7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DA276-78E1-451B-811F-07E9A748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6433F-C983-47CD-BAA1-44D6511A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40AB3-AD17-4B38-98CC-AB59754A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CDE76-5C94-4FD4-B64E-9D76E4D8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CF26F-BA22-4C4D-92F9-96D9FE8B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D199D-4ED8-48C6-8892-FDBAE92B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84103-BE39-47FB-87B3-FB9F26AA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E9529-9A51-44CA-96D2-3CCD3B4B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A4E73-D01E-411F-AD1A-A1446FBD9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6F463-0CA5-45EC-BFD2-FC1650D48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C2A398-FB4C-4DB3-96C3-F693FF6A7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05DAA3-35B9-464A-8B18-A39040E4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1BEC7-EDE8-4F85-B56C-9F76B7B7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564E-EAED-4EFA-97FB-E134C3A1261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94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95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96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7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8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99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00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1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28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29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66F5-850B-4B88-90BE-F862201CF5F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544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5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6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7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8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9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50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51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52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4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5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6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7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8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9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0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1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2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3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4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5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6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7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8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9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8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581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36D6-5E7A-435B-B85C-2717325CB42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C2F6-8CE7-4EB3-BBF4-9426AFBFDE9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4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2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0D79-BAD3-4E85-A5D8-05D0235006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3B28-809D-4780-BF96-A9BC60A5370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1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1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22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3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2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64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65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66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7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8B16-DDF8-4CB5-BCA5-C5E3983FF6D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1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4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E8BE-44B3-4C00-A048-F7DB823ADB4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92EB-AD47-4A42-8079-CE5A4BE789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33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4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5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6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7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8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9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0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1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2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3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4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5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6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7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8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9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0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1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2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3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E7CA-A0ED-403D-8721-AF884AF0D6C0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96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7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8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9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0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1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6E42-BA3F-4A20-9BCE-B17C6DA2B4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4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45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6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7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8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9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50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1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5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6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913C-7D83-4183-B829-B5323B96EC3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6" descr=""/>
          <p:cNvPicPr/>
          <p:nvPr/>
        </p:nvPicPr>
        <p:blipFill>
          <a:blip r:embed="rId1"/>
          <a:stretch/>
        </p:blipFill>
        <p:spPr>
          <a:xfrm rot="745200">
            <a:off x="4648320" y="2133360"/>
            <a:ext cx="3962160" cy="320040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Bell MT"/>
              </a:rPr>
              <a:t>УРОК ОКРУЖАЮЩЕГО МИРА </a:t>
            </a:r>
            <a:br>
              <a:rPr sz="4000"/>
            </a:br>
            <a:r>
              <a:rPr b="1" lang="ru-RU" sz="6600" spc="-1" strike="noStrike">
                <a:solidFill>
                  <a:srgbClr val="0000cc"/>
                </a:solidFill>
                <a:latin typeface="Bodoni MT"/>
              </a:rPr>
              <a:t>во 2 классе</a:t>
            </a:r>
            <a:r>
              <a:rPr b="1" lang="ru-RU" sz="6600" spc="-1" strike="noStrike">
                <a:solidFill>
                  <a:srgbClr val="0000cc"/>
                </a:solidFill>
                <a:latin typeface="Arial Black"/>
              </a:rPr>
              <a:t> </a:t>
            </a:r>
            <a:br>
              <a:rPr sz="6600"/>
            </a:br>
            <a:r>
              <a:rPr b="1" lang="ru-RU" sz="6600" spc="-1" strike="noStrike">
                <a:solidFill>
                  <a:srgbClr val="0000cc"/>
                </a:solidFill>
                <a:latin typeface="Arial Black"/>
              </a:rPr>
              <a:t> </a:t>
            </a:r>
            <a:r>
              <a:rPr b="1" lang="ru-RU" sz="6600" spc="-1" strike="noStrike">
                <a:solidFill>
                  <a:srgbClr val="0000cc"/>
                </a:solidFill>
                <a:latin typeface="Century"/>
              </a:rPr>
              <a:t>«НЕЖИВАЯ И ЖИВАЯ ПРИРОДА»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304920" y="5334120"/>
            <a:ext cx="57909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ПРОВЕРЬ СЕБ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1058760" y="1600200"/>
          <a:ext cx="5253120" cy="4479840"/>
        </p:xfrm>
        <a:graphic>
          <a:graphicData uri="http://schemas.openxmlformats.org/drawingml/2006/table">
            <a:tbl>
              <a:tblPr/>
              <a:tblGrid>
                <a:gridCol w="712800"/>
                <a:gridCol w="727200"/>
                <a:gridCol w="758880"/>
                <a:gridCol w="771480"/>
                <a:gridCol w="770040"/>
                <a:gridCol w="782640"/>
                <a:gridCol w="730080"/>
              </a:tblGrid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 </a:t>
                      </a: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4" name="Rectangle 158"/>
          <p:cNvSpPr/>
          <p:nvPr/>
        </p:nvSpPr>
        <p:spPr>
          <a:xfrm>
            <a:off x="6934320" y="1676520"/>
            <a:ext cx="22096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2. Летом бежит, 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А зимой стоит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ПРОВЕРЬ СЕБ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914400" y="1600200"/>
          <a:ext cx="5105520" cy="4608360"/>
        </p:xfrm>
        <a:graphic>
          <a:graphicData uri="http://schemas.openxmlformats.org/drawingml/2006/table">
            <a:tbl>
              <a:tblPr/>
              <a:tblGrid>
                <a:gridCol w="685800"/>
                <a:gridCol w="693720"/>
                <a:gridCol w="758880"/>
                <a:gridCol w="757080"/>
                <a:gridCol w="739800"/>
                <a:gridCol w="760680"/>
                <a:gridCol w="709560"/>
              </a:tblGrid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7" name="Rectangle 138"/>
          <p:cNvSpPr/>
          <p:nvPr/>
        </p:nvSpPr>
        <p:spPr>
          <a:xfrm>
            <a:off x="6019920" y="1676520"/>
            <a:ext cx="29718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3. Хвост пушистый, 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Мех золотистый,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В лесу живет, 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В деревне кур крадет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ПРОВЕРЬ СЕБ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685800" y="1600200"/>
          <a:ext cx="4876920" cy="4516560"/>
        </p:xfrm>
        <a:graphic>
          <a:graphicData uri="http://schemas.openxmlformats.org/drawingml/2006/table">
            <a:tbl>
              <a:tblPr/>
              <a:tblGrid>
                <a:gridCol w="646200"/>
                <a:gridCol w="671400"/>
                <a:gridCol w="762120"/>
                <a:gridCol w="685800"/>
                <a:gridCol w="706320"/>
                <a:gridCol w="727200"/>
                <a:gridCol w="677880"/>
              </a:tblGrid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0" name="Rectangle 123"/>
          <p:cNvSpPr/>
          <p:nvPr/>
        </p:nvSpPr>
        <p:spPr>
          <a:xfrm>
            <a:off x="5638680" y="1676520"/>
            <a:ext cx="33530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4. Непоседа пестрая, 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Птица длиннохвостая,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Птица говорливая, 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Самая болтлива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ПРОВЕРЬ СЕБ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712" name=""/>
          <p:cNvGraphicFramePr/>
          <p:nvPr/>
        </p:nvGraphicFramePr>
        <p:xfrm>
          <a:off x="609480" y="1600200"/>
          <a:ext cx="4648320" cy="4637160"/>
        </p:xfrm>
        <a:graphic>
          <a:graphicData uri="http://schemas.openxmlformats.org/drawingml/2006/table">
            <a:tbl>
              <a:tblPr/>
              <a:tblGrid>
                <a:gridCol w="615960"/>
                <a:gridCol w="619200"/>
                <a:gridCol w="747720"/>
                <a:gridCol w="652320"/>
                <a:gridCol w="673200"/>
                <a:gridCol w="693720"/>
                <a:gridCol w="64620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3" name="Rectangle 121"/>
          <p:cNvSpPr/>
          <p:nvPr/>
        </p:nvSpPr>
        <p:spPr>
          <a:xfrm>
            <a:off x="5334120" y="1676520"/>
            <a:ext cx="35812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5. Ну-ка, кто из вас ответит: 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Не огонь, а больно жжет,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Не фонарь, а ярко светит, 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Не пекарь, а печет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3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ПРОВЕРЬ СЕБ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685800" y="1600200"/>
          <a:ext cx="4267080" cy="4481640"/>
        </p:xfrm>
        <a:graphic>
          <a:graphicData uri="http://schemas.openxmlformats.org/drawingml/2006/table">
            <a:tbl>
              <a:tblPr/>
              <a:tblGrid>
                <a:gridCol w="565200"/>
                <a:gridCol w="568440"/>
                <a:gridCol w="631800"/>
                <a:gridCol w="596880"/>
                <a:gridCol w="676080"/>
                <a:gridCol w="635040"/>
                <a:gridCol w="593640"/>
              </a:tblGrid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6" name="Rectangle 131"/>
          <p:cNvSpPr/>
          <p:nvPr/>
        </p:nvSpPr>
        <p:spPr>
          <a:xfrm>
            <a:off x="5029200" y="1676520"/>
            <a:ext cx="38862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6. В этом белом ,сундучище 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Мы храним на полках пищу.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На дворе стоит жарища, 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В сундучище - холодищ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ПРОВЕРЬ СЕБ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718" name=""/>
          <p:cNvGraphicFramePr/>
          <p:nvPr/>
        </p:nvGraphicFramePr>
        <p:xfrm>
          <a:off x="609480" y="1600200"/>
          <a:ext cx="4343400" cy="4394160"/>
        </p:xfrm>
        <a:graphic>
          <a:graphicData uri="http://schemas.openxmlformats.org/drawingml/2006/table">
            <a:tbl>
              <a:tblPr/>
              <a:tblGrid>
                <a:gridCol w="574920"/>
                <a:gridCol w="579240"/>
                <a:gridCol w="642960"/>
                <a:gridCol w="608040"/>
                <a:gridCol w="642960"/>
                <a:gridCol w="690480"/>
                <a:gridCol w="604800"/>
              </a:tblGrid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9" name="Rectangle 122"/>
          <p:cNvSpPr/>
          <p:nvPr/>
        </p:nvSpPr>
        <p:spPr>
          <a:xfrm>
            <a:off x="5029200" y="1676520"/>
            <a:ext cx="38862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7. Что же это за девица? 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Не швея</a:t>
            </a: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. </a:t>
            </a: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Не мастерица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Ничего сама не шьет, 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А в иголках круглый год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4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8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ПРОВЕРЬ СЕБ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721" name=""/>
          <p:cNvGraphicFramePr/>
          <p:nvPr/>
        </p:nvGraphicFramePr>
        <p:xfrm>
          <a:off x="1600200" y="1752480"/>
          <a:ext cx="5867280" cy="4500720"/>
        </p:xfrm>
        <a:graphic>
          <a:graphicData uri="http://schemas.openxmlformats.org/drawingml/2006/table">
            <a:tbl>
              <a:tblPr/>
              <a:tblGrid>
                <a:gridCol w="776160"/>
                <a:gridCol w="782640"/>
                <a:gridCol w="868320"/>
                <a:gridCol w="822600"/>
                <a:gridCol w="868320"/>
                <a:gridCol w="931680"/>
                <a:gridCol w="8175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бъясни схему.</a:t>
            </a:r>
            <a:br>
              <a:rPr sz="4400"/>
            </a:b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Что обозначают стрелки на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этой схеме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5105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ведите примеры, что относится к неживой, а что - к живой природ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ъясните, как связаны между собой неживая и живая прир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4" name="Picture 4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7057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4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100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1000"/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30592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ff33"/>
                </a:solidFill>
                <a:latin typeface="Complex"/>
              </a:rPr>
              <a:t>Благодарю за работу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Complex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 u="sng">
                <a:solidFill>
                  <a:srgbClr val="ffc000"/>
                </a:solidFill>
                <a:uFillTx/>
                <a:latin typeface="Complex"/>
              </a:rPr>
              <a:t> </a:t>
            </a:r>
            <a:r>
              <a:rPr b="1" i="1" lang="ru-RU" sz="9600" spc="-1" strike="noStrike" u="sng">
                <a:solidFill>
                  <a:srgbClr val="ffc000"/>
                </a:solidFill>
                <a:uFillTx/>
                <a:latin typeface="Complex"/>
              </a:rPr>
              <a:t>Вы молодцы!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ut thruBlk="true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98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98" fill="hold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/>
          </p:nvPr>
        </p:nvSpPr>
        <p:spPr>
          <a:xfrm>
            <a:off x="609120" y="3808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Посмотри, мой милый друг,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36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Что находится вокруг?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36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Небо светло-голубое,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36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Солнце светит золотое,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36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Ветер листьями играет,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36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Тучка в небе проплывает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36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Поле, речка и трава,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36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Горы, воздух и листва,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36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Птицы, звери и леса,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36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Гром, туманы и роса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36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Человек и время года –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36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Это все вокруг…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36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(природа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6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6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6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6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6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6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6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6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6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6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2000"/>
                            </p:stCondLst>
                            <p:childTnLst>
                              <p:par>
                                <p:cTn id="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6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6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6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7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/>
          </p:nvPr>
        </p:nvSpPr>
        <p:spPr>
          <a:xfrm>
            <a:off x="6094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66"/>
                </a:solidFill>
                <a:latin typeface="Garamond"/>
              </a:rPr>
              <a:t>КАКАЯ ПОГОДА БЫВАЕТ ЛЕТОМ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1" name="Picture 4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2514600" cy="205128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5" descr=""/>
          <p:cNvPicPr/>
          <p:nvPr/>
        </p:nvPicPr>
        <p:blipFill>
          <a:blip r:embed="rId2"/>
          <a:stretch/>
        </p:blipFill>
        <p:spPr>
          <a:xfrm>
            <a:off x="6019920" y="1676520"/>
            <a:ext cx="2438280" cy="21333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6" descr=""/>
          <p:cNvPicPr/>
          <p:nvPr/>
        </p:nvPicPr>
        <p:blipFill>
          <a:blip r:embed="rId3"/>
          <a:stretch/>
        </p:blipFill>
        <p:spPr>
          <a:xfrm>
            <a:off x="4572000" y="3962520"/>
            <a:ext cx="2743200" cy="21333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7" descr=""/>
          <p:cNvPicPr/>
          <p:nvPr/>
        </p:nvPicPr>
        <p:blipFill>
          <a:blip r:embed="rId4"/>
          <a:stretch/>
        </p:blipFill>
        <p:spPr>
          <a:xfrm>
            <a:off x="533520" y="3886200"/>
            <a:ext cx="259056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201680" y="277560"/>
            <a:ext cx="748512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ccff33"/>
                </a:solidFill>
                <a:latin typeface="Times New Roman"/>
              </a:rPr>
              <a:t>ЧТО ТАКОЕ ПРИРОДА?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676" name="Picture 4" descr=""/>
          <p:cNvPicPr/>
          <p:nvPr/>
        </p:nvPicPr>
        <p:blipFill>
          <a:blip r:embed="rId1"/>
          <a:stretch/>
        </p:blipFill>
        <p:spPr>
          <a:xfrm rot="1956600">
            <a:off x="527040" y="1390680"/>
            <a:ext cx="1905120" cy="170172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5" descr=""/>
          <p:cNvPicPr/>
          <p:nvPr/>
        </p:nvPicPr>
        <p:blipFill>
          <a:blip r:embed="rId2"/>
          <a:stretch/>
        </p:blipFill>
        <p:spPr>
          <a:xfrm rot="20217600">
            <a:off x="6735600" y="1515600"/>
            <a:ext cx="2149560" cy="160524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6" descr=""/>
          <p:cNvPicPr/>
          <p:nvPr/>
        </p:nvPicPr>
        <p:blipFill>
          <a:blip r:embed="rId3"/>
          <a:stretch/>
        </p:blipFill>
        <p:spPr>
          <a:xfrm rot="19576200">
            <a:off x="533520" y="4419720"/>
            <a:ext cx="1828800" cy="148572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7" descr=""/>
          <p:cNvPicPr/>
          <p:nvPr/>
        </p:nvPicPr>
        <p:blipFill>
          <a:blip r:embed="rId4"/>
          <a:stretch/>
        </p:blipFill>
        <p:spPr>
          <a:xfrm rot="1377000">
            <a:off x="6783120" y="4327560"/>
            <a:ext cx="2019240" cy="171432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8" descr=""/>
          <p:cNvPicPr/>
          <p:nvPr/>
        </p:nvPicPr>
        <p:blipFill>
          <a:blip r:embed="rId5"/>
          <a:stretch/>
        </p:blipFill>
        <p:spPr>
          <a:xfrm>
            <a:off x="3352680" y="2819520"/>
            <a:ext cx="2362320" cy="1942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ccff33"/>
                </a:solidFill>
                <a:latin typeface="Times New Roman"/>
              </a:rPr>
              <a:t>НЕЖИВАЯ  ПРИРОДА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e1"/>
                </a:solidFill>
                <a:latin typeface="Arial"/>
              </a:rPr>
              <a:t>СОЛН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4"/>
          <p:cNvSpPr/>
          <p:nvPr/>
        </p:nvSpPr>
        <p:spPr>
          <a:xfrm>
            <a:off x="685800" y="2590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e1"/>
                </a:solidFill>
                <a:latin typeface="Arial"/>
              </a:rPr>
              <a:t>ЗВЕЗДЫ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Rectangle 5"/>
          <p:cNvSpPr/>
          <p:nvPr/>
        </p:nvSpPr>
        <p:spPr>
          <a:xfrm>
            <a:off x="685800" y="35053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e1"/>
                </a:solidFill>
                <a:latin typeface="Arial"/>
              </a:rPr>
              <a:t>ВОЗДУХ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5" name="Rectangle 6"/>
          <p:cNvSpPr/>
          <p:nvPr/>
        </p:nvSpPr>
        <p:spPr>
          <a:xfrm>
            <a:off x="762120" y="4419720"/>
            <a:ext cx="5410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e1"/>
                </a:solidFill>
                <a:latin typeface="Arial"/>
              </a:rPr>
              <a:t>ВОД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762120" y="5410080"/>
            <a:ext cx="2819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e1"/>
                </a:solidFill>
                <a:latin typeface="Arial"/>
              </a:rPr>
              <a:t>КАМНИ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ff33"/>
                </a:solidFill>
                <a:latin typeface="Arial Black"/>
              </a:rPr>
              <a:t>ЖИВАЯ  ПРИРОДА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8" name="Rectangle 4"/>
          <p:cNvSpPr/>
          <p:nvPr/>
        </p:nvSpPr>
        <p:spPr>
          <a:xfrm>
            <a:off x="914400" y="1523880"/>
            <a:ext cx="6858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РАСТЕНИЯ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9" name="Rectangle 6"/>
          <p:cNvSpPr/>
          <p:nvPr/>
        </p:nvSpPr>
        <p:spPr>
          <a:xfrm>
            <a:off x="914400" y="27432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ГРИБ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Rectangle 8"/>
          <p:cNvSpPr/>
          <p:nvPr/>
        </p:nvSpPr>
        <p:spPr>
          <a:xfrm>
            <a:off x="914400" y="39625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ЖИВОТНЫЕ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Rectangle 9"/>
          <p:cNvSpPr/>
          <p:nvPr/>
        </p:nvSpPr>
        <p:spPr>
          <a:xfrm>
            <a:off x="9144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ЧЕЛОВЕК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8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WordArt 4"/>
          <p:cNvSpPr txBox="1"/>
          <p:nvPr/>
        </p:nvSpPr>
        <p:spPr>
          <a:xfrm rot="20552400">
            <a:off x="561600" y="-961560"/>
            <a:ext cx="7443720" cy="6121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8950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изкультминутк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93" name="Picture 6" descr="j0215306"/>
          <p:cNvPicPr/>
          <p:nvPr/>
        </p:nvPicPr>
        <p:blipFill>
          <a:blip r:embed="rId3"/>
          <a:stretch/>
        </p:blipFill>
        <p:spPr>
          <a:xfrm>
            <a:off x="3048120" y="1600200"/>
            <a:ext cx="2235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1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Tahoma"/>
              </a:rPr>
              <a:t>ПРИРОДА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5" name="Rectangle 4"/>
          <p:cNvSpPr/>
          <p:nvPr/>
        </p:nvSpPr>
        <p:spPr>
          <a:xfrm>
            <a:off x="457200" y="2666880"/>
            <a:ext cx="3048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НЕЖИВАЯ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6" name="Rectangle 5"/>
          <p:cNvSpPr/>
          <p:nvPr/>
        </p:nvSpPr>
        <p:spPr>
          <a:xfrm>
            <a:off x="5791320" y="2743200"/>
            <a:ext cx="2514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ЖИВАЯ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7" name="Line 9"/>
          <p:cNvSpPr/>
          <p:nvPr/>
        </p:nvSpPr>
        <p:spPr>
          <a:xfrm flipH="1">
            <a:off x="1752120" y="1371600"/>
            <a:ext cx="213372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8" name="Line 10"/>
          <p:cNvSpPr/>
          <p:nvPr/>
        </p:nvSpPr>
        <p:spPr>
          <a:xfrm>
            <a:off x="4495680" y="1371600"/>
            <a:ext cx="198144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057040" y="228600"/>
            <a:ext cx="4800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ПРОВЕРЬ СЕБ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700" name=""/>
          <p:cNvGraphicFramePr/>
          <p:nvPr/>
        </p:nvGraphicFramePr>
        <p:xfrm>
          <a:off x="685800" y="1523880"/>
          <a:ext cx="5257800" cy="4437360"/>
        </p:xfrm>
        <a:graphic>
          <a:graphicData uri="http://schemas.openxmlformats.org/drawingml/2006/table">
            <a:tbl>
              <a:tblPr/>
              <a:tblGrid>
                <a:gridCol w="712800"/>
                <a:gridCol w="708120"/>
                <a:gridCol w="780840"/>
                <a:gridCol w="770040"/>
                <a:gridCol w="762120"/>
                <a:gridCol w="761760"/>
                <a:gridCol w="762120"/>
              </a:tblGrid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5 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1" name="Rectangle 1836"/>
          <p:cNvSpPr/>
          <p:nvPr/>
        </p:nvSpPr>
        <p:spPr>
          <a:xfrm>
            <a:off x="6095880" y="1676520"/>
            <a:ext cx="3048120" cy="3504960"/>
          </a:xfrm>
          <a:prstGeom prst="rect">
            <a:avLst/>
          </a:prstGeom>
          <a:noFill/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1. Тронь, только тронь – 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Отдерешь ладонь: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Обжигает трава, 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 Как огонь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1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4-09-01T15:17:06Z</dcterms:modified>
  <cp:revision>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