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image19.jpeg" ContentType="image/jpeg"/>
  <Override PartName="/ppt/media/image21.jpeg" ContentType="image/jpeg"/>
  <Override PartName="/ppt/media/image17.gif" ContentType="image/gif"/>
  <Override PartName="/ppt/media/image16.gif" ContentType="image/gif"/>
  <Override PartName="/ppt/media/image8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DF014-0794-406C-B020-C715393C89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E8B36-59C5-4A38-9BDB-3D9626427F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E5E30-B6C6-4F21-A582-00CFFFFC66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6300F-E0D3-4C6B-957F-EBB37E12C7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A686C-9212-4A10-B9D5-66E5472F81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8E006-C2C3-4187-A2ED-6135246935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AE5D7-CDD8-4E5C-BF7A-5C65EE4830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DB3BE-BD3C-4239-93B3-BDC305F1EC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A03E7-3322-4F69-A24A-30993004FE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624FA-F93B-49F0-A211-480B662367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37C-C634-48F4-A238-B4B4F050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19D-20F0-44C9-8927-EABED9FE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462-2093-4CDB-A870-0AFED6B8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794-5E60-4590-9281-94BD23AB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B03-C085-425A-86B7-DDE514B2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D47-84B1-40CA-B846-028780DD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195-3B6D-4E42-9B33-748E936C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D7B-E0F7-482D-95FC-E7639834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F8A-DFF4-4F9A-BBC4-3B9A32C5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943-ED60-40A0-9278-3EA10800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A2B-2D0A-4EE6-8A76-B7A2B654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52D-19C5-4758-B8E8-8F3F4B29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042FA9-E5F7-44F3-8DE4-E5760A779D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323640"/>
            <a:ext cx="9070920" cy="7235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0500" spc="-1" strike="noStrike">
                <a:solidFill>
                  <a:srgbClr val="6600ff"/>
                </a:solidFill>
                <a:latin typeface="Arial"/>
              </a:rPr>
              <a:t>Звезды и созвездия</a:t>
            </a:r>
            <a:br>
              <a:rPr sz="9600"/>
            </a:br>
            <a:br>
              <a:rPr sz="9600"/>
            </a:b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Выполнила: Ермолина Ирина Аркадьевна,</a:t>
            </a:r>
            <a:br>
              <a:rPr sz="2400"/>
            </a:b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учитель начальных классов МОУ «Гимназия имени Сергия Радонежского»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201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02920" y="61092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езды имеют различные цвета - одни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л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другие </a:t>
            </a: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жёлт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третьи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рас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Белый цвет имеют, например, Сириус и Вега, желтый - Капелла, красный - Бетельгейзе и Антарес. Подобно нагреваемому куску железа, 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белые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звезды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более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горячие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красные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мене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5184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Полярная зв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3419280"/>
            <a:ext cx="9070920" cy="333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ая знаменитая звезда (кроме Солнца), называется Полярная. Знаменита она тем, что она всегда указывает на север нашей Земли. Поэтому древние путешественники и мореплаватели всегда использовали ее, чтобы не сбиться с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503280" y="1619280"/>
            <a:ext cx="324000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x_4a1fcce2"/>
          <p:cNvPicPr/>
          <p:nvPr/>
        </p:nvPicPr>
        <p:blipFill>
          <a:blip r:embed="rId2"/>
          <a:stretch/>
        </p:blipFill>
        <p:spPr>
          <a:xfrm>
            <a:off x="5761080" y="179280"/>
            <a:ext cx="4174920" cy="2880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0011-011-Po-kovshu-Bolshoj-medveditsy-legko-opredelit-severnoe-napravlenie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созвез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39280" y="3419640"/>
            <a:ext cx="907092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нтазируя, наши предки стали объединять самые яркие звезды в очертания знакомых им животных и сказочных героев. Так, например, возникло созвездие Большой Медведицы, Гончих Псов, Лебе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0" t="4870" r="0" b="46415"/>
          <a:stretch/>
        </p:blipFill>
        <p:spPr>
          <a:xfrm>
            <a:off x="1079640" y="1440000"/>
            <a:ext cx="7551720" cy="2160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zodiak"/>
          <p:cNvPicPr/>
          <p:nvPr/>
        </p:nvPicPr>
        <p:blipFill>
          <a:blip r:embed="rId1"/>
          <a:stretch/>
        </p:blipFill>
        <p:spPr>
          <a:xfrm>
            <a:off x="0" y="395280"/>
            <a:ext cx="10080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48416477_big_small_pes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lev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fc0996cdf69e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dracon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23640" y="1618920"/>
            <a:ext cx="56163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вездие Большой Медведицы изображено на флаге Аляс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риус вместе с четырьмя яркими звёздами созвездия Большого Пса изображён на флаге Бразил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7020000" y="1619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rcRect l="7559" t="13596" r="9283" b="10799"/>
          <a:stretch/>
        </p:blipFill>
        <p:spPr>
          <a:xfrm>
            <a:off x="6659640" y="4319640"/>
            <a:ext cx="3240000" cy="1979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015-015-Est-mnogo-bezymjannykh-Sozvezdij-v-gornoj-vyshine-Dlja-nashikh-slabykh"/>
          <p:cNvPicPr/>
          <p:nvPr/>
        </p:nvPicPr>
        <p:blipFill>
          <a:blip r:embed="rId1"/>
          <a:stretch/>
        </p:blipFill>
        <p:spPr>
          <a:xfrm>
            <a:off x="0" y="0"/>
            <a:ext cx="9864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3280" y="1619280"/>
            <a:ext cx="651672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индейцев сиу Большая Медведица была... скунс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о армянскому мифу, семь звёзд Большой Медведицы - семь кумушек, превращённых разгневанным богом в семь звёз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захи представляли Большую Медведицу арканом (верев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7199280" y="1979640"/>
            <a:ext cx="2700360" cy="1455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7199280" y="4140360"/>
            <a:ext cx="2700360" cy="2879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573840" y="1068120"/>
            <a:ext cx="745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i?id=52661149-59-72&amp;n=21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?id=491813453-19-72&amp;n=21"/>
          <p:cNvPicPr/>
          <p:nvPr/>
        </p:nvPicPr>
        <p:blipFill>
          <a:blip r:embed="rId1"/>
          <a:stretch/>
        </p:blipFill>
        <p:spPr>
          <a:xfrm>
            <a:off x="1871640" y="1619280"/>
            <a:ext cx="6408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50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_624df_62fa3785_XL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572400" y="1692000"/>
            <a:ext cx="75960" cy="7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11000"/>
          </a:bodyPr>
          <a:p>
            <a:pPr marL="37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omegacen_umi_big_t2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ngc290_hst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0003-003-Zvezdy-na-nebe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е бывают зве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8000" y="1979280"/>
            <a:ext cx="90709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зды бывают разного размера: самая большая известная звезда — Бетельгейзе. Её размер больше миллиарда километров — это в тысячу раз больше нашего Солн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ая маленькая звезда — примерно в сто раз меньше Сол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408560" y="1979640"/>
            <a:ext cx="631800" cy="72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240000" y="2082960"/>
            <a:ext cx="452520" cy="528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5759280" y="126036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Arial"/>
              </a:rPr>
              <a:t>Размер звёз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573840" y="1068120"/>
            <a:ext cx="745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сравнительные размеры Солнца, звезд гигантов и звезд карликов"/>
          <p:cNvPicPr/>
          <p:nvPr/>
        </p:nvPicPr>
        <p:blipFill>
          <a:blip r:embed="rId1"/>
          <a:stretch/>
        </p:blipFill>
        <p:spPr>
          <a:xfrm>
            <a:off x="0" y="1619280"/>
            <a:ext cx="10080720" cy="594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i?id=267042686-09-72&amp;n=21"/>
          <p:cNvPicPr/>
          <p:nvPr/>
        </p:nvPicPr>
        <p:blipFill>
          <a:blip r:embed="rId2"/>
          <a:stretch/>
        </p:blipFill>
        <p:spPr>
          <a:xfrm>
            <a:off x="0" y="0"/>
            <a:ext cx="2448000" cy="1619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8:38:57Z</dcterms:created>
  <dc:creator>Евгений </dc:creator>
  <dc:description/>
  <dc:language>en-US</dc:language>
  <cp:lastModifiedBy>Пользователь Windows</cp:lastModifiedBy>
  <dcterms:modified xsi:type="dcterms:W3CDTF">2013-10-30T15:46:42Z</dcterms:modified>
  <cp:revision>20</cp:revision>
  <dc:subject/>
  <dc:title>Звезды и созвездия</dc:title>
</cp:coreProperties>
</file>