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8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2EC4D-2F67-4FE3-AE69-D3A8F8C292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3D90-730C-4A69-ADEE-486CC394A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7CC7E-D73D-4A03-9EA9-8AFD81882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B936-B7A4-4B1A-B4DA-D227D46DE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DA9EE-76B8-4A9E-8A6E-8F1A0DD473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C505-E549-48B3-9038-5FDA2DADE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8C799-152F-4E5B-A127-E032445C6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15729-AEDF-4295-83A8-15C78478C8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36187-3742-47F5-AE17-8F0F043A8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0EA5F-35E1-4BB1-9B3B-5AE21BCA67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5FE-E136-4B7E-B3CD-4DEFBA92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156-CA03-4A77-85F0-BD3F09D8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99D-5ACA-4929-B97E-AAC402B4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2D5-0473-4565-BCDB-61B4F66F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C4F-1AB2-4F88-95AD-3BBA3B65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63D-177A-44DC-AF69-57B6AEF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BB2-BBFB-48F5-8740-4A7BA28D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60E-AF0E-494D-B723-E5244517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E6B-362C-45B8-A110-A222C5A2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9B6-E6D3-45ED-B59A-96ED238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56D-F2DC-4A16-A243-5DFF62F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C32-4C6A-40FA-A581-2B7C3DA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89D109-8C0A-4CC1-B14F-2011736E8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323640"/>
            <a:ext cx="9070920" cy="7235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0500" spc="-1" strike="noStrike">
                <a:solidFill>
                  <a:srgbClr val="6600ff"/>
                </a:solidFill>
                <a:latin typeface="Arial"/>
              </a:rPr>
              <a:t>Звезды и созвездия</a:t>
            </a:r>
            <a:br>
              <a:rPr sz="9600"/>
            </a:br>
            <a:br>
              <a:rPr sz="96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Выполнила: Ермолина Ирина Аркадьевна,</a:t>
            </a: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учитель начальных классов МОУ «Гимназия имени Сергия Радонежского»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610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зды имеют различные цвета - одни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другие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жёлт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треть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Белый цвет имеют, например, Сириус и Вега, желтый - Капелла, красный - Бетельгейзе и Антарес. Подобно нагреваемому куску железа, 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звезды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оле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орячи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ене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518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Полярн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3419280"/>
            <a:ext cx="9070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знаменитая звезда (кроме Солнца), называется Полярная. Знаменита она тем, что она всегда указывает на север нашей Земли. Поэтому древние путешественники и мореплаватели всегда использовали ее, чтобы не сб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03280" y="1619280"/>
            <a:ext cx="32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x_4a1fcce2"/>
          <p:cNvPicPr/>
          <p:nvPr/>
        </p:nvPicPr>
        <p:blipFill>
          <a:blip r:embed="rId2"/>
          <a:stretch/>
        </p:blipFill>
        <p:spPr>
          <a:xfrm>
            <a:off x="5761080" y="179280"/>
            <a:ext cx="4174920" cy="288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011-011-Po-kovshu-Bolshoj-medveditsy-legko-opredelit-severnoe-napravleni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созвез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9280" y="3419640"/>
            <a:ext cx="907092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зируя, наши предки стали объединять самые яркие звезды в очертания знакомых им животных и сказочных героев. Так, например, возникло созвездие Большой Медведицы, Гончих Псов, Леб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4870" r="0" b="46415"/>
          <a:stretch/>
        </p:blipFill>
        <p:spPr>
          <a:xfrm>
            <a:off x="1079640" y="1440000"/>
            <a:ext cx="7551720" cy="216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zodiak"/>
          <p:cNvPicPr/>
          <p:nvPr/>
        </p:nvPicPr>
        <p:blipFill>
          <a:blip r:embed="rId1"/>
          <a:stretch/>
        </p:blipFill>
        <p:spPr>
          <a:xfrm>
            <a:off x="0" y="395280"/>
            <a:ext cx="10080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48416477_big_small_pes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ev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c0996cdf69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racon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161892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Большой Медведицы изображено на флаге Аля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риус вместе с четырьмя яркими звёздами созвездия Большого Пса изображён на флаге Брази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020000" y="1619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7559" t="13596" r="9283" b="10799"/>
          <a:stretch/>
        </p:blipFill>
        <p:spPr>
          <a:xfrm>
            <a:off x="6659640" y="431964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15-015-Est-mnogo-bezymjannykh-Sozvezdij-v-gornoj-vyshine-Dlja-nashikh-slabykh"/>
          <p:cNvPicPr/>
          <p:nvPr/>
        </p:nvPicPr>
        <p:blipFill>
          <a:blip r:embed="rId1"/>
          <a:stretch/>
        </p:blipFill>
        <p:spPr>
          <a:xfrm>
            <a:off x="0" y="0"/>
            <a:ext cx="9864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3280" y="1619280"/>
            <a:ext cx="65167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индейцев сиу Большая Медведица была... скун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армянскому мифу, семь звёзд Большой Медведицы - семь кумушек, превращённых разгневанным богом в семь звёз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захи представляли Большую Медведицу арканом (вере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199280" y="1979640"/>
            <a:ext cx="270036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199280" y="4140360"/>
            <a:ext cx="270036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?id=52661149-59-72&amp;n=2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?id=491813453-19-72&amp;n=21"/>
          <p:cNvPicPr/>
          <p:nvPr/>
        </p:nvPicPr>
        <p:blipFill>
          <a:blip r:embed="rId1"/>
          <a:stretch/>
        </p:blipFill>
        <p:spPr>
          <a:xfrm>
            <a:off x="1871640" y="161928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50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_624df_62fa3785_XL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72400" y="169200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11000"/>
          </a:bodyPr>
          <a:p>
            <a:pPr marL="37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megacen_umi_big_t2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gc290_hst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003-003-Zvezdy-na-neb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979280"/>
            <a:ext cx="90709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 бывают разного размера: самая большая известная звезда — Бетельгейзе. Её размер больше миллиарда километров — это в тысячу раз больше нашего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енькая звезда — примерно в сто раз меньше Сол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408560" y="1979640"/>
            <a:ext cx="63180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240000" y="2082960"/>
            <a:ext cx="452520" cy="5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759280" y="1260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Arial"/>
              </a:rPr>
              <a:t>Размер звёз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сравнительные размеры Солнца, звезд гигантов и звезд карликов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i?id=267042686-09-72&amp;n=21"/>
          <p:cNvPicPr/>
          <p:nvPr/>
        </p:nvPicPr>
        <p:blipFill>
          <a:blip r:embed="rId2"/>
          <a:stretch/>
        </p:blipFill>
        <p:spPr>
          <a:xfrm>
            <a:off x="0" y="0"/>
            <a:ext cx="244800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8:38:57Z</dcterms:created>
  <dc:creator>Евгений </dc:creator>
  <dc:description/>
  <dc:language>en-US</dc:language>
  <cp:lastModifiedBy>Пользователь Windows</cp:lastModifiedBy>
  <dcterms:modified xsi:type="dcterms:W3CDTF">2013-10-30T15:46:42Z</dcterms:modified>
  <cp:revision>20</cp:revision>
  <dc:subject/>
  <dc:title>Звезды и созвездия</dc:title>
</cp:coreProperties>
</file>