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9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8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78A0-B225-47F9-A5DC-453CED2086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5E750-D6AF-43E1-9A14-CECD621E72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8B63-AB32-4345-9593-3810FB639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311A8-90E6-42E4-80AD-99BE6BEBB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E277C-2CEF-4198-A9A4-655B4AD1F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4CBBC-9EE3-4C31-B9D9-1061623E51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DE89-CE10-4912-9C5A-BDB80DAFF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03991-67EA-4476-AFC0-151892468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67D1F-48EB-4BA1-A38A-D048E449BA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6A4A5-211A-4206-8066-17AA8FE945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5A6-3C93-4DAA-B8F4-37228310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9BA-C189-4CC2-84D7-07483DE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F60-94D4-438B-BD15-834BAB17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4C1-D7DA-460C-B4AA-4152386A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FF2-EF5A-4C7E-B4BE-3418DCF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8F3-C39A-4AE8-8924-9EE0B068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3F2-E574-44E6-8663-3C30EA1F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8D3-3B97-437C-A091-C341B924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CA7-0DAC-4639-B2EB-1CD00218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CEB-1FEC-4B90-88EA-0864D64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124-FAD2-459F-8973-5DA0714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916-7817-475C-826A-5B8B858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7946FA-7FED-43D1-BE7E-40291DCA5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323640"/>
            <a:ext cx="9070920" cy="7235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0500" spc="-1" strike="noStrike">
                <a:solidFill>
                  <a:srgbClr val="6600ff"/>
                </a:solidFill>
                <a:latin typeface="Arial"/>
              </a:rPr>
              <a:t>Звезды и созвездия</a:t>
            </a:r>
            <a:br>
              <a:rPr sz="9600"/>
            </a:br>
            <a:br>
              <a:rPr sz="96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Выполнила: Ермолина Ирина Аркадьевна,</a:t>
            </a: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учитель начальных классов МОУ «Гимназия имени Сергия Радонежского»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610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зды имеют различные цвета - одни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другие </a:t>
            </a: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жёлт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треть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с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Белый цвет имеют, например, Сириус и Вега, желтый - Капелла, красный - Бетельгейзе и Антарес. Подобно нагреваемому куску железа, 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елы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звезды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оле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горячи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расны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ене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518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Полярн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3419280"/>
            <a:ext cx="907092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знаменитая звезда (кроме Солнца), называется Полярная. Знаменита она тем, что она всегда указывает на север нашей Земли. Поэтому древние путешественники и мореплаватели всегда использовали ее, чтобы не сб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03280" y="1619280"/>
            <a:ext cx="32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x_4a1fcce2"/>
          <p:cNvPicPr/>
          <p:nvPr/>
        </p:nvPicPr>
        <p:blipFill>
          <a:blip r:embed="rId2"/>
          <a:stretch/>
        </p:blipFill>
        <p:spPr>
          <a:xfrm>
            <a:off x="5761080" y="179280"/>
            <a:ext cx="4174920" cy="288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011-011-Po-kovshu-Bolshoj-medveditsy-legko-opredelit-severnoe-napravleni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созвез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9280" y="3419640"/>
            <a:ext cx="907092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азируя, наши предки стали объединять самые яркие звезды в очертания знакомых им животных и сказочных героев. Так, например, возникло созвездие Большой Медведицы, Гончих Псов, Лебе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4870" r="0" b="46415"/>
          <a:stretch/>
        </p:blipFill>
        <p:spPr>
          <a:xfrm>
            <a:off x="1079640" y="1440000"/>
            <a:ext cx="7551720" cy="216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zodiak"/>
          <p:cNvPicPr/>
          <p:nvPr/>
        </p:nvPicPr>
        <p:blipFill>
          <a:blip r:embed="rId1"/>
          <a:stretch/>
        </p:blipFill>
        <p:spPr>
          <a:xfrm>
            <a:off x="0" y="395280"/>
            <a:ext cx="10080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48416477_big_small_pes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ev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c0996cdf69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racon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3640" y="161892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Большой Медведицы изображено на флаге Аляс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риус вместе с четырьмя яркими звёздами созвездия Большого Пса изображён на флаге Бразил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7020000" y="1619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7559" t="13596" r="9283" b="10799"/>
          <a:stretch/>
        </p:blipFill>
        <p:spPr>
          <a:xfrm>
            <a:off x="6659640" y="431964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15-015-Est-mnogo-bezymjannykh-Sozvezdij-v-gornoj-vyshine-Dlja-nashikh-slabykh"/>
          <p:cNvPicPr/>
          <p:nvPr/>
        </p:nvPicPr>
        <p:blipFill>
          <a:blip r:embed="rId1"/>
          <a:stretch/>
        </p:blipFill>
        <p:spPr>
          <a:xfrm>
            <a:off x="0" y="0"/>
            <a:ext cx="9864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3280" y="1619280"/>
            <a:ext cx="651672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индейцев сиу Большая Медведица была... скун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армянскому мифу, семь звёзд Большой Медведицы - семь кумушек, превращённых разгневанным богом в семь звёз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захи представляли Большую Медведицу арканом (вере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199280" y="1979640"/>
            <a:ext cx="2700360" cy="145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7199280" y="4140360"/>
            <a:ext cx="270036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573840" y="1068120"/>
            <a:ext cx="74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?id=52661149-59-72&amp;n=21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?id=491813453-19-72&amp;n=21"/>
          <p:cNvPicPr/>
          <p:nvPr/>
        </p:nvPicPr>
        <p:blipFill>
          <a:blip r:embed="rId1"/>
          <a:stretch/>
        </p:blipFill>
        <p:spPr>
          <a:xfrm>
            <a:off x="1871640" y="161928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50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_624df_62fa3785_XL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72400" y="169200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11000"/>
          </a:bodyPr>
          <a:p>
            <a:pPr marL="37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megacen_umi_big_t2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gc290_hst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003-003-Zvezdy-na-nebe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979280"/>
            <a:ext cx="90709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ы бывают разного размера: самая большая известная звезда — Бетельгейзе. Её размер больше миллиарда километров — это в тысячу раз больше нашего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енькая звезда — примерно в сто раз меньше Сол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408560" y="1979640"/>
            <a:ext cx="631800" cy="7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240000" y="2082960"/>
            <a:ext cx="452520" cy="5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759280" y="1260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Arial"/>
              </a:rPr>
              <a:t>Размер звёз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573840" y="1068120"/>
            <a:ext cx="745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сравнительные размеры Солнца, звезд гигантов и звезд карликов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594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i?id=267042686-09-72&amp;n=21"/>
          <p:cNvPicPr/>
          <p:nvPr/>
        </p:nvPicPr>
        <p:blipFill>
          <a:blip r:embed="rId2"/>
          <a:stretch/>
        </p:blipFill>
        <p:spPr>
          <a:xfrm>
            <a:off x="0" y="0"/>
            <a:ext cx="2448000" cy="1619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8:38:57Z</dcterms:created>
  <dc:creator>Евгений </dc:creator>
  <dc:description/>
  <dc:language>en-US</dc:language>
  <cp:lastModifiedBy>Пользователь Windows</cp:lastModifiedBy>
  <dcterms:modified xsi:type="dcterms:W3CDTF">2013-10-30T15:46:42Z</dcterms:modified>
  <cp:revision>20</cp:revision>
  <dc:subject/>
  <dc:title>Звезды и созвездия</dc:title>
</cp:coreProperties>
</file>