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CC51-BD96-4284-AE98-E67B15A59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8921-5047-4256-90F5-96E3AFA8C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64F3-667C-41A3-8FBC-72CEB1BC8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C85A-D25A-4080-A3E1-61FD760EE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5C6B03-FEF4-49F9-ADD4-CD5B81148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4FB713-437E-4187-842D-359CAD96D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349CB8-63F7-4EA6-87A8-7432135D4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7742A3-4EDF-470C-8626-A9B2F7EAE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F589A9-9469-4AF5-A6F8-44163CE73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B1DE21-1405-471E-A1A3-2B7F80942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473BE1-1696-4F21-AB8E-025842541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E706-5D54-448A-B99C-4473E151D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19DBDE-D0D7-432E-BC6C-407EEEBA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FF400B-63FB-47FD-955B-D3F3A132C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96188E-37CC-4B40-94F4-D38760DB9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200E71-1DBB-4548-99B6-89D991C06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490FD0-DE35-4F39-AD3A-CEF02BD0B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017D-B242-4F5D-91FB-992D1D4AC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B238-47E4-4002-AB98-AEE27A09C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3928-B215-491C-90FA-5782405B9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2FD0-7A0E-49E4-9931-19B65464F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E5B7-0015-4413-8FA6-81C07284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F1B1-CAE1-4C62-B0BB-DD2376A5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497F-2246-43F9-A3A1-C8B89E1B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55280-5599-4E3E-95BD-EFE3F32DD5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02D76-997A-4807-BF2F-CEAC4EBF0EC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ТЕМА УРОКА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79280" y="3716280"/>
            <a:ext cx="827424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Цель урока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рассмотреть отрасль международного туризма как одну из форм услу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познакомиться с видами туризма и отдельными туристическими района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WordArt 5" descr=""/>
          <p:cNvPicPr/>
          <p:nvPr/>
        </p:nvPicPr>
        <p:blipFill>
          <a:blip r:embed="rId1"/>
          <a:stretch/>
        </p:blipFill>
        <p:spPr>
          <a:xfrm>
            <a:off x="324000" y="835200"/>
            <a:ext cx="8362800" cy="21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8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8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8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означить на контурной карте самые посещаемые столицы государств Европы (Берлин, Мадрид, Лихтенштейн, Луксенбург, Осло, Будапешт, Бухарест, Прага, Братислава, Монако, Андорра, Сан-Марино, Рейкьявик, Вена, Париж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ставить рекламу одного из туристических центров мир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0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10450"/>
                            </p:stCondLst>
                            <p:childTnLst>
                              <p:par>
                                <p:cTn id="45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зработать маршрут 3 дневного похода  по родному краю (используя карту атласа Ярославской области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0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7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Международный туризм – перспективная услуг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785600"/>
            <a:ext cx="822960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личество путешественников на 15%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ыми активными путешественниками являются жители Европы 55%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ители Азиатско-Тихоокеанского региона обеспечивают 20% поток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мериканцы – 16%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 каждых 10 туристов 8 путешествует по своему материк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2020 году из каждых 100 жителей планеты 21 будет туристом (середина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X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века - 1 человек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Причины туристического бума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вый уровень производительных сил в эпоху НТ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рбанизация, заставляющая жителей городов искать отдых в других районах и страна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ыстрое развитие воздушного транспорт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ышение качества жизни, увеличение отпусков и доходов насел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ий рост культуры вызывающий познавательные потребности люд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еспечение работой более 200 млн. челове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пространение специальностей полиграфической базы для туриз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3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По целям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125000"/>
            <a:ext cx="47624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аршрутно-познавательны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портивно-оздоровительны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амодеятельны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елов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нгресс-туриз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урортны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ечебны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орнолыжны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естивальны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хотнич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кологическ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Шоп-туриз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лигиозны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чебный и друг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5" descr="sostav"/>
          <p:cNvPicPr/>
          <p:nvPr/>
        </p:nvPicPr>
        <p:blipFill>
          <a:blip r:embed="rId1"/>
          <a:stretch/>
        </p:blipFill>
        <p:spPr>
          <a:xfrm>
            <a:off x="4716360" y="2421000"/>
            <a:ext cx="2232000" cy="2003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P4102591-m"/>
          <p:cNvPicPr/>
          <p:nvPr/>
        </p:nvPicPr>
        <p:blipFill>
          <a:blip r:embed="rId2"/>
          <a:stretch/>
        </p:blipFill>
        <p:spPr>
          <a:xfrm>
            <a:off x="6516720" y="4653000"/>
            <a:ext cx="2305080" cy="20001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12345"/>
          <p:cNvPicPr/>
          <p:nvPr/>
        </p:nvPicPr>
        <p:blipFill>
          <a:blip r:embed="rId3"/>
          <a:stretch/>
        </p:blipFill>
        <p:spPr>
          <a:xfrm>
            <a:off x="6804000" y="260280"/>
            <a:ext cx="2016000" cy="20163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0"/>
          <p:cNvSpPr/>
          <p:nvPr/>
        </p:nvSpPr>
        <p:spPr>
          <a:xfrm>
            <a:off x="3995640" y="4941720"/>
            <a:ext cx="20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о формам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2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2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2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" dur="20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" dur="20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8" dur="2000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4" dur="2000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2000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0" dur="2000"/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2000"/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4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4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Туризм для многих стран – источник доход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5" descr="st_67cde1e8ff1454b8841d9cc04f53394b"/>
          <p:cNvPicPr/>
          <p:nvPr/>
        </p:nvPicPr>
        <p:blipFill>
          <a:blip r:embed="rId1"/>
          <a:stretch/>
        </p:blipFill>
        <p:spPr>
          <a:xfrm>
            <a:off x="395280" y="1773360"/>
            <a:ext cx="2160720" cy="287964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"/>
          <p:cNvSpPr/>
          <p:nvPr/>
        </p:nvSpPr>
        <p:spPr>
          <a:xfrm>
            <a:off x="611280" y="4221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Лихтенштей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8" descr="monaco_3"/>
          <p:cNvPicPr/>
          <p:nvPr/>
        </p:nvPicPr>
        <p:blipFill>
          <a:blip r:embed="rId2"/>
          <a:stretch/>
        </p:blipFill>
        <p:spPr>
          <a:xfrm>
            <a:off x="3564000" y="1573200"/>
            <a:ext cx="3313080" cy="218124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9"/>
          <p:cNvSpPr/>
          <p:nvPr/>
        </p:nvSpPr>
        <p:spPr>
          <a:xfrm>
            <a:off x="3995640" y="162864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Монак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11" descr="pi_200_15_44_14"/>
          <p:cNvPicPr/>
          <p:nvPr/>
        </p:nvPicPr>
        <p:blipFill>
          <a:blip r:embed="rId3"/>
          <a:stretch/>
        </p:blipFill>
        <p:spPr>
          <a:xfrm>
            <a:off x="1116000" y="4718160"/>
            <a:ext cx="3311640" cy="19936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2"/>
          <p:cNvSpPr/>
          <p:nvPr/>
        </p:nvSpPr>
        <p:spPr>
          <a:xfrm>
            <a:off x="1763640" y="479736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Испа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14" descr="st_20e4ac5a68b18aed5a18c4be5201f11c"/>
          <p:cNvPicPr/>
          <p:nvPr/>
        </p:nvPicPr>
        <p:blipFill>
          <a:blip r:embed="rId4"/>
          <a:stretch/>
        </p:blipFill>
        <p:spPr>
          <a:xfrm>
            <a:off x="4932360" y="4076640"/>
            <a:ext cx="3816360" cy="25462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6"/>
          <p:cNvSpPr/>
          <p:nvPr/>
        </p:nvSpPr>
        <p:spPr>
          <a:xfrm>
            <a:off x="7093080" y="4149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Андорр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Лидеры стран по приему туристов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Герм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Япо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Ш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ита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еликобрит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Франц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идерланд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ана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осс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Итал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Что привлекает туристов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сторико-культурные объек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орговые центр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ста жизни и деятельности замечательных люд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альнеологические райо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руиз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ста отдыха, где тепло и уютн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0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3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6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9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2" dur="2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5" dur="2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8" dur="2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Перспективы развития туризма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о данным ВТО на 2020 год 1 место по посещаемости займет Кита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Динамически развивающейся страной станет Турц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оличество туристов возрастает в тро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озрастут затраты и доходы  от туризм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 РФ будет больше въезжающих, чем выезжающи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Больших успехов достигнет Чехия и Польша (туристы без ночлега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Увеличится количество туристов из стран: Нидерланды, Германия, Великобритания, Япония, Канад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ысокие темпы прироста ожидают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Азию + Гонконг и РФ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Тихий океа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Европ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Амери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Российский туризм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азвит слабе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изкий серв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сокая це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достаточная модернизац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лабо развита материально-техническая ба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ля успешного развития необходимо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инансовая поддерж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нижение пошли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вобождение от налог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едоставление кредит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5" descr="map"/>
          <p:cNvPicPr/>
          <p:nvPr/>
        </p:nvPicPr>
        <p:blipFill>
          <a:blip r:embed="rId1"/>
          <a:stretch/>
        </p:blipFill>
        <p:spPr>
          <a:xfrm>
            <a:off x="3914640" y="189000"/>
            <a:ext cx="522936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0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0T16:51:22Z</dcterms:created>
  <dc:creator>Волков</dc:creator>
  <dc:description/>
  <dc:language>en-US</dc:language>
  <cp:lastModifiedBy>ПЛАСТИНИН</cp:lastModifiedBy>
  <dcterms:modified xsi:type="dcterms:W3CDTF">2019-10-08T10:32:00Z</dcterms:modified>
  <cp:revision>24</cp:revision>
  <dc:subject/>
  <dc:title>ТЕМА УРОКА:</dc:title>
</cp:coreProperties>
</file>