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6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07280" y="74754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37720" y="74754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72960" y="1979640"/>
            <a:ext cx="8820360" cy="2711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Arial Black"/>
              </a:rPr>
              <a:t>Столярные шиповые соединения 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1880" y="4680000"/>
            <a:ext cx="420048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Autofit/>
          </a:bodyPr>
          <a:p>
            <a:pPr marL="430200" indent="-324000" algn="ctr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к технического труда в 7 класс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 algn="ctr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иколаев В.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747800"/>
            <a:ext cx="972036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те изделия, окружающие нас в учебной мастерской: столы, стулья, табуреты, шкафы, полки, оконные 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 образом соединены между собой элементы конструкций данных изде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6000" y="324000"/>
            <a:ext cx="972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  каких   случаях применяются  соединения деталей из древесины на гвоздях  и шурупах, клеевые соеди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 примеры  применения этих соеди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йте сравнительный анализ    соединений   на   гвоздях,  шурупах, клеевых  и  шиповых  соединений,  выделите  их  преимущества 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00360" y="3060720"/>
            <a:ext cx="3228840" cy="334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41880" y="2100240"/>
            <a:ext cx="42004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1. ш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2. проу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3. гнез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5840" y="417600"/>
            <a:ext cx="94345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з каких основных элементов состоит любое шиповое соедин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5480" y="539640"/>
            <a:ext cx="845964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ую форму мо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еть ши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м отличается гнездо от проуш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5160" y="5413320"/>
            <a:ext cx="23641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ящичная угловая 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5400720"/>
            <a:ext cx="267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квозной одинарный прямой  ш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6920" y="5400720"/>
            <a:ext cx="2413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оединение на  ус  со сквозным ши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453960"/>
            <a:ext cx="53737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Найт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соот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378160"/>
            <a:ext cx="324036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14760" y="2349360"/>
            <a:ext cx="2865240" cy="2562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659640" y="2340000"/>
            <a:ext cx="3159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485640"/>
            <a:ext cx="80121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Выбор числа шипов на заготовке зависит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8160" y="2606760"/>
            <a:ext cx="82328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 от ширины соединяемых детал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 от толщины соединяемых детал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 от назначения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487440"/>
            <a:ext cx="95630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Найдите  соответствие между количеством шипов и шириной дет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3605040"/>
            <a:ext cx="3290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руски шириной 40…80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59280" y="5580000"/>
            <a:ext cx="2519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руски свыше 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165400"/>
            <a:ext cx="3286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руски шириной до 40 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00360" y="3203640"/>
            <a:ext cx="2857320" cy="155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60720" y="4859280"/>
            <a:ext cx="2376360" cy="144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016000" y="1763640"/>
            <a:ext cx="230508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60360" y="2340000"/>
          <a:ext cx="9180360" cy="341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2340000"/>
                    <a:ext cx="91803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5680" y="720720"/>
            <a:ext cx="993924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6. Практическ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1 Вводный инструктаж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  познакомились с  шиповыми соединениями и технологией  их изготовления. Сегодня мы приступаем к изготовлению рамки ящика для выдачи инструментов. При выполнении работы вы должны применить все свои знания и умения по технологии работы с древесиной. Ваша задача усложняется тем, что ящик содержит многократное шиповое соеди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1042920"/>
            <a:ext cx="88200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ьзуясь техническим рисунком, прочитайте сборочный чертеж ящика для выдачи инстр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учите заготовки на изготовление рамки с шиповыми соедин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читайте размер шипа и проуш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лите шипы, запилите  проуш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репите на верстаке с подкладной доской заготовки с запиленными проушинами и произведите долб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контролируйте качество работы с помощью измерительной лине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гоните стамеской или напильником шипы и проушины до их плотного соеди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клейте шиповые соединения, проверив равенство диагоналей рам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179280"/>
            <a:ext cx="8609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6840" y="539640"/>
            <a:ext cx="9915480" cy="84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создания издел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ревесин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ология изготовления изделий с использованием слож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: «Шиповые  соедин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440000"/>
            <a:ext cx="9539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обходимо надежно закреплять заготовку на верста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ть следует только исправным и хорошо заточенным инструмент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ледует подрезать шипы и проушины стамеской и напильником, держа детали на коленях или в руке, а делать это нужно на верстаке в закрепленном полож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льзя резать древесину стамеской в направлении руки, поддерживающей деталь, нужно двигать стамеску лезвием от себ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ует ударять киянкой точно вдоль оси дол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носить долото (стамеску) можно только лезвием вниз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окончании работы долото (стамеску) нужно класть лезвием от себя. Нужно проследить, чтобы лезвия не выступали за край крышки верс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360" y="179280"/>
            <a:ext cx="9663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аботе с режущими инстр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20840" y="336600"/>
            <a:ext cx="896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и изготовления шипов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790640"/>
            <a:ext cx="504036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роверить ширину заготовок и правильность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0520" y="2989440"/>
            <a:ext cx="38498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метить длину ш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360" y="3059280"/>
            <a:ext cx="8249760" cy="1796760"/>
            <a:chOff x="360360" y="3059280"/>
            <a:chExt cx="8249760" cy="1796760"/>
          </a:xfrm>
        </p:grpSpPr>
        <p:sp>
          <p:nvSpPr>
            <p:cNvPr id="101" name=""/>
            <p:cNvSpPr/>
            <p:nvPr/>
          </p:nvSpPr>
          <p:spPr>
            <a:xfrm>
              <a:off x="360360" y="3798720"/>
              <a:ext cx="49125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421960" y="3059280"/>
              <a:ext cx="3188160" cy="179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87280" y="5364000"/>
            <a:ext cx="8167680" cy="1798920"/>
            <a:chOff x="287280" y="5364000"/>
            <a:chExt cx="8167680" cy="1798920"/>
          </a:xfrm>
        </p:grpSpPr>
        <p:sp>
          <p:nvSpPr>
            <p:cNvPr id="104" name=""/>
            <p:cNvSpPr/>
            <p:nvPr/>
          </p:nvSpPr>
          <p:spPr>
            <a:xfrm>
              <a:off x="287280" y="5464080"/>
              <a:ext cx="59436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3.Разметитьглуб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ну проуши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316480" y="5364000"/>
              <a:ext cx="3138480" cy="179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0920" y="333360"/>
            <a:ext cx="8272440" cy="1484280"/>
            <a:chOff x="250920" y="333360"/>
            <a:chExt cx="8272440" cy="1484280"/>
          </a:xfrm>
        </p:grpSpPr>
        <p:sp>
          <p:nvSpPr>
            <p:cNvPr id="107" name=""/>
            <p:cNvSpPr/>
            <p:nvPr/>
          </p:nvSpPr>
          <p:spPr>
            <a:xfrm>
              <a:off x="250920" y="765000"/>
              <a:ext cx="57751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4.Разметка толщины шип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796000" y="333360"/>
              <a:ext cx="2727360" cy="14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324000" y="2060640"/>
            <a:ext cx="8140680" cy="1374840"/>
            <a:chOff x="324000" y="2060640"/>
            <a:chExt cx="8140680" cy="1374840"/>
          </a:xfrm>
        </p:grpSpPr>
        <p:sp>
          <p:nvSpPr>
            <p:cNvPr id="110" name=""/>
            <p:cNvSpPr/>
            <p:nvPr/>
          </p:nvSpPr>
          <p:spPr>
            <a:xfrm>
              <a:off x="324000" y="2276640"/>
              <a:ext cx="6672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. Разметка ширины проу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5724360" y="2060640"/>
              <a:ext cx="2740320" cy="13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95280" y="3573360"/>
            <a:ext cx="7997760" cy="1228680"/>
            <a:chOff x="395280" y="3573360"/>
            <a:chExt cx="7997760" cy="1228680"/>
          </a:xfrm>
        </p:grpSpPr>
        <p:sp>
          <p:nvSpPr>
            <p:cNvPr id="113" name=""/>
            <p:cNvSpPr/>
            <p:nvPr/>
          </p:nvSpPr>
          <p:spPr>
            <a:xfrm>
              <a:off x="395280" y="3716280"/>
              <a:ext cx="63784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6. Запиливание шипа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724360" y="3573360"/>
              <a:ext cx="2668680" cy="12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68360" y="5157720"/>
            <a:ext cx="7918560" cy="1155600"/>
            <a:chOff x="468360" y="5157720"/>
            <a:chExt cx="7918560" cy="1155600"/>
          </a:xfrm>
        </p:grpSpPr>
        <p:sp>
          <p:nvSpPr>
            <p:cNvPr id="116" name=""/>
            <p:cNvSpPr/>
            <p:nvPr/>
          </p:nvSpPr>
          <p:spPr>
            <a:xfrm>
              <a:off x="468360" y="5157720"/>
              <a:ext cx="70912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7. Отпиливание щечек у шип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5724360" y="5157720"/>
              <a:ext cx="266256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11280" y="333360"/>
            <a:ext cx="7559640" cy="1508040"/>
            <a:chOff x="611280" y="333360"/>
            <a:chExt cx="7559640" cy="1508040"/>
          </a:xfrm>
        </p:grpSpPr>
        <p:sp>
          <p:nvSpPr>
            <p:cNvPr id="119" name=""/>
            <p:cNvSpPr/>
            <p:nvPr/>
          </p:nvSpPr>
          <p:spPr>
            <a:xfrm>
              <a:off x="611280" y="765000"/>
              <a:ext cx="66294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8. Запилива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оуши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5653080" y="333360"/>
            <a:ext cx="2517840" cy="150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53080" y="333360"/>
                      <a:ext cx="25178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179280" y="2349360"/>
            <a:ext cx="7989840" cy="1581120"/>
            <a:chOff x="179280" y="2349360"/>
            <a:chExt cx="7989840" cy="1581120"/>
          </a:xfrm>
        </p:grpSpPr>
        <p:sp>
          <p:nvSpPr>
            <p:cNvPr id="123" name=""/>
            <p:cNvSpPr/>
            <p:nvPr/>
          </p:nvSpPr>
          <p:spPr>
            <a:xfrm>
              <a:off x="179280" y="2709720"/>
              <a:ext cx="7288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9. Выдалбливание проуши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5508720" y="2349360"/>
            <a:ext cx="2660400" cy="158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2349360"/>
                      <a:ext cx="266040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684360" y="4508640"/>
            <a:ext cx="7484760" cy="1796760"/>
            <a:chOff x="684360" y="4508640"/>
            <a:chExt cx="7484760" cy="1796760"/>
          </a:xfrm>
        </p:grpSpPr>
        <p:sp>
          <p:nvSpPr>
            <p:cNvPr id="127" name=""/>
            <p:cNvSpPr/>
            <p:nvPr/>
          </p:nvSpPr>
          <p:spPr>
            <a:xfrm>
              <a:off x="684360" y="4508640"/>
              <a:ext cx="70228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10. Подгонка шипов и проуш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5508720" y="4653000"/>
              <a:ext cx="2660400" cy="165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4000" y="379440"/>
            <a:ext cx="984564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точности и ошибки при изготовлении  шиповы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.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Утолщение ши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б.    Зауженный ши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в.    Смещённый ши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г.     Перекошенный шип по шир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д.   Перекошенный шип по дл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1-2.  Подрезка, подклинка ши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1640" y="2195640"/>
            <a:ext cx="301968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00" y="453960"/>
            <a:ext cx="96789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Многократные шиповые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79640" y="1979640"/>
            <a:ext cx="468000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1960" y="360360"/>
            <a:ext cx="84452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2Самостоятельная  работа 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готовление рамки ящика для выдачи инстр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3Заключительный инструк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54240" y="2717640"/>
            <a:ext cx="40006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76160" y="404640"/>
            <a:ext cx="8709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.4 Уборка рабочих мест и  мастер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. 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8480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3970440"/>
            <a:ext cx="69660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сообщает о достижении целей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ет результаты коллективн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ого труда учащихся на уро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ляет отметки в классный журнал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вники учащих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0360" y="720720"/>
            <a:ext cx="9180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следующем уроке мы продолжим работу над изготовлением ящика: изготовим дно ящика и произведем его сбор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00360" y="3995640"/>
            <a:ext cx="561636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0" y="1704960"/>
            <a:ext cx="101062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7.2 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ого вы узнали сегодня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вы научилас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вам пригодятся знания и умения полученные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равился ли вам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ам понравилось боль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е понрав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308240"/>
            <a:ext cx="97203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ть шиповые столярны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вивать навыки пользования деревообрабатывающим инструментом, разметочным инстру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воспитывать ответственное отношение к труду, упорство в достижении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0960" y="178920"/>
            <a:ext cx="86090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0960" y="1260360"/>
            <a:ext cx="8609040" cy="594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 Столярные работы» Л.Н. Крейндлин                              М. Высшая школа 198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ехническое творчество»  ред. Вронская  И.                    « Молодая гвардия» 195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 Технология» учебник  Симоненко В. 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толярное дело» Мызников В. А.              «Просвещение» М.196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Мебель своими руками» Клятис Г. Я.                     «Лесная промышленность» 1989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720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ческое оснащение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Материально-техническая б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 (столярная мастерская) трудов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, приспособления и инструменты: ножовка столярная для поперечного пиления, ножовка для продольного пиления, рубанок, стамески, долото, рейсмус, линейка измерительная, карандаш, угольник сто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уски из древесины со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539640"/>
            <a:ext cx="918036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Дидактическое обеспе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«Шиповые соедин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е плакаты «Приемы продольного пиления шиповых соединений»,   «Обработка шипов и проушин в разме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цы шиповых соединений: с одинарным шипом, с двойным шипом, с угловым ящичным соедин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ционная карта «Изготовления шипового соедин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карта для практической работы «Изготовление ящика для раздачи инструменто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льтимедийный проектор, компьютер, эк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720720"/>
            <a:ext cx="968544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я :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лядно-демонстрационные, практиче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54400"/>
            <a:ext cx="979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организации познавательной деятельности учащих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онтальная форма,  индивидуально- прак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ный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5360" y="360360"/>
            <a:ext cx="9493200" cy="73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ТРУКТУР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 Организационный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 Инструктаж по Т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 Повторение теоретически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 Нов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 Физкультмину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 Практическая раб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1 Вводный инструкта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2 Самостоятельная  раб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3 Заключительный инструкт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4 Уборка рабочих мест и  всего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7. Подведение итогов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7.1 Рефлек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7.2 Задание на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82440" y="1979640"/>
            <a:ext cx="102740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ель   нашего урока — научиться выполнять простейшие шиповые соед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319640" cy="244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300720" y="2030400"/>
            <a:ext cx="2519280" cy="228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80000" y="4857840"/>
            <a:ext cx="2519280" cy="2162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акие столярные соединения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7:04:07Z</dcterms:created>
  <dc:creator/>
  <dc:description/>
  <dc:language>en-US</dc:language>
  <cp:lastModifiedBy>ирина</cp:lastModifiedBy>
  <dcterms:modified xsi:type="dcterms:W3CDTF">2012-01-26T15:36:44Z</dcterms:modified>
  <cp:revision>20</cp:revision>
  <dc:subject/>
  <dc:title>Урок технического труда в 7 классе. Учитель Ливерук А.М.</dc:title>
</cp:coreProperties>
</file>