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53E-4C0D-4EDA-9C3B-0558C4AC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CBB-801B-4A45-BC3E-C7C3AD7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095-BBF8-4854-8226-4823529F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1DA-D210-460D-8449-A464A424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523-47C0-4467-8672-0375A1A1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A5C-DCC5-44D6-A7F5-77CFB226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997-D6BB-451B-A59D-FB2E7119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184-2518-441A-80E1-649F1A63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4E8-2E2A-4ACB-9A90-5FDE1047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9AC-54B2-4E97-AFE9-E3765AD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F34-8CC5-4325-85E3-0864FA3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286-4CE7-401B-83FC-EEA0A40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67D-B794-47AB-83B9-6DD36732D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9;&#1076;&#1072;&#1088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s://ru.wikipedia.org/wiki/&#1042;&#1099;&#1089;&#1086;&#1090;&#1072;_&#1079;&#1074;&#1091;&#1082;&#1072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БДОУ детский сад № 43 Красносельского района г. Санкт-Петербур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втор: Муз. Руководитель Мирошниченко Елена Геннад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  <a:ea typeface="FangSong"/>
              </a:rPr>
              <a:t>ИГРА  НА БУБ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http://s.chudomama.com/purchases/uploads/abc/f4e/d389dd55c570fb99a6fdc7f46e.jpg"/>
          <p:cNvPicPr/>
          <p:nvPr/>
        </p:nvPicPr>
        <p:blipFill>
          <a:blip r:embed="rId1"/>
          <a:stretch/>
        </p:blipFill>
        <p:spPr>
          <a:xfrm>
            <a:off x="2928960" y="3571920"/>
            <a:ext cx="28573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61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комства с шумовым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БУЕН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Учить детей играть на музыкальном инструменте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Ребята, сегодня мы поговорим о музыкальном инструменте, который называется бубен (показать инструмент). Давайте послушаем , как он звучит и как на нём можно игр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rudocs.exdat.com/pars_docs/tw_refs/344/343215/343215_html_m4251be13.jpg"/>
          <p:cNvPicPr/>
          <p:nvPr/>
        </p:nvPicPr>
        <p:blipFill>
          <a:blip r:embed="rId1"/>
          <a:stretch/>
        </p:blipFill>
        <p:spPr>
          <a:xfrm>
            <a:off x="3071880" y="3570120"/>
            <a:ext cx="3071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БЕН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ударный музыкальный инстру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еопределённ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высоты звуч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состоящий из кожаной мембраны, натянутой на деревянный обод. К некоторым разновидностям бубнов подвешены металлические колокольчики, которые начинают звенеть, когда исполнитель ударяет по мембране бубна, потирает её или встряхивает весь инстру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884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бны бывают разного размера (играть на бубне и раздать деткам и учить правильно держать и играть на бубн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zhaleika.vitebsk.by/files/grafika/bigimages/bub.jpg"/>
          <p:cNvPicPr/>
          <p:nvPr/>
        </p:nvPicPr>
        <p:blipFill>
          <a:blip r:embed="rId3"/>
          <a:stretch/>
        </p:blipFill>
        <p:spPr>
          <a:xfrm>
            <a:off x="3214800" y="3786120"/>
            <a:ext cx="3024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ТМИЧЕСКАЯ ИГРА «ОРКЕСТР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м-бум-бум, бум-бум-бу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бен наш звучи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м-бум-бум, бум-бум-бу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бен вновь звени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ти играют по ритм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sunnyland.com.ua/media/product_images/mir-derevyannyh-igrushek/mdd212-17587.jpg"/>
          <p:cNvPicPr/>
          <p:nvPr/>
        </p:nvPicPr>
        <p:blipFill>
          <a:blip r:embed="rId1"/>
          <a:stretch/>
        </p:blipFill>
        <p:spPr>
          <a:xfrm>
            <a:off x="2214720" y="2857680"/>
            <a:ext cx="4143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ТМИЧЕСКАЯ ИГ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м-там, там-та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бен веселит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м-там, там-та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надо торопится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ти играют на бубн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57200" y="5428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ать вариации на тему русских народных песен, а дети играют на буб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g3.proshkolu.ru/content/media/pic/std/2000000/1108000/1107223-7f5aa3e87cc277a5.jpg"/>
          <p:cNvPicPr/>
          <p:nvPr/>
        </p:nvPicPr>
        <p:blipFill>
          <a:blip r:embed="rId1"/>
          <a:stretch/>
        </p:blipFill>
        <p:spPr>
          <a:xfrm>
            <a:off x="2786040" y="250020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6:02:33Z</dcterms:created>
  <dc:creator>Karen Avagyan</dc:creator>
  <dc:description/>
  <dc:language>en-US</dc:language>
  <cp:lastModifiedBy>пк</cp:lastModifiedBy>
  <dcterms:modified xsi:type="dcterms:W3CDTF">2019-10-08T18:06:28Z</dcterms:modified>
  <cp:revision>10</cp:revision>
  <dc:subject/>
  <dc:title>ГБДОУ детский сад № 31 Красносельского района г. Санкт-Петербург Автор: Муз. Руководитель Мирошниченко Елена Геннадьевна</dc:title>
</cp:coreProperties>
</file>