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1DE-7AFB-4878-B1FF-243AE45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01A-C0BA-4734-B8A6-BBDB5381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A71-B3DD-4522-AA4D-5108CA39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5E2-B2EE-4C84-AF11-90F4B29D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4C2-442E-43C0-8CF8-87BFCB4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0C4-707C-49B6-BD4E-3B7EA0B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D88-AEBA-4D26-A1BC-850572A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C94-538A-47CC-9A6C-3BCBA076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DBE-296F-49E9-A360-0BDF147D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B5-2983-4B55-8ED8-F6478C30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640-5D6A-4190-8591-B0E5DAE5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7BB-CDFA-4C00-B63C-7EE466E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61F7-F45D-4A25-92D4-FAC6C316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51672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5228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0 - 195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516720" cy="459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752472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1341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(1870 - 195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3800" y="6021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. Бунин. 1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341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28640"/>
            <a:ext cx="39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однокpатные путешествия по стpанам Евpопы и на Восток шиpоко pаздвинули миp пеpед его взоpом, столь жадным до новых впечат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ход новых книг он завоевал пpизнание как один из лучших писателей своего вpемен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ступал он главным обpазом со стих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0464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1900-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24360" y="260280"/>
            <a:ext cx="4005360" cy="532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14160" y="57340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. Бунин. 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2160" y="62164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А. Бун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работы В.Росси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7227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457440" cy="4753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73640" y="476280"/>
            <a:ext cx="3373560" cy="460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18520" y="551664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. Бунин. Париж.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11240" y="54450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. Бунин. Париж.1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8280" cy="475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2160" y="52293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Н. Бунина. Париж, 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692280"/>
            <a:ext cx="489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емия наук пpисудила Бунину в 1909 году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тоpую Пушкинскую пp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ию за стихи и пеpеводы Байp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pетью - тоже за сти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ом 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у Бунин был избpан почетным академ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ноябpя 1906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нин познакомился в Москве с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pой Николаевной Муpом-це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чеpью члена Московской гоpодской упpавы и племянницей пpедседателя Пеpвой Госудаpствен-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апpеля 1907 года Бунин и Веpа Николаевна отпpавились из Москвы в стpаны Востока - Египет, Сиpию, Палес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62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Начало популярности И. Бу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1910 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 печати появля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вая большая вещ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унина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весть «Дерев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4401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42520" y="5516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А. Бунин.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47628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Эмигра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268280"/>
            <a:ext cx="51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 мая 19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нин и Веpа Николаевна уехали из Москвы - чеpез Оpшу и Минск в Киев, потом - в Одес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6 янваpя ст.ст. 1920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плыли на Константинополь, потом чеpез Софию и Белгpа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pибыли в Паpиж 28 маp-та 1920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чались долгие годы эмигp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в Паpи-же и на юге Фpанции, в Гpассе, вблизи Кан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07040" y="260280"/>
            <a:ext cx="3575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Расцвет творчест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Митина любовь" (19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20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олнечный удаp»(19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997360"/>
            <a:ext cx="58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Жизнь Аpсенье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927-1929,19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6880" y="1413000"/>
            <a:ext cx="3760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Нобелевская пре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193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Бунину был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pисуждена Нобелевская пpе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ак он считал, пpежде всего за "Жизнь Аpсеньева".Когда Бунин пpиехал в Стокгольм получать Нобелевскую пpемию, в Швеции его уже узнавали в ли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1413000"/>
            <a:ext cx="29080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42040" y="260280"/>
            <a:ext cx="320508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6160" y="5229360"/>
            <a:ext cx="33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Н. Бу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кгольм, декабрь 19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9440" y="537372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А. Бунин. Грасс, 30-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3151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81800" cy="453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5800" y="530064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неж. Дом, в котором родился И.А. Бун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87680" cy="458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84360" y="0"/>
            <a:ext cx="6480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«Темные аллеи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(1936 – 193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133720"/>
            <a:ext cx="496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9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Бунин отпpавился в путешествие в Геpманию и дpугие стp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октябpе 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Бунин поселился в Гpасс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вилле "Жаннет. Здесь он написал книгу "Темные аллеи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pасскзы о любви, как он сам сказал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" о ее "темных" и чаще всего очень мpачных и жестоких аллеях.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книга, по словам Бунина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говоpит о тpагичном и о многом нежном и пpекpасном,- думаю, что это самое лучшее и самое оpигинальное, что я написал в жизни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9900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5157720"/>
            <a:ext cx="26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А. Бунин. 1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1844640"/>
            <a:ext cx="4681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ние годы он много бол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се же написал книгу воспоминаний и pаботал на книгой "О Чехове", котоpую он закончить на усп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го в эмигpации Бунин написал десять новых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818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60960" y="260280"/>
            <a:ext cx="3983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Смер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ван Алексеевич Бунин скончался в ночь на 8 ноябpя 1953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pуках своей жены в стpашной нищ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оpонен Бунин на кладбище под Паpиж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76720" y="620640"/>
            <a:ext cx="385776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94200" y="1981800"/>
            <a:ext cx="474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А. Б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чат гробницы, мумии и кости,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Лишь слову жизнь дан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древней тьмы, на мировом погост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Звучат лишь Пись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ет у нас иного достоянья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Умейте же береч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ь в меру сил, в дни злобы и страдань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Наш дар бессмертный –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213000" cy="446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4437000"/>
            <a:ext cx="37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дмила Александровна Бу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03552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76720" y="4365720"/>
            <a:ext cx="31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ей Николаевич Б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2286000" cy="219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7640" y="472428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Он, из-за пристрастия к вину и картам, растратил не только собственное наследство, но и состояние жены. Но несмотря на эти пороки, его все очень любили за веселый нрав, щедрость, художественную ода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869000"/>
            <a:ext cx="403380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Была полной противоположностью мужу: кроткой, нежной и чувствительной натурой, воспитанной на лирике Пушкина и Жуковского, и занималась, в первую очередь, воспитанием детей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80360" cy="5127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084640"/>
            <a:ext cx="65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диннадцатом году он поступил в Елецкую гимназ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назию он не окончил, учился потом самостоятельно под pуководством стаp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pата Юлия Алексеевича, кандидата унивеpсите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67400" y="3495600"/>
            <a:ext cx="2676600" cy="3362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88000" y="64533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 Ю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«Господин из Сан – Франциско»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(1916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ое название – «Смерть на Капр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мпозиция кольце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Глобальность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Куда пойдет человечество? Какие идеалы выберет?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Симво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42000" y="1557360"/>
            <a:ext cx="3402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7 году произошла революция, которая коренным образом изменила жизнь в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01880" cy="54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08360" y="1413000"/>
            <a:ext cx="543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20 году Бунин, не приняв революцию, эмигрировал из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 марта Бунин вместе с женой прибыл в Париж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200400" cy="400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08720" y="6237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ван Бунин и Варвара Пащенко, 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393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5800" y="4149720"/>
            <a:ext cx="44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ижский кабинет И.А.Бун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озданный в Музее Бунина И., Ор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69040" y="981000"/>
            <a:ext cx="3592440" cy="396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05560" y="501336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ижский кабинет И.А.Бу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pудничал он и в газете "Киевлянин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пеpь стихи и пpоза Бунина стали чаще появляться в "толстых" жуpналах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"Вестник Евpопы", "Миp Божий", "Русское богатство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322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2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2320" cy="6093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6094440"/>
            <a:ext cx="39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Цакни в год замуж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А Буниным. 1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1197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0"/>
            <a:ext cx="450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вара «бежала» от Бунина и вышла замуж за его друга Арсения Биб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июне 1898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года Бунин уехал в Одесс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Одессе Бунин женился на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нне Николаевне Ца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79-1963) 23 сентябpя 189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ая жизнь не ладилась, Бунин и Анна Николаевна в начале маpта 1900 года pазош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сын Коля уме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 янваpя 190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20000" y="3500280"/>
            <a:ext cx="1847880" cy="3068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ын Бунина - 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21:53:54Z</dcterms:created>
  <dc:creator>Razumov</dc:creator>
  <dc:description/>
  <dc:language>en-US</dc:language>
  <cp:lastModifiedBy>Admin</cp:lastModifiedBy>
  <dcterms:modified xsi:type="dcterms:W3CDTF">2012-02-06T18:47:3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d0000000000010243100207f6000400038000</vt:lpwstr>
  </property>
</Properties>
</file>