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D18-2D0E-41B3-9AF1-A916A891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C8E-7D8C-4408-B24C-F4D558EF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E1E-9FA8-46FB-B278-80CFCDDB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031-5D60-4CBE-AF64-F4EFA124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110-7C2E-436F-9FFE-27E9F06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D48-91C9-4A60-B452-80063A6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DC9-13F9-4EE4-B0DF-016EFB84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5D1-D5F5-46FF-9032-BAD844D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85D-7F62-4A15-AA88-4FFDF00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79E-37AC-4824-A63C-481378FB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8FA-E11F-40AD-888D-DA067D3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58F-B6B1-4CAD-9BA6-12DE4FC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235-33F8-45A6-A5AE-CB4681E24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курс «Поэты пушкинского круга» рассчитан на 12 часов и предназначается для предпрофильной подготовки в школе (9 класс) как дополнительный курс  к основному литературному кур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; Короткова Надежда Романовна,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ы – любомудры 1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тетическая концепция поэтов – любомудров (ориентация на романтическую философию, аллегорическая природа поэзии, культивирование «архаических»  традиций, создание образа романтического поэта, созерцателя и мудреца). Мотивы лирики Д. Веневитинова, С. Шевырева, А. Хомяк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Полежаев 1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биографический, исповедальный характер поэзии Полежае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правительственные, сатирические произведения поэта (поэма «Сашка», послание «Александру Петровичу Лозовскому»). Кавказские поэмы Полежа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В. Кольцов 1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характер поэзии А. Кольцова. Изображение духовного мира крестьянина. Народно – песенные основы творчества. Роль Пушкина и Белинского в становлении Кольцова поэта. Картины родной природы в стихах Кольцова. Семейно – бытовые песни Кольцова. Мотивы и образы стихотворения «Лес», посвященного А.С. Пушкину. Традиции некрасовского 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ательницы пушкинской по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. Ростопч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 Пав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Готовце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спецкурса -углубление знаний и представлений учащихся о литературных явлениях первой половины 19 века, рассматриваемых как составную часть социодинамики русской культуры этого периода, стимуляция интереса к литературе как к предмету  ,что позволяет в выборе профилирующего направления в дальнейшем обучении .Принципиально новым в преподавании данного курса является то, что литература будет изучаться в широких культурных контекстах, связях с философией, историей, искусством, а сам процесс учебной деятельности учащихся выстраивается как диалог жизненно важных социокультурных и нравственно-эстетических я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1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развития русской литературы первой половины 19 века(литературные объединения и журналы, течения, стили, жанры) Пушкинский период русской поэ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зия декабристов.2 ча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итационные песни  К.Ф. Рылеева и А. Бестужева. Сюжеты, герои, поэтика дум Рылеева. Литературная судьба В.Кюхельбекера. Тема высокого избранничества поэта в стихотворении «К Пушкину», «Участь русских поэтов». Гражданская поэзия А  Одоев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Давыдов . 1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поэтического творчества Д. Давыдова в русской поэзии 1-ой четвер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Воспевание военных подвигов, дружеских пирушек, естественных человеческих чувств в «Гусарских песнях» поэта. Любовные элегии Давыдова. Песни Давыдова («Современная песнь», «Вечерний звон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.А. Вяземский 1ча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А. Вяземский – старший друг Пушкина. Протест против бесчеловечных форм крепостного гнета, деспотизма в стих. «Негодование». Своеобразие поэтического стиля Вяземского. Картины русской зимы в элегии «Первый снег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Дельвиг  1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пикурейские мотивы в творчестве Дельвига. Мотивы и образы лирических песен Дельвига («Соловей мой, соловей…», «Я вечор в саду младешенька гуляла…». Деятельность Дельвига по изданию альмонахов «Северные цветы», «Литературная газета». Сонеты Дельвига. Конкретность, глубокий психологизм переживаний, изящество и афористичность языка сонетов. Дружеские и творческие связи Пушкина и Дельви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. Языков 1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образие поэзии Языкова (подчеркнутый, стилизованный биографизм стихов, колоритность изображаемой среды, склонность к броским поэтическим формулам, быстрый стиховой темп, образность поэтической речи). Гимн свободной, не скованной казенной моралью и официальными запретами жизни в «Студенческих песнях» Языкова. Любовные элегии поэта. Поэтические послания Языкова. Пейзажная лирика Языкова. Пушкин и Яз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. Баратынский 1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гедонистического упоения жизнью в ранней лирике Баратынского. Развитие Баратынским жанра элегии. Раскрытие динамики психологических состояний и эмоций лирического героя в элегии «Разуверение». «Признание» как высочайший образец элегической поэзии. Философский характер лирики Баратынского. Тема и поэзии в творчестве Баратынского. Место и роль Баратынского в русской литера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6:07:21Z</dcterms:created>
  <dc:creator>Пользователь</dc:creator>
  <dc:description/>
  <dc:language>en-US</dc:language>
  <cp:lastModifiedBy>Пользователь</cp:lastModifiedBy>
  <dcterms:modified xsi:type="dcterms:W3CDTF">2019-10-08T11:21:13Z</dcterms:modified>
  <cp:revision>17</cp:revision>
  <dc:subject/>
  <dc:title>элективный курс «Поэты пушкинского круга»</dc:title>
</cp:coreProperties>
</file>