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6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83C9-64B3-4A8B-A720-5A5FF9880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141E-7F3A-4B74-8883-E5FB172D0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EF4D-4B31-4448-81AA-48D7C72A44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8D0-3BA7-4700-8CE4-EF3606F2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007-0946-4D63-A267-9EF2A0EE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782-9E59-4C07-BFC4-3834AE25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21B-D95E-415F-9CCB-C9293302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33DF-4E98-4154-BCD8-C048F9B0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2D7C-7BAC-4989-BE8C-5FB56730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31F5-DD7E-4988-9557-9198FCCF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11CE-AFC0-42EE-B1AD-3BD156C6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4F49-996E-4578-9FF3-C84441A9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A032-6E23-43A8-AE5A-0C14A0E5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3075-A4BA-4834-8069-63BF8D12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F1C-1AB1-4A87-BED9-2F72F8FC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E8FA-9293-4796-AF1E-33A3027B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D518-73BC-492A-ABE2-2E2B9ED6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66EE-DB67-4AB5-A5D6-1BE75619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8C2E-9326-4845-9CED-AA915F28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CC4F-9DD7-4335-9B16-1F930754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D74F5-E80A-47BC-9597-07BDF3CC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5EA9B-3BAE-4055-9037-EF393280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6C6B1-4903-4AE3-8A41-AD9ED995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2547A-3DB5-4BD5-AA44-18F82966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45C6C-CB5F-4FC4-A433-4CF19BCD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09D-BF60-43AF-80F2-0405DB5D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B27F-0A5B-476E-B727-4C6E403B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5EF8B-8E87-45C0-BDB9-D92409DC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AA514-7FE6-4B4F-AA31-64201F10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A534D-8839-4F2B-973F-C0553AB7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5497B-710D-4CE9-A395-AE3ED7DD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D05AE-3B9D-4D9E-A750-9317CB6F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7335A-3DF6-487C-8C27-60A90347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8526-373D-4E43-83FD-A9FD66D7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1B09-0385-4B4A-8213-DE97B2D4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2153-1303-4691-A34E-42F65031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B40-2826-45B9-96C7-E41EB4A8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111-AD13-4C57-8702-EF78FE7F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573-708A-491B-AD0A-5233E85D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CAC7-E5C6-4298-A980-8D5323013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C8F4-EF3A-49A6-9677-87A1536E0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17B4-D863-4CA7-BDD2-7116A35A7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473120" y="4375080"/>
            <a:ext cx="7315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73000" y="313920"/>
            <a:ext cx="7439040" cy="544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грамотность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ется как способность личности использовать все постоянно приобретаемые в жизни знания, умения и навыки для решения жизненных задач в различных сферах человеческ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693520" y="1600200"/>
            <a:ext cx="6326280" cy="452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955800" y="723960"/>
            <a:ext cx="727380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55160" y="-360"/>
            <a:ext cx="7923240" cy="8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ем «Корзина идей, понятий, имен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9" descr="F:\0002-001-Krylov-Rossija-XIX-vek.jpg"/>
          <p:cNvPicPr/>
          <p:nvPr/>
        </p:nvPicPr>
        <p:blipFill>
          <a:blip r:embed="rId1"/>
          <a:srcRect l="0" t="0" r="224" b="16625"/>
          <a:stretch/>
        </p:blipFill>
        <p:spPr>
          <a:xfrm>
            <a:off x="1459080" y="1660680"/>
            <a:ext cx="5810040" cy="48862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26"/>
          <p:cNvSpPr/>
          <p:nvPr/>
        </p:nvSpPr>
        <p:spPr>
          <a:xfrm>
            <a:off x="2079720" y="1114560"/>
            <a:ext cx="1609560" cy="31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ердце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2071800" y="1639800"/>
            <a:ext cx="1830240" cy="3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троение сердц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4"/>
          <p:cNvSpPr/>
          <p:nvPr/>
        </p:nvSpPr>
        <p:spPr>
          <a:xfrm>
            <a:off x="4246560" y="1085760"/>
            <a:ext cx="1757520" cy="3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бота сердц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641520" y="2182680"/>
            <a:ext cx="18604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стенки сердца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3381480" y="2184480"/>
            <a:ext cx="132552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камеры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1239840" y="2894040"/>
            <a:ext cx="124452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клапан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3213000" y="2801880"/>
            <a:ext cx="140040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кровеносные сосуд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7431120" y="2687760"/>
            <a:ext cx="1378080" cy="60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общее расслабление сердц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5170320" y="2855880"/>
            <a:ext cx="17352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99"/>
                </a:solidFill>
                <a:latin typeface="Arial"/>
                <a:ea typeface="Times New Roman"/>
              </a:rPr>
              <a:t>сокращение желудочк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5873760" y="2193840"/>
            <a:ext cx="14335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окращение предсерд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 rot="16200000">
            <a:off x="5669640" y="727920"/>
            <a:ext cx="341280" cy="21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Сердечный цикл -0,8 се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6520" y="123840"/>
            <a:ext cx="844236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ем «Что это?» или «Черный ящ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Users\Гайни\Desktop\скачанные файлы.jpg"/>
          <p:cNvPicPr/>
          <p:nvPr/>
        </p:nvPicPr>
        <p:blipFill>
          <a:blip r:embed="rId1"/>
          <a:stretch/>
        </p:blipFill>
        <p:spPr>
          <a:xfrm>
            <a:off x="196920" y="5445000"/>
            <a:ext cx="1606320" cy="1198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Users\Гайни\Desktop\images.jpg"/>
          <p:cNvPicPr/>
          <p:nvPr/>
        </p:nvPicPr>
        <p:blipFill>
          <a:blip r:embed="rId2"/>
          <a:stretch/>
        </p:blipFill>
        <p:spPr>
          <a:xfrm>
            <a:off x="7534440" y="5272200"/>
            <a:ext cx="1452240" cy="1452600"/>
          </a:xfrm>
          <a:prstGeom prst="rect">
            <a:avLst/>
          </a:prstGeom>
          <a:ln w="0">
            <a:noFill/>
          </a:ln>
        </p:spPr>
      </p:pic>
      <p:sp>
        <p:nvSpPr>
          <p:cNvPr id="213" name="Заголовок 1"/>
          <p:cNvSpPr/>
          <p:nvPr/>
        </p:nvSpPr>
        <p:spPr>
          <a:xfrm>
            <a:off x="219240" y="1009800"/>
            <a:ext cx="8440560" cy="55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каком органе идет речь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Располагается в грудной полост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Обеспечивает одностороннее движение крови по сосудам, выполняя функцию «насоса» в организм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Масса органа у взрослого человека 300 гр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Имеет 3 слоя: перикард, миокард и эндокар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Состоит из 4 камер: 2 предсердий и 2 желудочк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Между предсердиями и желудочками располагаются створчатые клапаны: в правой части сердца – трехстворчатый клапан, а влевой части –митральный клапа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Между желудочками и сосудами располагаются  полулунные клапаны и т. 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BONSAI3"/>
          <p:cNvPicPr/>
          <p:nvPr/>
        </p:nvPicPr>
        <p:blipFill>
          <a:blip r:embed="rId1">
            <a:lum bright="6000"/>
          </a:blip>
          <a:srcRect l="339" t="1465" r="1110" b="23960"/>
          <a:stretch/>
        </p:blipFill>
        <p:spPr>
          <a:xfrm>
            <a:off x="1092240" y="0"/>
            <a:ext cx="73836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 rot="21327600">
            <a:off x="3096720" y="1081080"/>
            <a:ext cx="889200" cy="2764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кур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 rot="921600">
            <a:off x="1292040" y="3830760"/>
            <a:ext cx="1000080" cy="2764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холестерин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 rot="1630800">
            <a:off x="4782600" y="421920"/>
            <a:ext cx="924120" cy="2764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алкого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 rot="361800">
            <a:off x="1901880" y="3311640"/>
            <a:ext cx="1031040" cy="2764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Лишний ве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 rot="16200000">
            <a:off x="3627000" y="4795920"/>
            <a:ext cx="2828880" cy="5202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 сердечно- сосудистых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болеваний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 rot="2238000">
            <a:off x="2730960" y="4560840"/>
            <a:ext cx="1458720" cy="5202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Не правильное питание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 rot="2083800">
            <a:off x="4302360" y="1306440"/>
            <a:ext cx="1579680" cy="2764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Вредные привычк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 rot="21310200">
            <a:off x="2435400" y="2568600"/>
            <a:ext cx="2049120" cy="2764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вредные пищевые добавк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 rot="21252000">
            <a:off x="4779720" y="3022560"/>
            <a:ext cx="1822320" cy="2764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не занимаются спорто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 rot="1630800">
            <a:off x="6926400" y="4033440"/>
            <a:ext cx="1379520" cy="2764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гиподинам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 rot="1630800">
            <a:off x="5982840" y="3898800"/>
            <a:ext cx="1258920" cy="2764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Лишний ве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 rot="18575400">
            <a:off x="-672480" y="1515600"/>
            <a:ext cx="44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рево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каза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74320" y="274680"/>
            <a:ext cx="886932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емы, используемые н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дии осмы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18800" y="712800"/>
            <a:ext cx="8815320" cy="60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ёмы, работающие с таблиц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таблица П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таблица ЗХ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таблица-синте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сводная табл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концептуальная табли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таблица "Что? Где? Когда? Почему?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Чтение с останов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ем инсерт (пометки на поля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ем «Бортовой журнал» (заполнение таблицы, состоящей из двух столбцов: известная информация, новая информац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ем «Сюжетная таблица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ем «Сводная табл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ем «Тонкие и толстые вопросы».  Ромашка вопросов (ромашка Блум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ем «Зиг-заг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ем «Мое мнен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ем «Мозговой штур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ем «Фишбоу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ем «Понятийное колес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ем «Что? Где? Когда?» (заполнение таблицы из трех столбцов: что?, где?, когд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ем «Мудрые сов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087560" y="118800"/>
            <a:ext cx="6913440" cy="60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ем « Инсерт»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чтение с пометк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11120" y="1006560"/>
          <a:ext cx="8331120" cy="5608440"/>
        </p:xfrm>
        <a:graphic>
          <a:graphicData uri="http://schemas.openxmlformats.org/drawingml/2006/table">
            <a:tbl>
              <a:tblPr/>
              <a:tblGrid>
                <a:gridCol w="1649520"/>
                <a:gridCol w="2636640"/>
                <a:gridCol w="2276640"/>
                <a:gridCol w="1768320"/>
              </a:tblGrid>
              <a:tr h="25606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нформация,  которая    уже известна ученикам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является для учеников новым и интересным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отиворечит их представлению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ченики хотят получить по   этой информации  более подробные сведения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7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ердце работает циклично, каждый цикл делится на фаз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ердечный цикл длится 0,8 секунд и  состоит из трех фаз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-сокращение предсердий – 0,1 сек.,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-сокращение желудочков -0,3 сек.,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-общее расслабление сердца – 0,4 сек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ердце работает  всю жизнь, не останавливаясь. Почему оно не устает?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Как работает сердце во время сна, если мозг отдыхает?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Автоматия сердц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94880" y="301320"/>
            <a:ext cx="82249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ем «Концептуальная таблиц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20680" y="1441440"/>
          <a:ext cx="8655120" cy="5249880"/>
        </p:xfrm>
        <a:graphic>
          <a:graphicData uri="http://schemas.openxmlformats.org/drawingml/2006/table">
            <a:tbl>
              <a:tblPr/>
              <a:tblGrid>
                <a:gridCol w="2884320"/>
                <a:gridCol w="2886120"/>
                <a:gridCol w="2884680"/>
              </a:tblGrid>
              <a:tr h="379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4003a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74003a"/>
                          </a:solidFill>
                          <a:latin typeface="Times New Roman"/>
                          <a:ea typeface="Times New Roman"/>
                        </a:rPr>
                        <a:t>левая половина сердц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4003a"/>
                          </a:solidFill>
                          <a:latin typeface="Times New Roman"/>
                          <a:ea typeface="Times New Roman"/>
                        </a:rPr>
                        <a:t>Линии сравн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4003a"/>
                          </a:solidFill>
                          <a:latin typeface="Times New Roman"/>
                          <a:ea typeface="Times New Roman"/>
                        </a:rPr>
                        <a:t>Правая половина сердц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Из каких камер состоит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Из каких  слоев состоят стенки  сердца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Толщина стенок сердца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Какие клапаны располагаются в данном отделе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Какой круг кровообращения  начинается  в желудочке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Какой круг кровообращения приносит кровь в предсердие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4"/>
          <p:cNvSpPr/>
          <p:nvPr/>
        </p:nvSpPr>
        <p:spPr>
          <a:xfrm>
            <a:off x="258840" y="79524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а « Строение сердца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е строение левой и правой половин сердц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стые и тонк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812880"/>
            <a:ext cx="4040280" cy="41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тол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37680" y="1204920"/>
            <a:ext cx="404028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4500"/>
                </a:solidFill>
                <a:latin typeface="Arial"/>
              </a:rPr>
              <a:t>Дайте объяснение, почем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4500"/>
                </a:solidFill>
                <a:latin typeface="Arial"/>
              </a:rPr>
              <a:t>-почему вы думаете,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4500"/>
                </a:solidFill>
                <a:latin typeface="Arial"/>
              </a:rPr>
              <a:t>-почему вы считаете, что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4500"/>
                </a:solidFill>
                <a:latin typeface="Arial"/>
              </a:rPr>
              <a:t>-в чем разниц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4500"/>
                </a:solidFill>
                <a:latin typeface="Arial"/>
              </a:rPr>
              <a:t>-предположите, что будет, есл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27160" y="958680"/>
            <a:ext cx="4041720" cy="3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тон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754160" y="1275840"/>
            <a:ext cx="4041720" cy="22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4500"/>
                </a:solidFill>
                <a:latin typeface="Arial"/>
              </a:rPr>
              <a:t>К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4500"/>
                </a:solidFill>
                <a:latin typeface="Arial"/>
              </a:rPr>
              <a:t>что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4500"/>
                </a:solidFill>
                <a:latin typeface="Arial"/>
              </a:rPr>
              <a:t>когда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4500"/>
                </a:solidFill>
                <a:latin typeface="Arial"/>
              </a:rPr>
              <a:t>сколько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4500"/>
                </a:solidFill>
                <a:latin typeface="Arial"/>
              </a:rPr>
              <a:t>как называется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4500"/>
                </a:solidFill>
                <a:latin typeface="Arial"/>
              </a:rPr>
              <a:t>согласны ли вы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81160" y="3890880"/>
          <a:ext cx="8578800" cy="2355840"/>
        </p:xfrm>
        <a:graphic>
          <a:graphicData uri="http://schemas.openxmlformats.org/drawingml/2006/table">
            <a:tbl>
              <a:tblPr/>
              <a:tblGrid>
                <a:gridCol w="4289400"/>
                <a:gridCol w="4289400"/>
              </a:tblGrid>
              <a:tr h="4716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олстые» вопрос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онкие» вопрос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42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бъясните, почему кровь течет в одном направлении?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ак регулируется сердечный цикл в период сна человека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акую фазу называют систолой  сердца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акую фазу называют диастолой сердца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1880" y="274320"/>
            <a:ext cx="7981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Контур – символ»</a:t>
            </a:r>
            <a:br>
              <a:rPr sz="3200"/>
            </a:b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«Сердц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C:\Documents and Settings\Администратор\Рабочий стол\iCAQC7SUM.jpg"/>
          <p:cNvPicPr/>
          <p:nvPr/>
        </p:nvPicPr>
        <p:blipFill>
          <a:blip r:embed="rId1"/>
          <a:stretch/>
        </p:blipFill>
        <p:spPr>
          <a:xfrm>
            <a:off x="3236760" y="1871640"/>
            <a:ext cx="2570400" cy="344160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7"/>
          <p:cNvSpPr/>
          <p:nvPr/>
        </p:nvSpPr>
        <p:spPr>
          <a:xfrm>
            <a:off x="658800" y="2762280"/>
            <a:ext cx="1682640" cy="53820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0"/>
          <p:cNvSpPr/>
          <p:nvPr/>
        </p:nvSpPr>
        <p:spPr>
          <a:xfrm>
            <a:off x="590400" y="3909960"/>
            <a:ext cx="1683000" cy="53964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1"/>
          <p:cNvSpPr/>
          <p:nvPr/>
        </p:nvSpPr>
        <p:spPr>
          <a:xfrm>
            <a:off x="487440" y="5022720"/>
            <a:ext cx="1682640" cy="54000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2"/>
          <p:cNvSpPr/>
          <p:nvPr/>
        </p:nvSpPr>
        <p:spPr>
          <a:xfrm>
            <a:off x="6702480" y="1673280"/>
            <a:ext cx="1682640" cy="53964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3"/>
          <p:cNvSpPr/>
          <p:nvPr/>
        </p:nvSpPr>
        <p:spPr>
          <a:xfrm>
            <a:off x="6735600" y="2776680"/>
            <a:ext cx="1683000" cy="53964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4"/>
          <p:cNvSpPr/>
          <p:nvPr/>
        </p:nvSpPr>
        <p:spPr>
          <a:xfrm>
            <a:off x="6705720" y="3833640"/>
            <a:ext cx="1682640" cy="54000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5"/>
          <p:cNvSpPr/>
          <p:nvPr/>
        </p:nvSpPr>
        <p:spPr>
          <a:xfrm>
            <a:off x="6537240" y="5056200"/>
            <a:ext cx="1683000" cy="53964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6"/>
          <p:cNvSpPr/>
          <p:nvPr/>
        </p:nvSpPr>
        <p:spPr>
          <a:xfrm>
            <a:off x="4240080" y="5940360"/>
            <a:ext cx="1683000" cy="53964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7"/>
          <p:cNvSpPr/>
          <p:nvPr/>
        </p:nvSpPr>
        <p:spPr>
          <a:xfrm>
            <a:off x="1576440" y="5873760"/>
            <a:ext cx="1681200" cy="53964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8"/>
          <p:cNvSpPr/>
          <p:nvPr/>
        </p:nvSpPr>
        <p:spPr>
          <a:xfrm>
            <a:off x="673200" y="1550880"/>
            <a:ext cx="1682640" cy="54000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Прямая со стрелкой 22"/>
          <p:cNvCxnSpPr/>
          <p:nvPr/>
        </p:nvCxnSpPr>
        <p:spPr>
          <a:xfrm>
            <a:off x="2614320" y="1855440"/>
            <a:ext cx="108972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Прямая со стрелкой 24"/>
          <p:cNvCxnSpPr/>
          <p:nvPr/>
        </p:nvCxnSpPr>
        <p:spPr>
          <a:xfrm>
            <a:off x="2404800" y="3080880"/>
            <a:ext cx="196596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Прямая со стрелкой 26"/>
          <p:cNvCxnSpPr/>
          <p:nvPr/>
        </p:nvCxnSpPr>
        <p:spPr>
          <a:xfrm flipV="1">
            <a:off x="2285640" y="4187160"/>
            <a:ext cx="1948320" cy="19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6" name="Прямая со стрелкой 28"/>
          <p:cNvCxnSpPr/>
          <p:nvPr/>
        </p:nvCxnSpPr>
        <p:spPr>
          <a:xfrm flipV="1">
            <a:off x="2185560" y="4634640"/>
            <a:ext cx="2350440" cy="8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Прямая со стрелкой 32"/>
          <p:cNvCxnSpPr>
            <a:stCxn id="251" idx="3"/>
          </p:cNvCxnSpPr>
          <p:nvPr/>
        </p:nvCxnSpPr>
        <p:spPr>
          <a:xfrm flipV="1">
            <a:off x="3257280" y="5038200"/>
            <a:ext cx="665640" cy="110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" name="Прямая со стрелкой 37"/>
          <p:cNvCxnSpPr/>
          <p:nvPr/>
        </p:nvCxnSpPr>
        <p:spPr>
          <a:xfrm flipH="1">
            <a:off x="5211360" y="1984320"/>
            <a:ext cx="13723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9" name="Прямая со стрелкой 39"/>
          <p:cNvCxnSpPr/>
          <p:nvPr/>
        </p:nvCxnSpPr>
        <p:spPr>
          <a:xfrm flipH="1" flipV="1">
            <a:off x="5248440" y="3026520"/>
            <a:ext cx="13906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0" name="Прямая со стрелкой 41"/>
          <p:cNvCxnSpPr/>
          <p:nvPr/>
        </p:nvCxnSpPr>
        <p:spPr>
          <a:xfrm flipH="1" flipV="1">
            <a:off x="5403600" y="3528720"/>
            <a:ext cx="122616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Прямая со стрелкой 43"/>
          <p:cNvCxnSpPr/>
          <p:nvPr/>
        </p:nvCxnSpPr>
        <p:spPr>
          <a:xfrm flipH="1" flipV="1">
            <a:off x="4973040" y="3912480"/>
            <a:ext cx="150084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Прямая со стрелкой 48"/>
          <p:cNvCxnSpPr/>
          <p:nvPr/>
        </p:nvCxnSpPr>
        <p:spPr>
          <a:xfrm flipV="1">
            <a:off x="5075280" y="4552200"/>
            <a:ext cx="64080" cy="13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316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Контур – символ»</a:t>
            </a:r>
            <a:br>
              <a:rPr sz="3200"/>
            </a:b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«Млекопитающ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http://im2-tub-ru.yandex.net/i?id=491efd27f254b5570bf432047667024a-10-144"/>
          <p:cNvPicPr/>
          <p:nvPr/>
        </p:nvPicPr>
        <p:blipFill>
          <a:blip r:embed="rId1"/>
          <a:stretch/>
        </p:blipFill>
        <p:spPr>
          <a:xfrm>
            <a:off x="484200" y="17035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http://im2-tub-ru.yandex.net/i?id=928950f2287e0ce51329d776b9443d8c-24-144"/>
          <p:cNvPicPr/>
          <p:nvPr/>
        </p:nvPicPr>
        <p:blipFill>
          <a:blip r:embed="rId2"/>
          <a:stretch/>
        </p:blipFill>
        <p:spPr>
          <a:xfrm>
            <a:off x="2313000" y="1765440"/>
            <a:ext cx="1550880" cy="992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http://im0-tub-ru.yandex.net/i?id=5708e9fc9a398c285cb2249efbe5b341-87-144"/>
          <p:cNvPicPr/>
          <p:nvPr/>
        </p:nvPicPr>
        <p:blipFill>
          <a:blip r:embed="rId3"/>
          <a:stretch/>
        </p:blipFill>
        <p:spPr>
          <a:xfrm>
            <a:off x="4049640" y="178272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http://im1-tub-ru.yandex.net/i?id=eaeab3303f990660031ce568e7979413-02-144"/>
          <p:cNvPicPr/>
          <p:nvPr/>
        </p:nvPicPr>
        <p:blipFill>
          <a:blip r:embed="rId4"/>
          <a:stretch/>
        </p:blipFill>
        <p:spPr>
          <a:xfrm>
            <a:off x="5632560" y="1739880"/>
            <a:ext cx="1428480" cy="1066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http://im2-tub-ru.yandex.net/i?id=a3fc69c946e6fb2ffb7ab67276dba94d-99-144"/>
          <p:cNvPicPr/>
          <p:nvPr/>
        </p:nvPicPr>
        <p:blipFill>
          <a:blip r:embed="rId5"/>
          <a:stretch/>
        </p:blipFill>
        <p:spPr>
          <a:xfrm>
            <a:off x="7232760" y="1746360"/>
            <a:ext cx="1535040" cy="961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http://im2-tub-ru.yandex.net/i?id=a0a7e648cda3c51a3fbcae51ea59f812-32-144"/>
          <p:cNvPicPr/>
          <p:nvPr/>
        </p:nvPicPr>
        <p:blipFill>
          <a:blip r:embed="rId6"/>
          <a:stretch/>
        </p:blipFill>
        <p:spPr>
          <a:xfrm>
            <a:off x="401760" y="3976560"/>
            <a:ext cx="1428480" cy="1324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4" descr="http://im0-tub-ru.yandex.net/i?id=8ce3f554db60888a6f1d7d222a895313-76-144"/>
          <p:cNvPicPr/>
          <p:nvPr/>
        </p:nvPicPr>
        <p:blipFill>
          <a:blip r:embed="rId7"/>
          <a:stretch/>
        </p:blipFill>
        <p:spPr>
          <a:xfrm>
            <a:off x="2075040" y="4002120"/>
            <a:ext cx="1701720" cy="12920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http://im2-tub-ru.yandex.net/i?id=512770103b91df95ee54feaf89d11456-123-144"/>
          <p:cNvPicPr/>
          <p:nvPr/>
        </p:nvPicPr>
        <p:blipFill>
          <a:blip r:embed="rId8"/>
          <a:stretch/>
        </p:blipFill>
        <p:spPr>
          <a:xfrm>
            <a:off x="3930480" y="4021200"/>
            <a:ext cx="1546560" cy="1236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8" descr="http://im2-tub-ru.yandex.net/i?id=052fbe1b9433df6bc75d615cd4361b44-69-144"/>
          <p:cNvPicPr/>
          <p:nvPr/>
        </p:nvPicPr>
        <p:blipFill>
          <a:blip r:embed="rId9"/>
          <a:stretch/>
        </p:blipFill>
        <p:spPr>
          <a:xfrm>
            <a:off x="5686560" y="4005360"/>
            <a:ext cx="1536480" cy="1243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0" descr="http://im1-tub-ru.yandex.net/i?id=607c55aeb70cb3f916b92d04783a0cce-23-144"/>
          <p:cNvPicPr/>
          <p:nvPr/>
        </p:nvPicPr>
        <p:blipFill>
          <a:blip r:embed="rId10"/>
          <a:stretch/>
        </p:blipFill>
        <p:spPr>
          <a:xfrm>
            <a:off x="7342200" y="3989520"/>
            <a:ext cx="1649520" cy="123192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3"/>
          <p:cNvSpPr/>
          <p:nvPr/>
        </p:nvSpPr>
        <p:spPr>
          <a:xfrm>
            <a:off x="219240" y="777960"/>
            <a:ext cx="85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ишите в пустые поля под каждым рисунком – поясняющую надпись; что (или кто) на изображении. В чем связь и отличие всех рисунков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4"/>
          <p:cNvSpPr/>
          <p:nvPr/>
        </p:nvSpPr>
        <p:spPr>
          <a:xfrm>
            <a:off x="566640" y="3035160"/>
            <a:ext cx="1362240" cy="45720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5"/>
          <p:cNvSpPr/>
          <p:nvPr/>
        </p:nvSpPr>
        <p:spPr>
          <a:xfrm>
            <a:off x="2265480" y="3024360"/>
            <a:ext cx="1361880" cy="45720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6"/>
          <p:cNvSpPr/>
          <p:nvPr/>
        </p:nvSpPr>
        <p:spPr>
          <a:xfrm>
            <a:off x="4044960" y="3021120"/>
            <a:ext cx="1362240" cy="45720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7"/>
          <p:cNvSpPr/>
          <p:nvPr/>
        </p:nvSpPr>
        <p:spPr>
          <a:xfrm>
            <a:off x="5688000" y="2998800"/>
            <a:ext cx="1362240" cy="45720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8"/>
          <p:cNvSpPr/>
          <p:nvPr/>
        </p:nvSpPr>
        <p:spPr>
          <a:xfrm>
            <a:off x="7358040" y="2968560"/>
            <a:ext cx="1362240" cy="45720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9"/>
          <p:cNvSpPr/>
          <p:nvPr/>
        </p:nvSpPr>
        <p:spPr>
          <a:xfrm>
            <a:off x="460440" y="5462640"/>
            <a:ext cx="1361880" cy="45720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20"/>
          <p:cNvSpPr/>
          <p:nvPr/>
        </p:nvSpPr>
        <p:spPr>
          <a:xfrm>
            <a:off x="2305080" y="5486400"/>
            <a:ext cx="1361880" cy="45720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21"/>
          <p:cNvSpPr/>
          <p:nvPr/>
        </p:nvSpPr>
        <p:spPr>
          <a:xfrm>
            <a:off x="4075200" y="5456160"/>
            <a:ext cx="1361880" cy="45720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2"/>
          <p:cNvSpPr/>
          <p:nvPr/>
        </p:nvSpPr>
        <p:spPr>
          <a:xfrm>
            <a:off x="5818320" y="5425920"/>
            <a:ext cx="1363680" cy="45720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3"/>
          <p:cNvSpPr/>
          <p:nvPr/>
        </p:nvSpPr>
        <p:spPr>
          <a:xfrm>
            <a:off x="7507440" y="5403960"/>
            <a:ext cx="1361880" cy="45720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4"/>
          <p:cNvSpPr/>
          <p:nvPr/>
        </p:nvSpPr>
        <p:spPr>
          <a:xfrm>
            <a:off x="417600" y="6132600"/>
            <a:ext cx="8442360" cy="457200"/>
          </a:xfrm>
          <a:prstGeom prst="rect">
            <a:avLst/>
          </a:prstGeom>
          <a:solidFill>
            <a:srgbClr val="8c50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3560" y="40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Компетенция личности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8240" y="1855800"/>
            <a:ext cx="8143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собность применять личный опыт, знания, которые получены в период обучения в повседневной жизни, а также успешно адаптироваться в социу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4120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1642"/>
                </a:solidFill>
                <a:latin typeface="Calibri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1160" y="3645000"/>
            <a:ext cx="87120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8320" y="220320"/>
            <a:ext cx="881532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чини цепочку»</a:t>
            </a:r>
            <a:br>
              <a:rPr sz="3200"/>
            </a:b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: Круги кровообращения.</a:t>
            </a:r>
            <a:br>
              <a:rPr sz="29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82160" y="1539360"/>
            <a:ext cx="8642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мер №1: Расположи  по порядку отделы большого круга кровообращ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Левый желудочек – аорта – артерии – </a:t>
            </a:r>
            <a:r>
              <a:rPr b="0" lang="ru-RU" sz="2400" spc="-1" strike="noStrike" u="sng">
                <a:solidFill>
                  <a:srgbClr val="cc0099"/>
                </a:solidFill>
                <a:uFillTx/>
                <a:latin typeface="Arial"/>
              </a:rPr>
              <a:t>вены  - нижняя и верхняя полые вены - капилляры  - венулы-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правое предсерд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мер №2: Расположи  по порядку отделы малого круга кровообращ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Правый желудочек – легочная артерия – </a:t>
            </a:r>
            <a:r>
              <a:rPr b="0" lang="ru-RU" sz="2400" spc="-1" strike="noStrike" u="sng">
                <a:solidFill>
                  <a:srgbClr val="cc0099"/>
                </a:solidFill>
                <a:uFillTx/>
                <a:latin typeface="Arial"/>
              </a:rPr>
              <a:t>легочные вены- капиллярная сеть легких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– левое предсерд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83880" y="258480"/>
            <a:ext cx="63169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ем «Найди лишне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10880" y="1252440"/>
            <a:ext cx="89089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</a:rPr>
              <a:t>Найти «лишний  орган» и дать объяснение выбо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d00"/>
                </a:solidFill>
                <a:latin typeface="Times New Roman"/>
                <a:ea typeface="Times New Roman"/>
              </a:rPr>
              <a:t>Пример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дпочечники, поджелудочная железа, вилочковая железа, гипофиз (поджелудочная железа –железа смешанной секреции, остальные – внутренней секре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d00"/>
                </a:solidFill>
                <a:latin typeface="Times New Roman"/>
                <a:ea typeface="Times New Roman"/>
              </a:rPr>
              <a:t>Пример 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ие, трахеи, бронхиолы, альвеолы, гортань, капилляры (капилляры относятся к кровеносной системе, а остальные к дыхательно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d00"/>
                </a:solidFill>
                <a:latin typeface="Times New Roman"/>
                <a:ea typeface="Times New Roman"/>
              </a:rPr>
              <a:t>Пример 3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ый желудочек, аорта, артерии, капилляры, нижняя и верхняя полые вены, легочные вены (легочные вены –сосуды малого круга кровообращения, остальные- из большого круга кровообращ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d00"/>
                </a:solidFill>
                <a:latin typeface="Times New Roman"/>
                <a:ea typeface="Times New Roman"/>
              </a:rPr>
              <a:t>Пример 4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точек,  наковальня, стремечко, полукружные каналы (полукружные каналы расположены во внутреннем ухе, а три слуховые косточки в среднем ух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прием можно использовать при изучении любых т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универсал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0840" y="128520"/>
            <a:ext cx="8594640" cy="4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емы, используемые н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дии рефлек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18800" y="512640"/>
            <a:ext cx="883260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Резюме (Я понял(а), что…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Шесть шляп мышл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Возврат к ключевым слов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исьмо по круг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Различные виды дискусс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Написание  творческих рабо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Исследование по отдельным вопрос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Эс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Раф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Диама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Синквей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Хокку (хайк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Бортовой жур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Двухчастный днев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Трёхчастный днев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Рефлексивный экран вопр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Сформулируйте 3 вопроса по сегодняшней те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Можете ли вы добавить что-то новое к своим прежним мнениям (прием «Мое мнение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Что нового вы узнали на уро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52560" y="-360"/>
            <a:ext cx="63165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нкве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3760" y="841320"/>
            <a:ext cx="863604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Тема: Зрительный анализатор. Строение 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Гл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Красивые, лучеза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Воспринимают, преломляют, различ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Зрение - бесценное богатство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0200" y="374400"/>
            <a:ext cx="766260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ем «Письмо в будущее». Раф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72800" y="1116000"/>
            <a:ext cx="8723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ем «Письмо в будущее» или Ра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учащимся проанализировать весь учебный материал, который был предложен в ходе изучения темы и сделать соответствующие вы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нчивая урок по теме « Заболевания сердечно – сосудистой системы», предлагаю учащимся проанализировав прошедший урок, написать письмо своему будущему ребенку о том, что он должен знать, что делать, как себя вести, чтобы снизить риск сердечно – сосудистых заболеваний у себя и будущих потом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ожно менять «персонажи», т.е. менять автора и адресата, а также стиль изложения и суть, т.е. ид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2400" y="274680"/>
            <a:ext cx="8897760" cy="29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ссе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аждая группа работает по написанию эссе по теме или от имени кого то, например лесного жителя или больн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4366800"/>
            <a:ext cx="885672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C:\Documents and Settings\Администратор\Рабочий стол\689907432.gif"/>
          <p:cNvPicPr/>
          <p:nvPr/>
        </p:nvPicPr>
        <p:blipFill>
          <a:blip r:embed="rId1"/>
          <a:stretch/>
        </p:blipFill>
        <p:spPr>
          <a:xfrm>
            <a:off x="1727280" y="790560"/>
            <a:ext cx="5445000" cy="56786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2"/>
          <p:cNvSpPr/>
          <p:nvPr/>
        </p:nvSpPr>
        <p:spPr>
          <a:xfrm>
            <a:off x="246240" y="0"/>
            <a:ext cx="88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всем Вам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внимание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246240" y="5925960"/>
            <a:ext cx="877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пехов Вам 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09480" y="1481040"/>
            <a:ext cx="8077320" cy="366732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38120" y="1471680"/>
            <a:ext cx="8305920" cy="44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человеку определить собственные приоритеты в личной и профессиональной жизни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принятие индивидуальной ответственности за сделанный выбор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уровень индивидуальной культуры работы с информацией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 субъектную позицию личност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351080" y="228600"/>
            <a:ext cx="66880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Технология  Развития</a:t>
            </a:r>
            <a:br>
              <a:rPr sz="3200"/>
            </a:br>
            <a:r>
              <a:rPr b="1" i="1" lang="ru-RU" sz="32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 Критического Мыш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43000" y="538200"/>
            <a:ext cx="8470800" cy="716040"/>
          </a:xfrm>
          <a:prstGeom prst="rect">
            <a:avLst/>
          </a:prstGeom>
          <a:solidFill>
            <a:srgbClr val="fdf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Структура технологии уро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35080" y="1405080"/>
          <a:ext cx="8756640" cy="5106960"/>
        </p:xfrm>
        <a:graphic>
          <a:graphicData uri="http://schemas.openxmlformats.org/drawingml/2006/table">
            <a:tbl>
              <a:tblPr/>
              <a:tblGrid>
                <a:gridCol w="3495600"/>
                <a:gridCol w="2630520"/>
                <a:gridCol w="2630520"/>
              </a:tblGrid>
              <a:tr h="9223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«Вызов»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«Осмысление содержания»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«Рефлексия»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184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изация имеющихся знаний;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уждение интереса к получению новой информации;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учеником собственных целей обуч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новой информации;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ктировка учеником поставленных целей обуч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ышление, рождение нового знания;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тановка учеником новых целей обучения (на перспективу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d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0400" y="182160"/>
            <a:ext cx="882324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емы используемые н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дии вы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5800" y="685440"/>
            <a:ext cx="882468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499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«Верное или неверное утверждение» (в форме игры «крестики –нолики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99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«Верите ли вы, что …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99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облемные вопро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99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«Толстые и тонкие» вопро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99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Рассказ-предположение по ключевым слов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99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ерепутанные логические цепоч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99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Кластер предположений (на стадии рефлексии вносим из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99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99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Корзина ид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99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окопаемся в 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99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Ассоци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99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Инстр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99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Мозговой шту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99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Игра-упражнение «Ве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99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ем «Поясните цитат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99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ем «Вы согласны с этим высказыванием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99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ем «Как бы вы прокомментировали…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99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ем «З-Х-У» («знаю-хочу узнать - узнал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99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642"/>
                </a:solidFill>
                <a:latin typeface="Times New Roman"/>
                <a:ea typeface="Times New Roman"/>
              </a:rPr>
              <a:t>Прием «Что это…» (своеобразный «черный ящик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150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150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150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150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150"/>
              </a:spcBef>
              <a:buClr>
                <a:srgbClr val="ffe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150"/>
              </a:spcBef>
              <a:buClr>
                <a:srgbClr val="ffe2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150"/>
              </a:spcBef>
              <a:buClr>
                <a:srgbClr val="ffe2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150"/>
              </a:spcBef>
              <a:buClr>
                <a:srgbClr val="ffe2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21"/>
          <p:cNvSpPr/>
          <p:nvPr/>
        </p:nvSpPr>
        <p:spPr>
          <a:xfrm>
            <a:off x="3619440" y="2560680"/>
            <a:ext cx="1857600" cy="11239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0"/>
          <p:cNvSpPr/>
          <p:nvPr/>
        </p:nvSpPr>
        <p:spPr>
          <a:xfrm>
            <a:off x="5996160" y="2735280"/>
            <a:ext cx="1525320" cy="77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р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1479600" y="2236680"/>
            <a:ext cx="1373040" cy="7257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пан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8"/>
          <p:cNvSpPr/>
          <p:nvPr/>
        </p:nvSpPr>
        <p:spPr>
          <a:xfrm>
            <a:off x="1406520" y="3179880"/>
            <a:ext cx="1346040" cy="779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уд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7"/>
          <p:cNvSpPr/>
          <p:nvPr/>
        </p:nvSpPr>
        <p:spPr>
          <a:xfrm>
            <a:off x="206280" y="4440240"/>
            <a:ext cx="1530360" cy="790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и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6"/>
          <p:cNvSpPr/>
          <p:nvPr/>
        </p:nvSpPr>
        <p:spPr>
          <a:xfrm>
            <a:off x="2952720" y="3978360"/>
            <a:ext cx="1371600" cy="831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4889520" y="1324080"/>
            <a:ext cx="1743120" cy="842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ый желудоче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"/>
          <p:cNvSpPr/>
          <p:nvPr/>
        </p:nvSpPr>
        <p:spPr>
          <a:xfrm>
            <a:off x="6684840" y="1146240"/>
            <a:ext cx="1695600" cy="842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ое предсердие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2"/>
          <p:cNvSpPr/>
          <p:nvPr/>
        </p:nvSpPr>
        <p:spPr>
          <a:xfrm>
            <a:off x="612720" y="1187280"/>
            <a:ext cx="1692360" cy="870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лунные клапан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"/>
          <p:cNvSpPr/>
          <p:nvPr/>
        </p:nvSpPr>
        <p:spPr>
          <a:xfrm>
            <a:off x="2697120" y="1177920"/>
            <a:ext cx="1747800" cy="86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чатые клапан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 flipH="1" flipV="1">
            <a:off x="2990880" y="2762280"/>
            <a:ext cx="5572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 flipH="1">
            <a:off x="2879640" y="3287880"/>
            <a:ext cx="72072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 flipV="1">
            <a:off x="5484960" y="3096720"/>
            <a:ext cx="5047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2157480" y="4022640"/>
            <a:ext cx="55440" cy="5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 flipH="1">
            <a:off x="1307880" y="3925800"/>
            <a:ext cx="35388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1538280" y="2090880"/>
            <a:ext cx="162000" cy="23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 flipH="1">
            <a:off x="2643120" y="1986120"/>
            <a:ext cx="24120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 flipH="1" flipV="1">
            <a:off x="5789160" y="2180880"/>
            <a:ext cx="428760" cy="51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6802560" y="2092320"/>
            <a:ext cx="27468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7470720" y="2054160"/>
            <a:ext cx="1673280" cy="866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е предсердие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7351560" y="3274920"/>
            <a:ext cx="1679760" cy="820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ый желудоче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7580160" y="3146400"/>
            <a:ext cx="24768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 flipH="1">
            <a:off x="7211880" y="2529000"/>
            <a:ext cx="216000" cy="17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Заголовок 1"/>
          <p:cNvSpPr/>
          <p:nvPr/>
        </p:nvSpPr>
        <p:spPr>
          <a:xfrm>
            <a:off x="1351080" y="201600"/>
            <a:ext cx="63165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тер « Сердце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7"/>
          <p:cNvSpPr/>
          <p:nvPr/>
        </p:nvSpPr>
        <p:spPr>
          <a:xfrm>
            <a:off x="1730520" y="4757760"/>
            <a:ext cx="1635120" cy="784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лляр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2692440" y="3835440"/>
            <a:ext cx="2984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0"/>
          <p:cNvSpPr/>
          <p:nvPr/>
        </p:nvSpPr>
        <p:spPr>
          <a:xfrm>
            <a:off x="5141880" y="3821040"/>
            <a:ext cx="1641600" cy="90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ки   сердц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5013360" y="3662280"/>
            <a:ext cx="27792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6"/>
          <p:cNvSpPr/>
          <p:nvPr/>
        </p:nvSpPr>
        <p:spPr>
          <a:xfrm>
            <a:off x="4394160" y="5127480"/>
            <a:ext cx="1587600" cy="984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кард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6"/>
          <p:cNvSpPr/>
          <p:nvPr/>
        </p:nvSpPr>
        <p:spPr>
          <a:xfrm>
            <a:off x="6327720" y="5308560"/>
            <a:ext cx="1743120" cy="9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кард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6"/>
          <p:cNvSpPr/>
          <p:nvPr/>
        </p:nvSpPr>
        <p:spPr>
          <a:xfrm>
            <a:off x="7199280" y="4276800"/>
            <a:ext cx="1646280" cy="901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кард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 flipH="1">
            <a:off x="5467320" y="4764240"/>
            <a:ext cx="33336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6278400" y="4702320"/>
            <a:ext cx="449280" cy="63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>
            <a:off x="6702480" y="4508640"/>
            <a:ext cx="50004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6560" y="274320"/>
            <a:ext cx="8553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ем «Знаю, хочу узнать, что узна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685880"/>
          <a:ext cx="8110440" cy="4359240"/>
        </p:xfrm>
        <a:graphic>
          <a:graphicData uri="http://schemas.openxmlformats.org/drawingml/2006/table">
            <a:tbl>
              <a:tblPr/>
              <a:tblGrid>
                <a:gridCol w="2703600"/>
                <a:gridCol w="2703600"/>
                <a:gridCol w="2703240"/>
              </a:tblGrid>
              <a:tr h="1816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я </a:t>
                      </a:r>
                      <a:r>
                        <a:rPr b="1" lang="ru-RU" sz="22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о 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оении сердца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я 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хотел бы знать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  строении сердца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Что я узнал </a:t>
                      </a: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го о строении сердца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д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д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д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машка Блу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3"/>
          <p:cNvSpPr/>
          <p:nvPr/>
        </p:nvSpPr>
        <p:spPr>
          <a:xfrm rot="17934600">
            <a:off x="3706920" y="2204640"/>
            <a:ext cx="3297240" cy="11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осто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про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"/>
          <p:cNvSpPr/>
          <p:nvPr/>
        </p:nvSpPr>
        <p:spPr>
          <a:xfrm rot="21547200">
            <a:off x="4110120" y="3621240"/>
            <a:ext cx="3784680" cy="9824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точняющи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про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5"/>
          <p:cNvSpPr/>
          <p:nvPr/>
        </p:nvSpPr>
        <p:spPr>
          <a:xfrm rot="3547200">
            <a:off x="3839760" y="4458960"/>
            <a:ext cx="3085920" cy="1209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ценочны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про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"/>
          <p:cNvSpPr/>
          <p:nvPr/>
        </p:nvSpPr>
        <p:spPr>
          <a:xfrm rot="17947200">
            <a:off x="2490840" y="4390560"/>
            <a:ext cx="3297240" cy="11286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ворчески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про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7"/>
          <p:cNvSpPr/>
          <p:nvPr/>
        </p:nvSpPr>
        <p:spPr>
          <a:xfrm rot="21547200">
            <a:off x="1465200" y="3656160"/>
            <a:ext cx="3784680" cy="98424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прос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нтерпретац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8"/>
          <p:cNvSpPr/>
          <p:nvPr/>
        </p:nvSpPr>
        <p:spPr>
          <a:xfrm rot="3547200">
            <a:off x="2467440" y="2242080"/>
            <a:ext cx="3085920" cy="1204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актически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про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"/>
          <p:cNvSpPr/>
          <p:nvPr/>
        </p:nvSpPr>
        <p:spPr>
          <a:xfrm rot="21415200">
            <a:off x="4143240" y="3685680"/>
            <a:ext cx="1144800" cy="854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57240" y="109440"/>
            <a:ext cx="631656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машка Бл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92240" y="671400"/>
          <a:ext cx="8796240" cy="6531120"/>
        </p:xfrm>
        <a:graphic>
          <a:graphicData uri="http://schemas.openxmlformats.org/drawingml/2006/table">
            <a:tbl>
              <a:tblPr/>
              <a:tblGrid>
                <a:gridCol w="4398840"/>
                <a:gridCol w="4397400"/>
              </a:tblGrid>
              <a:tr h="480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Вопрос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8c501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имер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8c501c"/>
                    </a:solidFill>
                  </a:tcPr>
                </a:tc>
              </a:tr>
              <a:tr h="121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Простые вопросы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фактические вопросы) – требуют знания фактического материала и ориентированы на работу памя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dbd0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камер  в сердце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клапанов в сердце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называется  самая крупная артерия?  т. д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dbd0cc"/>
                    </a:solidFill>
                  </a:tcPr>
                </a:tc>
              </a:tr>
              <a:tr h="94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точняющие вопросы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«насколько я понял….», «правильно ли я Вас поняла, что…»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ee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 ли я Вас поняла, что митральный клапан называется еще двухстворчатым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eee9e7"/>
                    </a:solidFill>
                  </a:tcPr>
                </a:tc>
              </a:tr>
              <a:tr h="107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6666"/>
                          </a:solidFill>
                          <a:latin typeface="Times New Roman"/>
                          <a:ea typeface="Times New Roman"/>
                        </a:rPr>
                        <a:t>Интерпретирующие вопросы</a:t>
                      </a:r>
                      <a:r>
                        <a:rPr b="1" lang="ru-RU" sz="1800" spc="-1" strike="noStrike">
                          <a:solidFill>
                            <a:srgbClr val="6666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бъясняющие) – побуждая учеников к интерпретации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dbd0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кровь в сердце движется в одном направлении? Объясните это через строение створчатых клапанов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dbd0c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Оценочные вопрос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равнение)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ee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стенки правого и левого желудочков сердца? С чем это связано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eee9e7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Творческие вопросы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рогноз) – «Как вы думаете, что произойдет дальше…?»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dbd0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раясь на  длительность этапов сердечного цикла, объясните почему сердце может работать всю жизнь, не останавливаясь и не уставая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dbd0c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актические вопросы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«Как мы можем…?» «Как поступили бы вы…?»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ee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йте выводы о  достоинствах строения сердца, определяющих теплокровность. Аргументируйт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ee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3:21:09Z</dcterms:created>
  <dc:creator>User</dc:creator>
  <dc:description/>
  <dc:language>en-US</dc:language>
  <cp:lastModifiedBy>user</cp:lastModifiedBy>
  <dcterms:modified xsi:type="dcterms:W3CDTF">2018-08-23T17:06:46Z</dcterms:modified>
  <cp:revision>149</cp:revision>
  <dc:subject/>
  <dc:title>Презентация PowerPoint</dc:title>
</cp:coreProperties>
</file>