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gif" ContentType="image/gif"/>
  <Override PartName="/ppt/media/image9.gif" ContentType="image/gif"/>
  <Override PartName="/ppt/media/image1.gif" ContentType="image/gif"/>
  <Override PartName="/ppt/media/image4.wmf" ContentType="image/x-wmf"/>
  <Override PartName="/ppt/media/image10.wmf" ContentType="image/x-wmf"/>
  <Override PartName="/ppt/media/image13.wmf" ContentType="image/x-wmf"/>
  <Override PartName="/ppt/media/image5.png" ContentType="image/png"/>
  <Override PartName="/ppt/media/image2.gif" ContentType="image/gif"/>
  <Override PartName="/ppt/media/image3.wmf" ContentType="image/x-wmf"/>
  <Override PartName="/ppt/media/image6.gif" ContentType="image/gif"/>
  <Override PartName="/ppt/media/image7.gif" ContentType="image/gif"/>
  <Override PartName="/ppt/media/image12.gif" ContentType="image/gif"/>
  <Override PartName="/ppt/media/image8.gif" ContentType="image/gif"/>
  <Override PartName="/ppt/media/image11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A48F7-8F38-4C3E-95C3-4E261DEEE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45EDE-0CEF-436E-A6E1-F5FCD6F46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758C1-61B2-4B21-AB6F-2FF0338FF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56C2D-8A1A-4BC4-90AC-171DFA016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08A26-956E-4053-AF1B-CC29564F4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21FBA-67FB-4B70-A21E-106042201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60842-CD23-4953-9B18-057225C81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50CF3-2DDE-4CF4-A0CE-1C2D3BFE1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6BBCC-CE78-49A4-BC74-0013BD3D1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42D5C-078A-4718-9132-251A12445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32666-E604-4F2D-9DD6-833523C68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8E810-BC9A-4AFE-8805-7C8CBB10F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3A75F-4198-41B8-A88B-351E8ED0DF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image" Target="../media/image12.gif"/><Relationship Id="rId4" Type="http://schemas.openxmlformats.org/officeDocument/2006/relationships/slideLayout" Target="../slideLayouts/slideLayout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4.gif"/><Relationship Id="rId3" Type="http://schemas.openxmlformats.org/officeDocument/2006/relationships/image" Target="../media/image14.gif"/><Relationship Id="rId4" Type="http://schemas.openxmlformats.org/officeDocument/2006/relationships/image" Target="../media/image14.gif"/><Relationship Id="rId5" Type="http://schemas.openxmlformats.org/officeDocument/2006/relationships/image" Target="../media/image14.gif"/><Relationship Id="rId6" Type="http://schemas.openxmlformats.org/officeDocument/2006/relationships/image" Target="../media/image14.gif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gif"/><Relationship Id="rId3" Type="http://schemas.openxmlformats.org/officeDocument/2006/relationships/image" Target="../media/image7.gif"/><Relationship Id="rId4" Type="http://schemas.openxmlformats.org/officeDocument/2006/relationships/image" Target="../media/image8.gi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539640" y="333360"/>
            <a:ext cx="7704360" cy="604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Arial"/>
              </a:rPr>
              <a:t>О т к р ы т и 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808680" y="4113360"/>
            <a:ext cx="1568520" cy="23842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58920" y="836640"/>
            <a:ext cx="1855800" cy="255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" name=""/>
          <p:cNvGrpSpPr/>
          <p:nvPr/>
        </p:nvGrpSpPr>
        <p:grpSpPr>
          <a:xfrm>
            <a:off x="611280" y="225360"/>
            <a:ext cx="2916000" cy="2916000"/>
            <a:chOff x="611280" y="225360"/>
            <a:chExt cx="2916000" cy="2916000"/>
          </a:xfrm>
        </p:grpSpPr>
        <p:grpSp>
          <p:nvGrpSpPr>
            <p:cNvPr id="109" name=""/>
            <p:cNvGrpSpPr/>
            <p:nvPr/>
          </p:nvGrpSpPr>
          <p:grpSpPr>
            <a:xfrm>
              <a:off x="611280" y="225360"/>
              <a:ext cx="2916000" cy="2916000"/>
              <a:chOff x="611280" y="225360"/>
              <a:chExt cx="2916000" cy="2916000"/>
            </a:xfrm>
          </p:grpSpPr>
          <p:sp>
            <p:nvSpPr>
              <p:cNvPr id="110" name=""/>
              <p:cNvSpPr/>
              <p:nvPr/>
            </p:nvSpPr>
            <p:spPr>
              <a:xfrm>
                <a:off x="611280" y="225360"/>
                <a:ext cx="2916000" cy="2916000"/>
              </a:xfrm>
              <a:prstGeom prst="ellipse">
                <a:avLst/>
              </a:prstGeom>
              <a:solidFill>
                <a:srgbClr val="ff99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1582560" y="225360"/>
                <a:ext cx="468000" cy="2844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050920" y="225360"/>
                <a:ext cx="1152000" cy="2376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826920" y="1125360"/>
              <a:ext cx="647280" cy="100836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826920" y="3681360"/>
            <a:ext cx="2916360" cy="2916360"/>
            <a:chOff x="826920" y="3681360"/>
            <a:chExt cx="2916360" cy="2916360"/>
          </a:xfrm>
        </p:grpSpPr>
        <p:grpSp>
          <p:nvGrpSpPr>
            <p:cNvPr id="115" name=""/>
            <p:cNvGrpSpPr/>
            <p:nvPr/>
          </p:nvGrpSpPr>
          <p:grpSpPr>
            <a:xfrm>
              <a:off x="826920" y="3681360"/>
              <a:ext cx="2916360" cy="2916360"/>
              <a:chOff x="826920" y="3681360"/>
              <a:chExt cx="2916360" cy="2916360"/>
            </a:xfrm>
          </p:grpSpPr>
          <p:sp>
            <p:nvSpPr>
              <p:cNvPr id="116" name=""/>
              <p:cNvSpPr/>
              <p:nvPr/>
            </p:nvSpPr>
            <p:spPr>
              <a:xfrm>
                <a:off x="826920" y="3681360"/>
                <a:ext cx="2916360" cy="2916360"/>
              </a:xfrm>
              <a:prstGeom prst="ellipse">
                <a:avLst/>
              </a:prstGeom>
              <a:solidFill>
                <a:srgbClr val="00ff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V="1">
                <a:off x="1582560" y="3968280"/>
                <a:ext cx="1511280" cy="1584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V="1">
                <a:off x="1546200" y="4976280"/>
                <a:ext cx="2197080" cy="576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476360" y="4041720"/>
              <a:ext cx="431640" cy="91476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5111640" y="3681360"/>
            <a:ext cx="2917800" cy="2916360"/>
          </a:xfrm>
          <a:prstGeom prst="ellipse">
            <a:avLst/>
          </a:prstGeom>
          <a:solidFill>
            <a:srgbClr val="ff99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553080" y="5157720"/>
            <a:ext cx="1332000" cy="576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6588000" y="3681360"/>
            <a:ext cx="216000" cy="1513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516720" y="5122800"/>
            <a:ext cx="108000" cy="108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653080" y="4438800"/>
            <a:ext cx="647640" cy="100836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5040360" y="189000"/>
            <a:ext cx="2916000" cy="3132000"/>
            <a:chOff x="5040360" y="189000"/>
            <a:chExt cx="2916000" cy="3132000"/>
          </a:xfrm>
        </p:grpSpPr>
        <p:grpSp>
          <p:nvGrpSpPr>
            <p:cNvPr id="126" name=""/>
            <p:cNvGrpSpPr/>
            <p:nvPr/>
          </p:nvGrpSpPr>
          <p:grpSpPr>
            <a:xfrm>
              <a:off x="5040360" y="189000"/>
              <a:ext cx="2916000" cy="3132000"/>
              <a:chOff x="5040360" y="189000"/>
              <a:chExt cx="2916000" cy="3132000"/>
            </a:xfrm>
          </p:grpSpPr>
          <p:sp>
            <p:nvSpPr>
              <p:cNvPr id="127" name=""/>
              <p:cNvSpPr/>
              <p:nvPr/>
            </p:nvSpPr>
            <p:spPr>
              <a:xfrm>
                <a:off x="5040360" y="404640"/>
                <a:ext cx="2916000" cy="2916360"/>
              </a:xfrm>
              <a:prstGeom prst="ellipse">
                <a:avLst/>
              </a:prstGeom>
              <a:solidFill>
                <a:srgbClr val="3366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V="1">
                <a:off x="5113080" y="475920"/>
                <a:ext cx="1908360" cy="973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5076720" y="189000"/>
                <a:ext cx="396720" cy="1295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0" name=""/>
            <p:cNvSpPr/>
            <p:nvPr/>
          </p:nvSpPr>
          <p:spPr>
            <a:xfrm>
              <a:off x="5977080" y="1484280"/>
              <a:ext cx="647640" cy="100836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443640" y="1808280"/>
            <a:ext cx="108000" cy="108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16000" y="1665360"/>
            <a:ext cx="108000" cy="108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195640" y="5121360"/>
            <a:ext cx="108000" cy="108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4" name=""/>
          <p:cNvGraphicFramePr/>
          <p:nvPr/>
        </p:nvGraphicFramePr>
        <p:xfrm>
          <a:off x="395280" y="1268280"/>
          <a:ext cx="7740720" cy="516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268280"/>
                    <a:ext cx="7740720" cy="51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4103640" y="2168640"/>
                <a:ext cx="892080" cy="172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2303640" y="2889360"/>
                <a:ext cx="907920" cy="176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8" name=""/>
          <p:cNvSpPr/>
          <p:nvPr/>
        </p:nvSpPr>
        <p:spPr>
          <a:xfrm>
            <a:off x="395280" y="368280"/>
            <a:ext cx="8172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ак найти центральные углы соответствующие данным величина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3">
            <a:lum bright="6000"/>
          </a:blip>
          <a:stretch/>
        </p:blipFill>
        <p:spPr>
          <a:xfrm>
            <a:off x="216000" y="5516640"/>
            <a:ext cx="1143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fill="hold">
                      <p:stCondLst>
                        <p:cond delay="0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67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2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 flipV="1">
            <a:off x="4572000" y="3321000"/>
            <a:ext cx="2376360" cy="108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 rot="2193600">
            <a:off x="2901600" y="1665360"/>
            <a:ext cx="2282760" cy="141588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2195640" y="981000"/>
            <a:ext cx="4752720" cy="4824360"/>
          </a:xfrm>
          <a:prstGeom prst="ellipse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 flipV="1">
            <a:off x="3600000" y="1197000"/>
            <a:ext cx="971640" cy="2232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535640" y="3392640"/>
            <a:ext cx="71280" cy="71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3108600" y="1927080"/>
            <a:ext cx="2964960" cy="2964960"/>
            <a:chOff x="3108600" y="1927080"/>
            <a:chExt cx="2964960" cy="2964960"/>
          </a:xfrm>
        </p:grpSpPr>
        <p:grpSp>
          <p:nvGrpSpPr>
            <p:cNvPr id="146" name=""/>
            <p:cNvGrpSpPr/>
            <p:nvPr/>
          </p:nvGrpSpPr>
          <p:grpSpPr>
            <a:xfrm>
              <a:off x="3108600" y="1927080"/>
              <a:ext cx="2964960" cy="2964960"/>
              <a:chOff x="3108600" y="1927080"/>
              <a:chExt cx="2964960" cy="2964960"/>
            </a:xfrm>
          </p:grpSpPr>
          <p:sp>
            <p:nvSpPr>
              <p:cNvPr id="147" name="PubChord"/>
              <p:cNvSpPr/>
              <p:nvPr/>
            </p:nvSpPr>
            <p:spPr>
              <a:xfrm rot="12159000">
                <a:off x="3457440" y="2275920"/>
                <a:ext cx="2266920" cy="2266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3163" y="3163"/>
                    </a:moveTo>
                    <a:arcTo wR="10800" hR="10800" stAng="-8100000" swAng="-10800000"/>
                    <a:close/>
                  </a:path>
                </a:pathLst>
              </a:cu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flipV="1">
                <a:off x="5538960" y="2977920"/>
                <a:ext cx="99720" cy="4104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 flipV="1">
                <a:off x="4978800" y="2368800"/>
                <a:ext cx="58680" cy="14040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flipH="1" flipV="1">
                <a:off x="5434200" y="3802320"/>
                <a:ext cx="154800" cy="9180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628960" y="3332160"/>
                <a:ext cx="81000" cy="540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rot="5267400">
                <a:off x="5164920" y="3153960"/>
                <a:ext cx="612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0000"/>
                    </a:solidFill>
                    <a:latin typeface="Arial"/>
                  </a:rPr>
                  <a:t>10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Arial"/>
                  </a:rPr>
                  <a:t>8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3" name=""/>
            <p:cNvSpPr/>
            <p:nvPr/>
          </p:nvSpPr>
          <p:spPr>
            <a:xfrm flipV="1">
              <a:off x="4614480" y="3393000"/>
              <a:ext cx="67320" cy="277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95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500"/>
                            </p:stCondLst>
                            <p:childTnLst>
                              <p:par>
                                <p:cTn id="508" nodeType="after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9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0" dur="100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0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5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5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8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9" dur="100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10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1476360" y="1413000"/>
            <a:ext cx="3392640" cy="342108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6434280" y="2457360"/>
            <a:ext cx="1112760" cy="16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2268360" y="1125360"/>
            <a:ext cx="1224000" cy="19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500" spc="-1" strike="noStrike">
                <a:solidFill>
                  <a:srgbClr val="ffff00"/>
                </a:solidFill>
                <a:latin typeface="Comic Sans MS"/>
              </a:rPr>
              <a:t>у</a:t>
            </a:r>
            <a:endParaRPr b="0" lang="en-US" sz="1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050920" y="2565360"/>
            <a:ext cx="1224000" cy="19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500" spc="-1" strike="noStrike">
                <a:solidFill>
                  <a:srgbClr val="336600"/>
                </a:solidFill>
                <a:latin typeface="Comic Sans MS"/>
              </a:rPr>
              <a:t>а</a:t>
            </a:r>
            <a:endParaRPr b="0" lang="en-US" sz="1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4000" y="1144440"/>
            <a:ext cx="1112760" cy="19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500" spc="-1" strike="noStrike">
                <a:solidFill>
                  <a:srgbClr val="ff0000"/>
                </a:solidFill>
                <a:latin typeface="Comic Sans MS"/>
              </a:rPr>
              <a:t>К</a:t>
            </a:r>
            <a:endParaRPr b="0" lang="en-US" sz="1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332000" y="1125360"/>
            <a:ext cx="1224000" cy="19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500" spc="-1" strike="noStrike">
                <a:solidFill>
                  <a:srgbClr val="ff9933"/>
                </a:solidFill>
                <a:latin typeface="Comic Sans MS"/>
              </a:rPr>
              <a:t>р</a:t>
            </a:r>
            <a:endParaRPr b="0" lang="en-US" sz="1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203960" y="1125360"/>
            <a:ext cx="1113120" cy="19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500" spc="-1" strike="noStrike">
                <a:solidFill>
                  <a:srgbClr val="ff0000"/>
                </a:solidFill>
                <a:latin typeface="Comic Sans MS"/>
              </a:rPr>
              <a:t>е</a:t>
            </a:r>
            <a:endParaRPr b="0" lang="en-US" sz="1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971640" y="2584440"/>
            <a:ext cx="1224000" cy="19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500" spc="-1" strike="noStrike">
                <a:solidFill>
                  <a:srgbClr val="ffff00"/>
                </a:solidFill>
                <a:latin typeface="Comic Sans MS"/>
              </a:rPr>
              <a:t>и</a:t>
            </a:r>
            <a:endParaRPr b="0" lang="en-US" sz="1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203640" y="1144440"/>
            <a:ext cx="1224000" cy="19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500" spc="-1" strike="noStrike">
                <a:solidFill>
                  <a:srgbClr val="008000"/>
                </a:solidFill>
                <a:latin typeface="Comic Sans MS"/>
              </a:rPr>
              <a:t>г</a:t>
            </a:r>
            <a:endParaRPr b="0" lang="en-US" sz="1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995640" y="1144440"/>
            <a:ext cx="1224000" cy="19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500" spc="-1" strike="noStrike">
                <a:solidFill>
                  <a:srgbClr val="0066ff"/>
                </a:solidFill>
                <a:latin typeface="Comic Sans MS"/>
              </a:rPr>
              <a:t>о</a:t>
            </a:r>
            <a:endParaRPr b="0" lang="en-US" sz="1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932360" y="1071720"/>
            <a:ext cx="1224000" cy="19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500" spc="-1" strike="noStrike">
                <a:solidFill>
                  <a:srgbClr val="333399"/>
                </a:solidFill>
                <a:latin typeface="Comic Sans MS"/>
              </a:rPr>
              <a:t>в</a:t>
            </a:r>
            <a:endParaRPr b="0" lang="en-US" sz="1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796000" y="1144440"/>
            <a:ext cx="1512720" cy="19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500" spc="-1" strike="noStrike">
                <a:solidFill>
                  <a:srgbClr val="cc0099"/>
                </a:solidFill>
                <a:latin typeface="Comic Sans MS"/>
              </a:rPr>
              <a:t>ы</a:t>
            </a:r>
            <a:endParaRPr b="0" lang="en-US" sz="1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4920" y="2565360"/>
            <a:ext cx="1112760" cy="19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500" spc="-1" strike="noStrike">
                <a:solidFill>
                  <a:srgbClr val="ff9900"/>
                </a:solidFill>
                <a:latin typeface="Comic Sans MS"/>
              </a:rPr>
              <a:t>д</a:t>
            </a:r>
            <a:endParaRPr b="0" lang="en-US" sz="1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524720" y="2584440"/>
            <a:ext cx="1473120" cy="19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500" spc="-1" strike="noStrike">
                <a:solidFill>
                  <a:srgbClr val="ffff00"/>
                </a:solidFill>
                <a:latin typeface="Comic Sans MS"/>
              </a:rPr>
              <a:t>ы</a:t>
            </a:r>
            <a:endParaRPr b="0" lang="en-US" sz="1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843280" y="2565360"/>
            <a:ext cx="1224000" cy="19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500" spc="-1" strike="noStrike">
                <a:solidFill>
                  <a:srgbClr val="3366ff"/>
                </a:solidFill>
                <a:latin typeface="Comic Sans MS"/>
              </a:rPr>
              <a:t>г</a:t>
            </a:r>
            <a:endParaRPr b="0" lang="en-US" sz="1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564000" y="2584440"/>
            <a:ext cx="1224000" cy="19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500" spc="-1" strike="noStrike">
                <a:solidFill>
                  <a:srgbClr val="000099"/>
                </a:solidFill>
                <a:latin typeface="Comic Sans MS"/>
              </a:rPr>
              <a:t>р</a:t>
            </a:r>
            <a:endParaRPr b="0" lang="en-US" sz="1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427640" y="2565360"/>
            <a:ext cx="1224000" cy="19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500" spc="-1" strike="noStrike">
                <a:solidFill>
                  <a:srgbClr val="cc0099"/>
                </a:solidFill>
                <a:latin typeface="Comic Sans MS"/>
              </a:rPr>
              <a:t>а</a:t>
            </a:r>
            <a:endParaRPr b="0" lang="en-US" sz="1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292720" y="2565360"/>
            <a:ext cx="1512720" cy="19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500" spc="-1" strike="noStrike">
                <a:solidFill>
                  <a:srgbClr val="ff0000"/>
                </a:solidFill>
                <a:latin typeface="Comic Sans MS"/>
              </a:rPr>
              <a:t>м</a:t>
            </a:r>
            <a:endParaRPr b="0" lang="en-US" sz="1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443640" y="2565360"/>
            <a:ext cx="1513080" cy="19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500" spc="-1" strike="noStrike">
                <a:solidFill>
                  <a:srgbClr val="ff9900"/>
                </a:solidFill>
                <a:latin typeface="Comic Sans MS"/>
              </a:rPr>
              <a:t>м</a:t>
            </a:r>
            <a:endParaRPr b="0" lang="en-US" sz="1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5310360"/>
            <a:ext cx="1547640" cy="154764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1546200" y="5300640"/>
            <a:ext cx="1513080" cy="158436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2987640" y="5310360"/>
            <a:ext cx="1548000" cy="154764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4"/>
          <a:stretch/>
        </p:blipFill>
        <p:spPr>
          <a:xfrm>
            <a:off x="4500720" y="5311800"/>
            <a:ext cx="1546200" cy="154620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5"/>
          <a:stretch/>
        </p:blipFill>
        <p:spPr>
          <a:xfrm>
            <a:off x="6012000" y="5310360"/>
            <a:ext cx="1547640" cy="154764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6"/>
          <a:stretch/>
        </p:blipFill>
        <p:spPr>
          <a:xfrm>
            <a:off x="7524720" y="5310360"/>
            <a:ext cx="1548000" cy="15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fill="hold">
                      <p:stCondLst>
                        <p:cond delay="0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after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0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6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2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8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3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4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9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0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5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6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1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2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7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8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4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9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0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5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6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1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2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7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8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3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4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9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0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6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9" fill="hold">
                            <p:stCondLst>
                              <p:cond delay="2000"/>
                            </p:stCondLst>
                            <p:childTnLst>
                              <p:par>
                                <p:cTn id="640" nodeType="afterEffect" fill="hold" presetClass="emph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41" dur="indefinite"/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2" nodeType="withEffect" fill="hold" presetClass="emph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43" dur="indefinite"/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4" nodeType="withEffect" fill="hold" presetClass="emph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45" dur="indefinite"/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6" nodeType="withEffect" fill="hold" presetClass="emph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47" dur="indefinite"/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8" nodeType="withEffect" fill="hold" presetClass="emph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49" dur="indefinite"/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0" nodeType="withEffect" fill="hold" presetClass="emph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51" dur="indefinite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2" nodeType="withEffect" fill="hold" presetClass="emph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53" dur="indefinite"/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4" nodeType="withEffect" fill="hold" presetClass="emph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55" dur="indefinite"/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6" nodeType="withEffect" fill="hold" presetClass="emph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57" dur="indefinite"/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8" nodeType="withEffect" fill="hold" presetClass="emph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59" dur="indefinite"/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0" nodeType="withEffect" fill="hold" presetClass="emph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61" dur="indefinite"/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2" nodeType="withEffect" fill="hold" presetClass="emph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63" dur="indefinite"/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4" nodeType="withEffect" fill="hold" presetClass="emph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65" dur="indefinite"/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6" nodeType="withEffect" fill="hold" presetClass="emph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67" dur="indefinite"/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8" nodeType="withEffect" fill="hold" presetClass="emph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69" dur="indefinite"/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0" nodeType="withEffect" fill="hold" presetClass="emph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71" dur="indefinite"/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2" nodeType="withEffect" fill="hold" presetClass="emph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73" dur="indefinite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fill="hold">
                            <p:stCondLst>
                              <p:cond delay="2025"/>
                            </p:stCondLst>
                            <p:childTnLst>
                              <p:par>
                                <p:cTn id="675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677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4025"/>
                            </p:stCondLst>
                            <p:childTnLst>
                              <p:par>
                                <p:cTn id="679" nodeType="after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681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fill="hold">
                            <p:stCondLst>
                              <p:cond delay="6025"/>
                            </p:stCondLst>
                            <p:childTnLst>
                              <p:par>
                                <p:cTn id="683" nodeType="afterEffect" fill="hold" presetClass="entr" presetID="21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3)" transition="in">
                                      <p:cBhvr additive="repl">
                                        <p:cTn id="685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6" fill="hold">
                            <p:stCondLst>
                              <p:cond delay="8025"/>
                            </p:stCondLst>
                            <p:childTnLst>
                              <p:par>
                                <p:cTn id="68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89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" fill="hold">
                            <p:stCondLst>
                              <p:cond delay="10025"/>
                            </p:stCondLst>
                            <p:childTnLst>
                              <p:par>
                                <p:cTn id="691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693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fill="hold">
                            <p:stCondLst>
                              <p:cond delay="12025"/>
                            </p:stCondLst>
                            <p:childTnLst>
                              <p:par>
                                <p:cTn id="695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697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664000" y="1700280"/>
            <a:ext cx="3276360" cy="3276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087640" y="1233360"/>
          <a:ext cx="4282920" cy="4054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87640" y="1233360"/>
                    <a:ext cx="4282920" cy="405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7640" y="129960"/>
            <a:ext cx="280836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Найд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" name=""/>
              <p:cNvSpPr txBox="1"/>
              <p:nvPr/>
            </p:nvSpPr>
            <p:spPr>
              <a:xfrm>
                <a:off x="539640" y="1184400"/>
                <a:ext cx="7740720" cy="411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limLow>
                      <m:e/>
                      <m:lim/>
                    </m:limLow>
                    <m:r>
                      <m:rPr>
                        <m:lit/>
                        <m:nor/>
                      </m:rPr>
                      <m:t xml:space="preserve">от</m:t>
                    </m:r>
                    <m:r>
                      <m:rPr>
                        <m:lit/>
                        <m:nor/>
                      </m:rPr>
                      <m:t xml:space="preserve">36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" name=""/>
              <p:cNvSpPr txBox="1"/>
              <p:nvPr/>
            </p:nvSpPr>
            <p:spPr>
              <a:xfrm>
                <a:off x="433440" y="1978200"/>
                <a:ext cx="8170920" cy="296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  <m:limLow>
                      <m:e/>
                      <m:lim/>
                    </m:limLow>
                    <m:r>
                      <m:rPr>
                        <m:lit/>
                        <m:nor/>
                      </m:rPr>
                      <m:t xml:space="preserve">от</m:t>
                    </m:r>
                    <m:limLow>
                      <m:e/>
                      <m:lim/>
                    </m:limLow>
                    <m:r>
                      <m:rPr>
                        <m:lit/>
                        <m:nor/>
                      </m:rPr>
                      <m:t xml:space="preserve">4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" name=""/>
              <p:cNvSpPr txBox="1"/>
              <p:nvPr/>
            </p:nvSpPr>
            <p:spPr>
              <a:xfrm>
                <a:off x="324000" y="1665360"/>
                <a:ext cx="8575560" cy="381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Low>
                          <m:e/>
                          <m:lim/>
                        </m:limLow>
                        <m:r>
                          <m:rPr>
                            <m:lit/>
                            <m:nor/>
                          </m:rPr>
                          <m:t xml:space="preserve">градусную</m:t>
                        </m:r>
                        <m:limLow>
                          <m:e/>
                          <m:lim/>
                        </m:limLow>
                        <m:r>
                          <m:rPr>
                            <m:lit/>
                            <m:nor/>
                          </m:rPr>
                          <m:t xml:space="preserve">меру</m:t>
                        </m:r>
                        <m:limLow>
                          <m:e/>
                          <m:lim/>
                        </m:limLow>
                        <m:r>
                          <m:rPr>
                            <m:lit/>
                            <m:nor/>
                          </m:rPr>
                          <m:t xml:space="preserve">угла</m:t>
                        </m:r>
                        <m:r>
                          <m:t xml:space="preserve">,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если</m:t>
                        </m:r>
                        <m:limLow>
                          <m:e/>
                          <m:lim/>
                        </m:limLow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limLow>
                          <m:e/>
                          <m:lim/>
                        </m:limLow>
                        <m:r>
                          <m:rPr>
                            <m:lit/>
                            <m:nor/>
                          </m:rPr>
                          <m:t xml:space="preserve">его</m:t>
                        </m:r>
                        <m:limLow>
                          <m:e/>
                          <m:lim/>
                        </m:limLow>
                        <m:r>
                          <m:rPr>
                            <m:lit/>
                            <m:nor/>
                          </m:rPr>
                          <m:t xml:space="preserve">равны</m:t>
                        </m:r>
                        <m:limLow>
                          <m:e/>
                          <m:lim/>
                        </m:limLow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60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287280" y="1916280"/>
                <a:ext cx="8677440" cy="26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/>
                      <m:lim/>
                    </m:limLow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limLow>
                      <m:e/>
                      <m:lim/>
                    </m:limLow>
                    <m:r>
                      <m:rPr>
                        <m:lit/>
                        <m:nor/>
                      </m:rPr>
                      <m:t xml:space="preserve">прямого</m:t>
                    </m:r>
                    <m:limLow>
                      <m:e/>
                      <m:lim/>
                    </m:limLow>
                    <m:r>
                      <m:rPr>
                        <m:lit/>
                        <m:nor/>
                      </m:rPr>
                      <m:t xml:space="preserve">угл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4392720" y="2205000"/>
                <a:ext cx="530280" cy="149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3" name=""/>
          <p:cNvSpPr/>
          <p:nvPr/>
        </p:nvSpPr>
        <p:spPr>
          <a:xfrm>
            <a:off x="3456000" y="1808280"/>
            <a:ext cx="757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16360" y="3645000"/>
            <a:ext cx="2087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ешение зада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1547640" y="630360"/>
                <a:ext cx="5869080" cy="15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/>
                      <m:lim/>
                    </m:limLow>
                    <m:r>
                      <m:rPr>
                        <m:lit/>
                        <m:nor/>
                      </m:rPr>
                      <m:t xml:space="preserve">урок</m:t>
                    </m:r>
                    <m:limLow>
                      <m:e/>
                      <m:lim/>
                    </m:limLow>
                    <m:r>
                      <m:t xml:space="preserve">⇒</m:t>
                    </m:r>
                    <m:limLow>
                      <m:e/>
                      <m:lim/>
                    </m:limLow>
                    <m:r>
                      <m:rPr>
                        <m:lit/>
                        <m:nor/>
                      </m:rPr>
                      <m:t xml:space="preserve">40</m:t>
                    </m:r>
                    <m:r>
                      <m:rPr>
                        <m:lit/>
                        <m:nor/>
                      </m:rPr>
                      <m:t xml:space="preserve">мин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6" name=""/>
          <p:cNvSpPr/>
          <p:nvPr/>
        </p:nvSpPr>
        <p:spPr>
          <a:xfrm>
            <a:off x="4859280" y="2781360"/>
            <a:ext cx="118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ро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664000" y="3176640"/>
            <a:ext cx="1692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Самостоятель-           ная рабо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" dur="5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" dur="5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" dur="5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3" dur="5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66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2000"/>
                            </p:stCondLst>
                            <p:childTnLst>
                              <p:par>
                                <p:cTn id="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4" dur="5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8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1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4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0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6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9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58920" y="1521000"/>
            <a:ext cx="180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Comic Sans MS"/>
              </a:rPr>
              <a:t>108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266920" y="1521000"/>
            <a:ext cx="154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Comic Sans MS"/>
              </a:rPr>
              <a:t>56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94200" y="1519200"/>
            <a:ext cx="162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Comic Sans MS"/>
              </a:rPr>
              <a:t>90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759280" y="1521000"/>
            <a:ext cx="151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Comic Sans MS"/>
              </a:rPr>
              <a:t>45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486560" y="1521000"/>
            <a:ext cx="140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Comic Sans MS"/>
              </a:rPr>
              <a:t>15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7935840" y="4653000"/>
            <a:ext cx="1208160" cy="18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77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8" dur="770" fill="hold"/>
                                        <p:tgtEl>
                                          <p:spTgt spid="5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0" dur="77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2" dur="77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77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9" dur="770" fill="hold"/>
                                        <p:tgtEl>
                                          <p:spTgt spid="5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1" dur="77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3" dur="77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77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0" dur="770" fill="hold"/>
                                        <p:tgtEl>
                                          <p:spTgt spid="6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2" dur="77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4" dur="77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77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1" dur="770" fill="hold"/>
                                        <p:tgtEl>
                                          <p:spTgt spid="6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3" dur="77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65" dur="77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77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2" dur="770" fill="hold"/>
                                        <p:tgtEl>
                                          <p:spTgt spid="6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4" dur="77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6" dur="77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0.07607 L -0.23923 -0.03908 C -0.28906 -0.06497 -0.36388 -0.07884 -0.44184 -0.07884 C -0.5309 -0.07884 -0.60225 -0.06497 -0.65191 -0.03908 L -0.89062 0.07607 E">
                                      <p:cBhvr>
                                        <p:cTn id="181" dur="500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1584360" y="628560"/>
                <a:ext cx="3240000" cy="172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limLow>
                      <m:e/>
                      <m:lim/>
                    </m:limLow>
                    <m:r>
                      <m:rPr>
                        <m:lit/>
                        <m:nor/>
                      </m:rPr>
                      <m:t xml:space="preserve">от</m:t>
                    </m:r>
                    <m:r>
                      <m:rPr>
                        <m:lit/>
                        <m:nor/>
                      </m:rPr>
                      <m:t xml:space="preserve">36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792000" y="2565360"/>
                <a:ext cx="8244000" cy="253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Low>
                          <m:e/>
                          <m:lim/>
                        </m:limLow>
                        <m:r>
                          <m:rPr>
                            <m:lit/>
                            <m:nor/>
                          </m:rPr>
                          <m:t xml:space="preserve">градусную</m:t>
                        </m:r>
                        <m:limLow>
                          <m:e/>
                          <m:lim/>
                        </m:limLow>
                        <m:r>
                          <m:rPr>
                            <m:lit/>
                            <m:nor/>
                          </m:rPr>
                          <m:t xml:space="preserve">меру</m:t>
                        </m:r>
                        <m:limLow>
                          <m:e/>
                          <m:lim/>
                        </m:limLow>
                        <m:r>
                          <m:rPr>
                            <m:lit/>
                            <m:nor/>
                          </m:rPr>
                          <m:t xml:space="preserve">угла</m:t>
                        </m:r>
                        <m:r>
                          <m:t xml:space="preserve">,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если</m:t>
                        </m:r>
                        <m:limLow>
                          <m:e/>
                          <m:lim/>
                        </m:limLow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limLow>
                          <m:e/>
                          <m:lim/>
                        </m:limLow>
                        <m:r>
                          <m:rPr>
                            <m:lit/>
                            <m:nor/>
                          </m:rPr>
                          <m:t xml:space="preserve">его</m:t>
                        </m:r>
                        <m:limLow>
                          <m:e/>
                          <m:lim/>
                        </m:limLow>
                        <m:r>
                          <m:rPr>
                            <m:lit/>
                            <m:nor/>
                          </m:rPr>
                          <m:t xml:space="preserve">равны</m:t>
                        </m:r>
                        <m:limLow>
                          <m:e/>
                          <m:lim/>
                        </m:limLow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60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7761240" y="4797360"/>
            <a:ext cx="1112760" cy="16923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395280" y="836640"/>
            <a:ext cx="61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58920" y="2511360"/>
            <a:ext cx="61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500"/>
                            </p:stCondLst>
                            <p:childTnLst>
                              <p:par>
                                <p:cTn id="20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60360" y="404640"/>
            <a:ext cx="180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Comic Sans MS"/>
              </a:rPr>
              <a:t>108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268360" y="404640"/>
            <a:ext cx="154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Comic Sans MS"/>
              </a:rPr>
              <a:t>56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95640" y="403200"/>
            <a:ext cx="162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Comic Sans MS"/>
              </a:rPr>
              <a:t>90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761080" y="404640"/>
            <a:ext cx="151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Comic Sans MS"/>
              </a:rPr>
              <a:t>45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488360" y="404640"/>
            <a:ext cx="140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Comic Sans MS"/>
              </a:rPr>
              <a:t>15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7885080" y="4581360"/>
            <a:ext cx="1063800" cy="161928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7526160" y="1108080"/>
            <a:ext cx="1224000" cy="19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500" spc="-1" strike="noStrike">
                <a:solidFill>
                  <a:srgbClr val="333399"/>
                </a:solidFill>
                <a:latin typeface="Comic Sans MS"/>
              </a:rPr>
              <a:t>п</a:t>
            </a:r>
            <a:endParaRPr b="0" lang="en-US" sz="1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869080" y="1108080"/>
            <a:ext cx="1224000" cy="19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500" spc="-1" strike="noStrike">
                <a:solidFill>
                  <a:srgbClr val="ffff00"/>
                </a:solidFill>
                <a:latin typeface="Comic Sans MS"/>
              </a:rPr>
              <a:t>о</a:t>
            </a:r>
            <a:endParaRPr b="0" lang="en-US" sz="1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413080" y="1108080"/>
            <a:ext cx="1224000" cy="19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500" spc="-1" strike="noStrike">
                <a:solidFill>
                  <a:srgbClr val="008000"/>
                </a:solidFill>
                <a:latin typeface="Comic Sans MS"/>
              </a:rPr>
              <a:t>и</a:t>
            </a:r>
            <a:endParaRPr b="0" lang="en-US" sz="1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033800" y="1108080"/>
            <a:ext cx="1189080" cy="19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500" spc="-1" strike="noStrike">
                <a:solidFill>
                  <a:srgbClr val="cc0099"/>
                </a:solidFill>
                <a:latin typeface="Comic Sans MS"/>
              </a:rPr>
              <a:t>с</a:t>
            </a:r>
            <a:endParaRPr b="0" lang="en-US" sz="1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49440" y="1144440"/>
            <a:ext cx="1223640" cy="19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500" spc="-1" strike="noStrike">
                <a:solidFill>
                  <a:srgbClr val="ff9933"/>
                </a:solidFill>
                <a:latin typeface="Comic Sans MS"/>
              </a:rPr>
              <a:t>к</a:t>
            </a:r>
            <a:endParaRPr b="0" lang="en-US" sz="1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0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1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1000"/>
                            </p:stCondLst>
                            <p:childTnLst>
                              <p:par>
                                <p:cTn id="218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2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2000"/>
                            </p:stCondLst>
                            <p:childTnLst>
                              <p:par>
                                <p:cTn id="226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2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3000"/>
                            </p:stCondLst>
                            <p:childTnLst>
                              <p:par>
                                <p:cTn id="234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3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4000"/>
                            </p:stCondLst>
                            <p:childTnLst>
                              <p:par>
                                <p:cTn id="242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4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361 -0.0289 L -0.81285 0.39329 E">
                                      <p:cBhvr>
                                        <p:cTn id="252" dur="2000" fill="hold"/>
                                        <p:tgtEl>
                                          <p:spTgt spid="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3" nodeType="withEffect" fill="hold" presetClass="path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3.05556E-006 -1.6763E-006 L -0.79931 0.4 E">
                                      <p:cBhvr>
                                        <p:cTn id="254" dur="2000" fill="hold"/>
                                        <p:tgtEl>
                                          <p:spTgt spid="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3.12139E-006 L -0.4408 0.38543 E">
                                      <p:cBhvr>
                                        <p:cTn id="258" dur="2000" fill="hold"/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9" nodeType="withEffect" fill="hold" presetClass="path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3.05556E-006 -2.25434E-006 L -0.4566 0.39838 E">
                                      <p:cBhvr>
                                        <p:cTn id="260" dur="2000" fill="hold"/>
                                        <p:tgtEl>
                                          <p:spTgt spid="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3.12139E-006 L 0.13211 0.39607 E">
                                      <p:cBhvr>
                                        <p:cTn id="264" dur="2000" fill="hold"/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5" nodeType="withEffect" fill="hold" presetClass="path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4.44444E-006 -1.6763E-006 L 0.14184 0.4 E">
                                      <p:cBhvr>
                                        <p:cTn id="266" dur="2000" fill="hold"/>
                                        <p:tgtEl>
                                          <p:spTgt spid="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1.04046E-006 L 0.1401 0.40139 E">
                                      <p:cBhvr>
                                        <p:cTn id="270" dur="2000" fill="hold"/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1" nodeType="withEffect" fill="hold" presetClass="path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-2.77778E-006 -4.9711E-006 L 0.16736 0.42081 E">
                                      <p:cBhvr>
                                        <p:cTn id="272" dur="20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3.12139E-006 L 0.72066 0.39607 E">
                                      <p:cBhvr>
                                        <p:cTn id="276" dur="2000" fill="hold"/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7" nodeType="withEffect" fill="hold" presetClass="path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-3.61111E-006 -4.9711E-006 L 0.71667 0.42081 E">
                                      <p:cBhvr>
                                        <p:cTn id="278" dur="20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2000"/>
                            </p:stCondLst>
                            <p:childTnLst>
                              <p:par>
                                <p:cTn id="280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368 0.03029 L -0.41441 -0.49156 E">
                                      <p:cBhvr>
                                        <p:cTn id="281" dur="2000" fill="hold"/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287280" y="189000"/>
            <a:ext cx="853272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4 «В» классе обучается  31 ученик. Из них 12 мальчиков, остальные девочки, их в классе 19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647640" y="1557360"/>
          <a:ext cx="8029440" cy="1331640"/>
        </p:xfrm>
        <a:graphic>
          <a:graphicData uri="http://schemas.openxmlformats.org/drawingml/2006/table">
            <a:tbl>
              <a:tblPr/>
              <a:tblGrid>
                <a:gridCol w="2675880"/>
                <a:gridCol w="2676960"/>
                <a:gridCol w="2676600"/>
              </a:tblGrid>
              <a:tr h="66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льчик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вочк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ег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4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2" name=""/>
          <p:cNvGraphicFramePr/>
          <p:nvPr/>
        </p:nvGraphicFramePr>
        <p:xfrm>
          <a:off x="611280" y="2162160"/>
          <a:ext cx="7020000" cy="469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2162160"/>
                    <a:ext cx="7020000" cy="469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8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8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8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8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8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8839080" y="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73080" y="5273640"/>
            <a:ext cx="2195280" cy="15238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2124000" y="981000"/>
            <a:ext cx="4570560" cy="46087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4"/>
          <a:stretch/>
        </p:blipFill>
        <p:spPr>
          <a:xfrm>
            <a:off x="6516720" y="5173560"/>
            <a:ext cx="2556000" cy="1640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9" dur="63232" fill="hold"/>
                                        <p:tgtEl>
                                          <p:spTgt spid="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692360" y="225360"/>
            <a:ext cx="5065560" cy="663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" name=""/>
          <p:cNvGraphicFramePr/>
          <p:nvPr/>
        </p:nvGraphicFramePr>
        <p:xfrm>
          <a:off x="900000" y="2470320"/>
          <a:ext cx="6577200" cy="4387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2470320"/>
                    <a:ext cx="6577200" cy="438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" name=""/>
          <p:cNvSpPr/>
          <p:nvPr/>
        </p:nvSpPr>
        <p:spPr>
          <a:xfrm>
            <a:off x="2268360" y="-243000"/>
            <a:ext cx="1224000" cy="19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500" spc="-1" strike="noStrike">
                <a:solidFill>
                  <a:srgbClr val="ffff00"/>
                </a:solidFill>
                <a:latin typeface="Comic Sans MS"/>
              </a:rPr>
              <a:t>у</a:t>
            </a:r>
            <a:endParaRPr b="0" lang="en-US" sz="1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050920" y="1197000"/>
            <a:ext cx="1224000" cy="19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500" spc="-1" strike="noStrike">
                <a:solidFill>
                  <a:srgbClr val="336600"/>
                </a:solidFill>
                <a:latin typeface="Comic Sans MS"/>
              </a:rPr>
              <a:t>а</a:t>
            </a:r>
            <a:endParaRPr b="0" lang="en-US" sz="1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4000" y="-223920"/>
            <a:ext cx="1112760" cy="19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500" spc="-1" strike="noStrike">
                <a:solidFill>
                  <a:srgbClr val="ff0000"/>
                </a:solidFill>
                <a:latin typeface="Comic Sans MS"/>
              </a:rPr>
              <a:t>К</a:t>
            </a:r>
            <a:endParaRPr b="0" lang="en-US" sz="1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332000" y="-243000"/>
            <a:ext cx="1224000" cy="19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500" spc="-1" strike="noStrike">
                <a:solidFill>
                  <a:srgbClr val="ff9933"/>
                </a:solidFill>
                <a:latin typeface="Comic Sans MS"/>
              </a:rPr>
              <a:t>р</a:t>
            </a:r>
            <a:endParaRPr b="0" lang="en-US" sz="1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696000" y="-189000"/>
            <a:ext cx="1112760" cy="19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500" spc="-1" strike="noStrike">
                <a:solidFill>
                  <a:srgbClr val="ff0000"/>
                </a:solidFill>
                <a:latin typeface="Comic Sans MS"/>
              </a:rPr>
              <a:t>я</a:t>
            </a:r>
            <a:endParaRPr b="0" lang="en-US" sz="1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971640" y="1216080"/>
            <a:ext cx="1224000" cy="19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500" spc="-1" strike="noStrike">
                <a:solidFill>
                  <a:srgbClr val="ffff00"/>
                </a:solidFill>
                <a:latin typeface="Comic Sans MS"/>
              </a:rPr>
              <a:t>и</a:t>
            </a:r>
            <a:endParaRPr b="0" lang="en-US" sz="1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203640" y="-223920"/>
            <a:ext cx="1224000" cy="19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500" spc="-1" strike="noStrike">
                <a:solidFill>
                  <a:srgbClr val="008000"/>
                </a:solidFill>
                <a:latin typeface="Comic Sans MS"/>
              </a:rPr>
              <a:t>г</a:t>
            </a:r>
            <a:endParaRPr b="0" lang="en-US" sz="1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995640" y="-223920"/>
            <a:ext cx="1224000" cy="19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500" spc="-1" strike="noStrike">
                <a:solidFill>
                  <a:srgbClr val="0066ff"/>
                </a:solidFill>
                <a:latin typeface="Comic Sans MS"/>
              </a:rPr>
              <a:t>о</a:t>
            </a:r>
            <a:endParaRPr b="0" lang="en-US" sz="1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932360" y="-297000"/>
            <a:ext cx="1224000" cy="19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500" spc="-1" strike="noStrike">
                <a:solidFill>
                  <a:srgbClr val="333399"/>
                </a:solidFill>
                <a:latin typeface="Comic Sans MS"/>
              </a:rPr>
              <a:t>в</a:t>
            </a:r>
            <a:endParaRPr b="0" lang="en-US" sz="1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796000" y="-223920"/>
            <a:ext cx="1512720" cy="19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500" spc="-1" strike="noStrike">
                <a:solidFill>
                  <a:srgbClr val="cc0099"/>
                </a:solidFill>
                <a:latin typeface="Comic Sans MS"/>
              </a:rPr>
              <a:t>а</a:t>
            </a:r>
            <a:endParaRPr b="0" lang="en-US" sz="1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920" y="1197000"/>
            <a:ext cx="1112760" cy="19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500" spc="-1" strike="noStrike">
                <a:solidFill>
                  <a:srgbClr val="ff9900"/>
                </a:solidFill>
                <a:latin typeface="Comic Sans MS"/>
              </a:rPr>
              <a:t>д</a:t>
            </a:r>
            <a:endParaRPr b="0" lang="en-US" sz="1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524720" y="1216080"/>
            <a:ext cx="1473120" cy="19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500" spc="-1" strike="noStrike">
                <a:solidFill>
                  <a:srgbClr val="ffff00"/>
                </a:solidFill>
                <a:latin typeface="Comic Sans MS"/>
              </a:rPr>
              <a:t>а</a:t>
            </a:r>
            <a:endParaRPr b="0" lang="en-US" sz="1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843280" y="1197000"/>
            <a:ext cx="1224000" cy="19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500" spc="-1" strike="noStrike">
                <a:solidFill>
                  <a:srgbClr val="3366ff"/>
                </a:solidFill>
                <a:latin typeface="Comic Sans MS"/>
              </a:rPr>
              <a:t>г</a:t>
            </a:r>
            <a:endParaRPr b="0" lang="en-US" sz="1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564000" y="1216080"/>
            <a:ext cx="1224000" cy="19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500" spc="-1" strike="noStrike">
                <a:solidFill>
                  <a:srgbClr val="000099"/>
                </a:solidFill>
                <a:latin typeface="Comic Sans MS"/>
              </a:rPr>
              <a:t>р</a:t>
            </a:r>
            <a:endParaRPr b="0" lang="en-US" sz="1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427640" y="1197000"/>
            <a:ext cx="1224000" cy="19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500" spc="-1" strike="noStrike">
                <a:solidFill>
                  <a:srgbClr val="cc0099"/>
                </a:solidFill>
                <a:latin typeface="Comic Sans MS"/>
              </a:rPr>
              <a:t>а</a:t>
            </a:r>
            <a:endParaRPr b="0" lang="en-US" sz="1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292720" y="1197000"/>
            <a:ext cx="1512720" cy="19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500" spc="-1" strike="noStrike">
                <a:solidFill>
                  <a:srgbClr val="ff0000"/>
                </a:solidFill>
                <a:latin typeface="Comic Sans MS"/>
              </a:rPr>
              <a:t>м</a:t>
            </a:r>
            <a:endParaRPr b="0" lang="en-US" sz="1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443640" y="1197000"/>
            <a:ext cx="1513080" cy="19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500" spc="-1" strike="noStrike">
                <a:solidFill>
                  <a:srgbClr val="ff9900"/>
                </a:solidFill>
                <a:latin typeface="Comic Sans MS"/>
              </a:rPr>
              <a:t>м</a:t>
            </a:r>
            <a:endParaRPr b="0" lang="en-US" sz="1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3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1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7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3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9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1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7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3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2000"/>
                            </p:stCondLst>
                            <p:childTnLst>
                              <p:par>
                                <p:cTn id="417" nodeType="afterEffect" fill="hold" presetClass="emph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18" dur="indefinite"/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9" nodeType="withEffect" fill="hold" presetClass="emph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20" dur="indefinite"/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1" nodeType="withEffect" fill="hold" presetClass="emph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22" dur="indefinite"/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" nodeType="withEffect" fill="hold" presetClass="emph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24" dur="indefinite"/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5" nodeType="withEffect" fill="hold" presetClass="emph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26" dur="indefinite"/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7" nodeType="withEffect" fill="hold" presetClass="emph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28" dur="indefinite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9" nodeType="withEffect" fill="hold" presetClass="emph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30" dur="indefinite"/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1" nodeType="withEffect" fill="hold" presetClass="emph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32" dur="indefinite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3" nodeType="withEffect" fill="hold" presetClass="emph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34" dur="indefinite"/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5" nodeType="withEffect" fill="hold" presetClass="emph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36" dur="indefinite"/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mph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38" dur="indefinite"/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9" nodeType="withEffect" fill="hold" presetClass="emph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0" dur="indefinite"/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1" nodeType="withEffect" fill="hold" presetClass="emph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2" dur="indefinite"/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3" nodeType="withEffect" fill="hold" presetClass="emph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4" dur="indefinite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emph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6" dur="indefinite"/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8" dur="indefinite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9" nodeType="withEffect" fill="hold" presetClass="emph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0" dur="indefinite"/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55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9T10:38:18Z</dcterms:created>
  <dc:creator>Гимназия 102</dc:creator>
  <dc:description/>
  <dc:language>en-US</dc:language>
  <cp:lastModifiedBy>Гимназия 102</cp:lastModifiedBy>
  <dcterms:modified xsi:type="dcterms:W3CDTF">2006-04-11T05:04:28Z</dcterms:modified>
  <cp:revision>37</cp:revision>
  <dc:subject/>
  <dc:title>Круговые диаграммы</dc:title>
</cp:coreProperties>
</file>