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080-6D1E-41D9-BDFB-5C35BA13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22F-91B2-43AA-96AF-98247CB4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FE3-00B5-493B-A93D-130BD7DC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2F7-F21E-4AB4-B439-A6C6275D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CC5B-89A9-40A1-B525-7F2070E2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794F-F462-4338-90AE-8FB370C0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889E-512C-46C0-9A5C-6F4CC403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6EE9-A795-4FAC-BE31-2C1B2C6C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A067-AF4D-49EC-9649-82293548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1D94-0866-41CB-BB09-C4AB39E9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A7B1-6893-4C95-AE5B-58E821DF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C03-B1A0-4154-AA19-67E5045F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5068-7273-42EA-9051-623C478B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2637-E146-44BF-A025-AB0F5166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B0B5-D025-4C70-80BB-3E14971B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DB1D-E297-4235-8DD4-35A49C16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F26E-9BC8-4569-AC8E-5C15428D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5C0F-B65B-4629-8110-46348A9C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E6DE-EA8D-4962-B2D5-81EF9319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4625-5E47-4CBE-8C53-86C54B7C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61A7E-497B-4DF9-A916-4E26BA59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CD0A-89FC-42F2-A834-7D6772D9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041-C3F3-418A-8E6F-8DE9FBA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17EE-E90F-4AC2-BF87-77EF766E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5B71-1C49-4694-9B6B-A598D3F0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D967-F53D-4072-928A-9846B49B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6453-97FB-4AC5-A7C4-439EAAB8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35CF-9DE2-4B9D-A5FA-8D5EF405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D368-6E98-46CB-9F30-5EDBD176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F0DA-6647-49B0-A434-338A386E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021B-08F0-4FEC-BC23-52B63046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8E18-4B2A-4E4C-8248-72467170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28AC4-809C-4563-8628-CF8F9124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867-2316-416B-BCBE-27F52767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BB12-2DF5-43F2-AC04-E8F8674B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95648-8A23-40A3-B95A-A5B9E3C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D2EC-E017-4DB3-8508-EFA9937A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A858-4FC1-4935-9283-81B02015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7FEC-72B7-432C-B222-B6AA5F2A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40934-B9F1-485E-93DD-62F06BF2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73F6-D02C-4D36-B6B4-1EA6A007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D804-E22C-4993-B5B8-E84761D0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4F30-5B1B-46A2-9CB5-B8AE5C9E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BDB97-490B-46CF-8D44-54734284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EEE-BA83-4174-B256-68B8210D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86F52-E2BB-4887-8EF9-6B957EDB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8657-38C0-4357-BEF9-95837217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00630-5C19-485F-9B7C-D23A9CC4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8984-536F-445D-B661-81628A95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0579D-A58E-4D06-8DDC-766249F0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486F0-BD87-499F-8025-C42B885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2FCD-4C46-4E65-B64F-662910AD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59566-5A42-4409-B0AE-81308AFC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A2B40-D746-443E-80AF-0234A044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A8B0-6FF9-44CD-9267-F19F35C8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93F-57AC-4CFF-B581-DEFD91FD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499D2-799A-4E70-80E6-A107BC7B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47E-3ABF-4A22-8C37-2275595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FAA-6A39-4927-90E2-F14E0577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DC8-4540-4ED7-9E3C-DBC12708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E474-4388-4009-9B82-D07D491EB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2904678.png"/>
          <p:cNvPicPr/>
          <p:nvPr/>
        </p:nvPicPr>
        <p:blipFill>
          <a:blip r:embed="rId3"/>
          <a:stretch/>
        </p:blipFill>
        <p:spPr>
          <a:xfrm rot="1759200">
            <a:off x="7125840" y="3211560"/>
            <a:ext cx="17892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6" name="Рамка 7"/>
          <p:cNvGrpSpPr/>
          <p:nvPr/>
        </p:nvGrpSpPr>
        <p:grpSpPr>
          <a:xfrm>
            <a:off x="-60480" y="-42840"/>
            <a:ext cx="9264960" cy="5267160"/>
            <a:chOff x="-60480" y="-42840"/>
            <a:chExt cx="9264960" cy="5267160"/>
          </a:xfrm>
        </p:grpSpPr>
        <p:pic>
          <p:nvPicPr>
            <p:cNvPr id="7" name="Рамка 7" descr=""/>
            <p:cNvPicPr/>
            <p:nvPr/>
          </p:nvPicPr>
          <p:blipFill>
            <a:blip r:embed="rId4"/>
            <a:stretch/>
          </p:blipFill>
          <p:spPr>
            <a:xfrm>
              <a:off x="-60480" y="-4284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8400" y="68400"/>
              <a:ext cx="9007200" cy="50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Рамка 8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10" name="Рамка 8" descr=""/>
            <p:cNvPicPr/>
            <p:nvPr/>
          </p:nvPicPr>
          <p:blipFill>
            <a:blip r:embed="rId5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3360" y="63360"/>
              <a:ext cx="9017280" cy="50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2904678.png"/>
          <p:cNvPicPr/>
          <p:nvPr/>
        </p:nvPicPr>
        <p:blipFill>
          <a:blip r:embed="rId3"/>
          <a:stretch/>
        </p:blipFill>
        <p:spPr>
          <a:xfrm rot="1759200">
            <a:off x="7125840" y="3211560"/>
            <a:ext cx="17892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9" name="Рамка 7"/>
          <p:cNvGrpSpPr/>
          <p:nvPr/>
        </p:nvGrpSpPr>
        <p:grpSpPr>
          <a:xfrm>
            <a:off x="-60480" y="-42840"/>
            <a:ext cx="9264960" cy="5267160"/>
            <a:chOff x="-60480" y="-42840"/>
            <a:chExt cx="9264960" cy="5267160"/>
          </a:xfrm>
        </p:grpSpPr>
        <p:pic>
          <p:nvPicPr>
            <p:cNvPr id="50" name="Рамка 7" descr=""/>
            <p:cNvPicPr/>
            <p:nvPr/>
          </p:nvPicPr>
          <p:blipFill>
            <a:blip r:embed="rId4"/>
            <a:stretch/>
          </p:blipFill>
          <p:spPr>
            <a:xfrm>
              <a:off x="-60480" y="-4284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00" y="68400"/>
              <a:ext cx="9007200" cy="50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Рамка 8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53" name="Рамка 8" descr=""/>
            <p:cNvPicPr/>
            <p:nvPr/>
          </p:nvPicPr>
          <p:blipFill>
            <a:blip r:embed="rId5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3360" y="63360"/>
              <a:ext cx="9017280" cy="50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Рисунок 9" descr="2904679.png"/>
          <p:cNvPicPr/>
          <p:nvPr/>
        </p:nvPicPr>
        <p:blipFill>
          <a:blip r:embed="rId6"/>
          <a:stretch/>
        </p:blipFill>
        <p:spPr>
          <a:xfrm rot="10399800">
            <a:off x="83880" y="503280"/>
            <a:ext cx="1528560" cy="40068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2904680.png"/>
          <p:cNvPicPr/>
          <p:nvPr/>
        </p:nvPicPr>
        <p:blipFill>
          <a:blip r:embed="rId7"/>
          <a:srcRect l="0" t="18271" r="0" b="0"/>
          <a:stretch/>
        </p:blipFill>
        <p:spPr>
          <a:xfrm>
            <a:off x="7500960" y="0"/>
            <a:ext cx="1481040" cy="2236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1"/>
          <p:cNvSpPr/>
          <p:nvPr/>
        </p:nvSpPr>
        <p:spPr>
          <a:xfrm>
            <a:off x="785880" y="142920"/>
            <a:ext cx="735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3659760" y="4500720"/>
            <a:ext cx="9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E239-A5C0-4CB4-9959-D28093B37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6" descr="2904678.png"/>
          <p:cNvPicPr/>
          <p:nvPr/>
        </p:nvPicPr>
        <p:blipFill>
          <a:blip r:embed="rId3"/>
          <a:stretch/>
        </p:blipFill>
        <p:spPr>
          <a:xfrm rot="1759200">
            <a:off x="7125840" y="3211560"/>
            <a:ext cx="17892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01" name="Рамка 7"/>
          <p:cNvGrpSpPr/>
          <p:nvPr/>
        </p:nvGrpSpPr>
        <p:grpSpPr>
          <a:xfrm>
            <a:off x="-60480" y="-42840"/>
            <a:ext cx="9264960" cy="5267160"/>
            <a:chOff x="-60480" y="-42840"/>
            <a:chExt cx="9264960" cy="5267160"/>
          </a:xfrm>
        </p:grpSpPr>
        <p:pic>
          <p:nvPicPr>
            <p:cNvPr id="102" name="Рамка 7" descr=""/>
            <p:cNvPicPr/>
            <p:nvPr/>
          </p:nvPicPr>
          <p:blipFill>
            <a:blip r:embed="rId4"/>
            <a:stretch/>
          </p:blipFill>
          <p:spPr>
            <a:xfrm>
              <a:off x="-60480" y="-4284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400" y="68400"/>
              <a:ext cx="9007200" cy="50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Рамка 8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105" name="Рамка 8" descr=""/>
            <p:cNvPicPr/>
            <p:nvPr/>
          </p:nvPicPr>
          <p:blipFill>
            <a:blip r:embed="rId5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3360" y="63360"/>
              <a:ext cx="9017280" cy="50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Рисунок 9" descr="2904680.png"/>
          <p:cNvPicPr/>
          <p:nvPr/>
        </p:nvPicPr>
        <p:blipFill>
          <a:blip r:embed="rId6"/>
          <a:stretch/>
        </p:blipFill>
        <p:spPr>
          <a:xfrm>
            <a:off x="7715160" y="-357120"/>
            <a:ext cx="1266840" cy="2341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A689-3922-49B6-819A-5A722983F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6" descr="2904678.png"/>
          <p:cNvPicPr/>
          <p:nvPr/>
        </p:nvPicPr>
        <p:blipFill>
          <a:blip r:embed="rId3"/>
          <a:stretch/>
        </p:blipFill>
        <p:spPr>
          <a:xfrm rot="1759200">
            <a:off x="7125840" y="3211560"/>
            <a:ext cx="17892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50" name="Рамка 7"/>
          <p:cNvGrpSpPr/>
          <p:nvPr/>
        </p:nvGrpSpPr>
        <p:grpSpPr>
          <a:xfrm>
            <a:off x="-60480" y="-42840"/>
            <a:ext cx="9264960" cy="5267160"/>
            <a:chOff x="-60480" y="-42840"/>
            <a:chExt cx="9264960" cy="5267160"/>
          </a:xfrm>
        </p:grpSpPr>
        <p:pic>
          <p:nvPicPr>
            <p:cNvPr id="151" name="Рамка 7" descr=""/>
            <p:cNvPicPr/>
            <p:nvPr/>
          </p:nvPicPr>
          <p:blipFill>
            <a:blip r:embed="rId4"/>
            <a:stretch/>
          </p:blipFill>
          <p:spPr>
            <a:xfrm>
              <a:off x="-60480" y="-4284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8400" y="68400"/>
              <a:ext cx="9007200" cy="50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Рамка 8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154" name="Рамка 8" descr=""/>
            <p:cNvPicPr/>
            <p:nvPr/>
          </p:nvPicPr>
          <p:blipFill>
            <a:blip r:embed="rId5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3360" y="63360"/>
              <a:ext cx="9017280" cy="50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Рисунок 9" descr="2904679.png"/>
          <p:cNvPicPr/>
          <p:nvPr/>
        </p:nvPicPr>
        <p:blipFill>
          <a:blip r:embed="rId6"/>
          <a:stretch/>
        </p:blipFill>
        <p:spPr>
          <a:xfrm>
            <a:off x="82440" y="30240"/>
            <a:ext cx="1127160" cy="2954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7348-D4EB-4A2D-B87B-E3ABA0AA6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6" descr="2904678.png"/>
          <p:cNvPicPr/>
          <p:nvPr/>
        </p:nvPicPr>
        <p:blipFill>
          <a:blip r:embed="rId3"/>
          <a:stretch/>
        </p:blipFill>
        <p:spPr>
          <a:xfrm rot="1759200">
            <a:off x="7125840" y="3211560"/>
            <a:ext cx="17892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99" name="Рамка 7"/>
          <p:cNvGrpSpPr/>
          <p:nvPr/>
        </p:nvGrpSpPr>
        <p:grpSpPr>
          <a:xfrm>
            <a:off x="-60480" y="-42840"/>
            <a:ext cx="9264960" cy="5267160"/>
            <a:chOff x="-60480" y="-42840"/>
            <a:chExt cx="9264960" cy="5267160"/>
          </a:xfrm>
        </p:grpSpPr>
        <p:pic>
          <p:nvPicPr>
            <p:cNvPr id="200" name="Рамка 7" descr=""/>
            <p:cNvPicPr/>
            <p:nvPr/>
          </p:nvPicPr>
          <p:blipFill>
            <a:blip r:embed="rId4"/>
            <a:stretch/>
          </p:blipFill>
          <p:spPr>
            <a:xfrm>
              <a:off x="-60480" y="-4284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8400" y="68400"/>
              <a:ext cx="9007200" cy="50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Рамка 8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203" name="Рамка 8" descr=""/>
            <p:cNvPicPr/>
            <p:nvPr/>
          </p:nvPicPr>
          <p:blipFill>
            <a:blip r:embed="rId5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3360" y="63360"/>
              <a:ext cx="9017280" cy="50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Рисунок 9" descr="2904679.png"/>
          <p:cNvPicPr/>
          <p:nvPr/>
        </p:nvPicPr>
        <p:blipFill>
          <a:blip r:embed="rId6"/>
          <a:srcRect l="0" t="12096" r="0" b="0"/>
          <a:stretch/>
        </p:blipFill>
        <p:spPr>
          <a:xfrm>
            <a:off x="8016840" y="0"/>
            <a:ext cx="1127160" cy="2597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52E6-2125-4899-A546-EE157D536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1779120"/>
            <a:ext cx="777240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53735"/>
                </a:solidFill>
                <a:latin typeface="Monotype Corsiva"/>
              </a:rPr>
              <a:t>Мастер-класс по созданию мультфильма «К нам опять пришла весна…»  </a:t>
            </a:r>
            <a:br>
              <a:rPr sz="4300"/>
            </a:br>
            <a:r>
              <a:rPr b="1" lang="ru-RU" sz="4300" spc="-1" strike="noStrike">
                <a:solidFill>
                  <a:srgbClr val="953735"/>
                </a:solidFill>
                <a:latin typeface="Monotype Corsiva"/>
              </a:rPr>
              <a:t>с дошкольниками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929120" y="3643200"/>
            <a:ext cx="328608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  <a:ea typeface="Times New Roman"/>
              </a:rPr>
              <a:t>Подготовил: воспита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  <a:ea typeface="Times New Roman"/>
              </a:rPr>
              <a:t>Докторова Нина Алекс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426240" y="285840"/>
            <a:ext cx="813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Monotype Corsiva"/>
              </a:rPr>
              <a:t>МБДОУ детский сад комбинированного вида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4f6228"/>
                </a:solidFill>
                <a:latin typeface="Monotype Corsiva"/>
              </a:rPr>
              <a:t>городской округ город Вы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Техники для создания мультфильма в Д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400" y="1000080"/>
            <a:ext cx="421452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  <a:ea typeface="Times New Roman"/>
              </a:rPr>
              <a:t>Мультфильм – рисун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  <a:ea typeface="Times New Roman"/>
              </a:rPr>
              <a:t>Пластилиновый мультфиль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  <a:ea typeface="Times New Roman"/>
              </a:rPr>
              <a:t>Мультфильм – ориг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  <a:ea typeface="Times New Roman"/>
              </a:rPr>
              <a:t>Мультфильм – апплик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  <a:ea typeface="Times New Roman"/>
              </a:rPr>
              <a:t>Мультфильм – песочная аним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7" descr="https://i.ytimg.com/vi/2eF7Uo-mqtU/maxresdefault.jpg"/>
          <p:cNvPicPr/>
          <p:nvPr/>
        </p:nvPicPr>
        <p:blipFill>
          <a:blip r:embed="rId1"/>
          <a:stretch/>
        </p:blipFill>
        <p:spPr>
          <a:xfrm>
            <a:off x="5643720" y="1357200"/>
            <a:ext cx="1357200" cy="1084320"/>
          </a:xfrm>
          <a:prstGeom prst="rect">
            <a:avLst/>
          </a:prstGeom>
          <a:ln w="38160">
            <a:solidFill>
              <a:srgbClr val="339933"/>
            </a:solidFill>
            <a:miter/>
          </a:ln>
        </p:spPr>
      </p:pic>
      <p:pic>
        <p:nvPicPr>
          <p:cNvPr id="253" name="Picture 9" descr="https://coubsecure-s.akamaihd.net/get/b29/p/coub/simple/cw_image/8167216a567/9b391ede46114fae65c4e/med_1428682394_00021.jpg"/>
          <p:cNvPicPr/>
          <p:nvPr/>
        </p:nvPicPr>
        <p:blipFill>
          <a:blip r:embed="rId2"/>
          <a:stretch/>
        </p:blipFill>
        <p:spPr>
          <a:xfrm>
            <a:off x="4143240" y="785880"/>
            <a:ext cx="1285920" cy="928800"/>
          </a:xfrm>
          <a:prstGeom prst="rect">
            <a:avLst/>
          </a:prstGeom>
          <a:ln w="38160">
            <a:solidFill>
              <a:srgbClr val="339933"/>
            </a:solidFill>
            <a:miter/>
          </a:ln>
        </p:spPr>
      </p:pic>
      <p:pic>
        <p:nvPicPr>
          <p:cNvPr id="254" name="Picture 11" descr="https://avatars.mds.yandex.net/get-pdb/904462/096e58de-8699-4283-9d0a-2aaf601a4c35/s1200?webp=false"/>
          <p:cNvPicPr/>
          <p:nvPr/>
        </p:nvPicPr>
        <p:blipFill>
          <a:blip r:embed="rId3"/>
          <a:stretch/>
        </p:blipFill>
        <p:spPr>
          <a:xfrm>
            <a:off x="7286760" y="2286000"/>
            <a:ext cx="1238040" cy="92880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255" name="Picture 20" descr=""/>
          <p:cNvPicPr/>
          <p:nvPr/>
        </p:nvPicPr>
        <p:blipFill>
          <a:blip r:embed="rId4"/>
          <a:stretch/>
        </p:blipFill>
        <p:spPr>
          <a:xfrm>
            <a:off x="4000680" y="2857680"/>
            <a:ext cx="1428480" cy="1017360"/>
          </a:xfrm>
          <a:prstGeom prst="rect">
            <a:avLst/>
          </a:prstGeom>
          <a:ln w="38160">
            <a:solidFill>
              <a:srgbClr val="339933"/>
            </a:solidFill>
            <a:miter/>
          </a:ln>
        </p:spPr>
      </p:pic>
      <p:pic>
        <p:nvPicPr>
          <p:cNvPr id="256" name="Picture 22" descr="http://www.anothercity.ru/gallery/event_descr/13/32/b3/32b30a250abd6331e03a2a1f16466346/big/17.jpg"/>
          <p:cNvPicPr/>
          <p:nvPr/>
        </p:nvPicPr>
        <p:blipFill>
          <a:blip r:embed="rId5"/>
          <a:stretch/>
        </p:blipFill>
        <p:spPr>
          <a:xfrm>
            <a:off x="5857920" y="3714840"/>
            <a:ext cx="1428840" cy="88092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Техники для создания мультфил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920" y="107172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Рисованная классическая (плоскостная) анимация      Перекладная (плоскостна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аним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Кукольная (объемная) анимация                                   Пластилиновая аним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Живопись на стекле                                                         Компьютерная 2D аним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Компьютерная 3D анимация                                        Комбинированная аним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Песочная анимация                                                         LEGO аним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Коллажная анимация                                                     Предметная аним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Экзотическая ани</a:t>
            </a:r>
            <a:r>
              <a:rPr b="1" lang="ru-RU" sz="1800" spc="-1" strike="noStrike">
                <a:solidFill>
                  <a:srgbClr val="4f6228"/>
                </a:solidFill>
                <a:latin typeface="Monotype Corsiva"/>
              </a:rPr>
              <a:t>мация:  -  тенев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Monotype Corsiva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4f6228"/>
                </a:solidFill>
                <a:latin typeface="Monotype Corsiva"/>
              </a:rPr>
              <a:t>-  процарапывание изображения на засвеченной кинопле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Monotype Corsiva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4f6228"/>
                </a:solidFill>
                <a:latin typeface="Monotype Corsiva"/>
              </a:rPr>
              <a:t>-  ротоскопирование (обрисовка кадр за кадром натурного фильм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Этапы создания мультфил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214200" y="1000080"/>
            <a:ext cx="5500800" cy="50004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Продумывание замы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571680" y="1571760"/>
            <a:ext cx="5500440" cy="5000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Составление сцен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5"/>
          <p:cNvSpPr/>
          <p:nvPr/>
        </p:nvSpPr>
        <p:spPr>
          <a:xfrm>
            <a:off x="928800" y="2143080"/>
            <a:ext cx="5500440" cy="500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Подготовка фона и создание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6"/>
          <p:cNvSpPr/>
          <p:nvPr/>
        </p:nvSpPr>
        <p:spPr>
          <a:xfrm>
            <a:off x="1428840" y="2714760"/>
            <a:ext cx="5500440" cy="5000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Съе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7"/>
          <p:cNvSpPr/>
          <p:nvPr/>
        </p:nvSpPr>
        <p:spPr>
          <a:xfrm>
            <a:off x="1857240" y="3286080"/>
            <a:ext cx="5500800" cy="5000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Монтаж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8"/>
          <p:cNvSpPr/>
          <p:nvPr/>
        </p:nvSpPr>
        <p:spPr>
          <a:xfrm>
            <a:off x="2286000" y="3857760"/>
            <a:ext cx="5500800" cy="5000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Выбор музыки или запись аудиоряд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9"/>
          <p:cNvSpPr/>
          <p:nvPr/>
        </p:nvSpPr>
        <p:spPr>
          <a:xfrm>
            <a:off x="2714760" y="4429080"/>
            <a:ext cx="5500440" cy="5000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Создание ти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Приход весны.mp4" descr=""/>
          <p:cNvPicPr/>
          <p:nvPr/>
        </p:nvPicPr>
        <p:blipFill>
          <a:blip r:embed="rId1"/>
          <a:stretch/>
        </p:blipFill>
        <p:spPr>
          <a:xfrm>
            <a:off x="262080" y="250920"/>
            <a:ext cx="86310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27:37Z</dcterms:created>
  <dc:creator>Lenovo</dc:creator>
  <dc:description/>
  <dc:language>en-US</dc:language>
  <cp:lastModifiedBy>Windows User</cp:lastModifiedBy>
  <dcterms:modified xsi:type="dcterms:W3CDTF">2019-04-04T11:35:45Z</dcterms:modified>
  <cp:revision>29</cp:revision>
  <dc:subject/>
  <dc:title>Слайд 1</dc:title>
</cp:coreProperties>
</file>