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FE9-899A-41EA-985C-0AC3C77B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A3E-3686-48BE-999A-784351E4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07F-DCAD-4976-A067-CBD7FE1E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25E-511D-42B6-8E02-6B9D0B65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377-7FBD-4559-920C-C7CC0AA4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0FA-75D8-45A4-A88D-D8E76C24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8B02-A93F-49A0-A517-5FCD5264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AD0-98D4-48E2-B336-0B4529D8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3CD-6797-4761-B3C1-D64725D7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805-FBB9-4CC2-8065-B8D6942B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B08-91B2-45D9-A842-63C766A0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8B9-1F68-4941-B4AB-DC8D4D06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5F41-1F34-4138-B501-06836F28BD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ши новости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ладшая группа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нтябрь 2019 г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4775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ый год в младшей группе начался со знакомства с праздником «1 сентября - День Знаний». Мы наблюдали за школьниками идущими в школу. Слушали рассказ воспитател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ую неделю мы посвятили безопасности. Рисовали, клеили, играли, рассматривали и даже учились эвакуироваться. Семьи Тимоши М., Андрея К. и Сони К. - приняли участие в конкурсе рисунков по ПДД. Спасибо все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228600" y="27766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"/>
          <p:cNvPicPr/>
          <p:nvPr/>
        </p:nvPicPr>
        <p:blipFill>
          <a:blip r:embed="rId2"/>
          <a:stretch/>
        </p:blipFill>
        <p:spPr>
          <a:xfrm>
            <a:off x="5504040" y="24652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"/>
          <p:cNvPicPr/>
          <p:nvPr/>
        </p:nvPicPr>
        <p:blipFill>
          <a:blip r:embed="rId3"/>
          <a:stretch/>
        </p:blipFill>
        <p:spPr>
          <a:xfrm>
            <a:off x="3200400" y="3643200"/>
            <a:ext cx="1663560" cy="22179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4"/>
          <a:stretch/>
        </p:blipFill>
        <p:spPr>
          <a:xfrm>
            <a:off x="5504040" y="4537080"/>
            <a:ext cx="2666880" cy="19987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5"/>
          <a:stretch/>
        </p:blipFill>
        <p:spPr>
          <a:xfrm>
            <a:off x="228600" y="4751280"/>
            <a:ext cx="221616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90512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познакомились с отрядом ЮИД МАОУ СОШ №20 и даже поиграли в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" descr=""/>
          <p:cNvPicPr/>
          <p:nvPr/>
        </p:nvPicPr>
        <p:blipFill>
          <a:blip r:embed="rId2"/>
          <a:stretch/>
        </p:blipFill>
        <p:spPr>
          <a:xfrm>
            <a:off x="4648320" y="3809880"/>
            <a:ext cx="35557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гулке мы  осваивали свой участок, который так старательно нам делали наши родители весь июнь. Нам нравиться гулять! СПАСИБО, нашим папам и мам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914400" y="18637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3398760" cy="25495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"/>
          <p:cNvPicPr/>
          <p:nvPr/>
        </p:nvPicPr>
        <p:blipFill>
          <a:blip r:embed="rId3"/>
          <a:stretch/>
        </p:blipFill>
        <p:spPr>
          <a:xfrm>
            <a:off x="914400" y="48355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"/>
          <p:cNvPicPr/>
          <p:nvPr/>
        </p:nvPicPr>
        <p:blipFill>
          <a:blip r:embed="rId4"/>
          <a:stretch/>
        </p:blipFill>
        <p:spPr>
          <a:xfrm>
            <a:off x="3759120" y="4815000"/>
            <a:ext cx="25401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ё в природе интересно. Мы посмотрим всё хоть треснем! (Рассматриваем бабочку, садим куст, исследуем огород, организуем выставку «Дары осени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2"/>
          <a:stretch/>
        </p:blipFill>
        <p:spPr>
          <a:xfrm>
            <a:off x="3073320" y="4757760"/>
            <a:ext cx="2714760" cy="1893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3"/>
          <a:stretch/>
        </p:blipFill>
        <p:spPr>
          <a:xfrm>
            <a:off x="3276720" y="264780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"/>
          <p:cNvPicPr/>
          <p:nvPr/>
        </p:nvPicPr>
        <p:blipFill>
          <a:blip r:embed="rId4"/>
          <a:stretch/>
        </p:blipFill>
        <p:spPr>
          <a:xfrm>
            <a:off x="6108840" y="4778280"/>
            <a:ext cx="1428480" cy="19051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"/>
          <p:cNvPicPr/>
          <p:nvPr/>
        </p:nvPicPr>
        <p:blipFill>
          <a:blip r:embed="rId5"/>
          <a:stretch/>
        </p:blipFill>
        <p:spPr>
          <a:xfrm>
            <a:off x="6137280" y="2604960"/>
            <a:ext cx="2378160" cy="1782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"/>
          <p:cNvPicPr/>
          <p:nvPr/>
        </p:nvPicPr>
        <p:blipFill>
          <a:blip r:embed="rId6"/>
          <a:stretch/>
        </p:blipFill>
        <p:spPr>
          <a:xfrm>
            <a:off x="1219320" y="4757760"/>
            <a:ext cx="14205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36232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уже большими стали – сказку сами показа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ем мы артистами… очень голосисты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3861000" cy="28954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4419720" y="3200400"/>
            <a:ext cx="3555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2540160" y="1905120"/>
            <a:ext cx="46735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й</dc:creator>
  <dc:description/>
  <dc:language>en-US</dc:language>
  <cp:lastModifiedBy>Анна</cp:lastModifiedBy>
  <dcterms:modified xsi:type="dcterms:W3CDTF">2019-10-08T12:28:22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