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DD7-6CBC-4D1D-9E23-C18F53EA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EB6-72B0-46E9-B222-BE6DD95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E3E-3AC4-4C73-865D-57CD9E0E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A48-A7B2-4DDF-9278-BF5ADCF1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C247-4D7E-4A32-8F2F-6E629566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CC17-C076-4E19-8CD0-15BD35DE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304E-3EC4-4164-8F13-0AA02062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290D-DA15-4206-8944-0DADEB06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C39A-5098-4869-8339-6C607B89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9BD5-B172-4F6F-8CE0-00CF21DB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65C3-E2C6-43A2-B2BD-384F6DC7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ACA-35AE-419C-AA85-C753AC05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1895-F69A-4C54-B2CC-86A4DD18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D46B-F24A-4B75-856E-EAF52981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C9CB-1690-4441-A8AF-3388251D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7758-5326-4BCC-B0EC-C0492EF3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CAB8-79B7-457F-92CE-FA5E771F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963-D654-4875-89A6-1E12959E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6D3-FEAC-4518-88C7-19D1CE7A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2C8-10D6-4D67-9ED5-551EA9C2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5DD-DC52-448A-BBDC-851A5FC9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B45-D8B6-4E26-A687-F84D4C0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DBC-CE4F-4F50-8067-D29EC07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95F-F42A-401E-BB82-4A3E1815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2865-4EB0-4414-A4C4-8847DA66D5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98A7-0AB4-493B-BF6F-5A9F14B74A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«Огород на подоконнике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ДОУ «Березка»с.Карм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шая груп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уратин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садили укроп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P1070724"/>
          <p:cNvPicPr/>
          <p:nvPr/>
        </p:nvPicPr>
        <p:blipFill>
          <a:blip r:embed="rId1"/>
          <a:stretch/>
        </p:blipFill>
        <p:spPr>
          <a:xfrm>
            <a:off x="395280" y="1341360"/>
            <a:ext cx="8364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от какой он у нас вырос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P1070961"/>
          <p:cNvPicPr/>
          <p:nvPr/>
        </p:nvPicPr>
        <p:blipFill>
          <a:blip r:embed="rId1"/>
          <a:stretch/>
        </p:blipFill>
        <p:spPr>
          <a:xfrm>
            <a:off x="250920" y="1052640"/>
            <a:ext cx="84978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садили лук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P1070743"/>
          <p:cNvPicPr/>
          <p:nvPr/>
        </p:nvPicPr>
        <p:blipFill>
          <a:blip r:embed="rId1"/>
          <a:stretch/>
        </p:blipFill>
        <p:spPr>
          <a:xfrm>
            <a:off x="395280" y="1341360"/>
            <a:ext cx="83898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садили петрушку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P1070947"/>
          <p:cNvPicPr/>
          <p:nvPr/>
        </p:nvPicPr>
        <p:blipFill>
          <a:blip r:embed="rId1"/>
          <a:stretch/>
        </p:blipFill>
        <p:spPr>
          <a:xfrm>
            <a:off x="179280" y="1125360"/>
            <a:ext cx="86518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ак же посадили перец и огурцы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P1070972"/>
          <p:cNvPicPr/>
          <p:nvPr/>
        </p:nvPicPr>
        <p:blipFill>
          <a:blip r:embed="rId1"/>
          <a:stretch/>
        </p:blipFill>
        <p:spPr>
          <a:xfrm>
            <a:off x="250920" y="1484280"/>
            <a:ext cx="4249800" cy="524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P1070953"/>
          <p:cNvPicPr/>
          <p:nvPr/>
        </p:nvPicPr>
        <p:blipFill>
          <a:blip r:embed="rId2"/>
          <a:stretch/>
        </p:blipFill>
        <p:spPr>
          <a:xfrm>
            <a:off x="4643280" y="1484280"/>
            <a:ext cx="43056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дем всходов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P1070967"/>
          <p:cNvPicPr/>
          <p:nvPr/>
        </p:nvPicPr>
        <p:blipFill>
          <a:blip r:embed="rId1"/>
          <a:stretch/>
        </p:blipFill>
        <p:spPr>
          <a:xfrm>
            <a:off x="179280" y="1413000"/>
            <a:ext cx="84837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явились всходы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P1080076"/>
          <p:cNvPicPr/>
          <p:nvPr/>
        </p:nvPicPr>
        <p:blipFill>
          <a:blip r:embed="rId1"/>
          <a:stretch/>
        </p:blipFill>
        <p:spPr>
          <a:xfrm>
            <a:off x="324000" y="1268280"/>
            <a:ext cx="8364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от такой у нас получился огород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P1080170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8:42:22Z</dcterms:created>
  <dc:creator>User</dc:creator>
  <dc:description/>
  <dc:language>en-US</dc:language>
  <cp:lastModifiedBy>Эльдорадо</cp:lastModifiedBy>
  <dcterms:modified xsi:type="dcterms:W3CDTF">2019-10-08T11:10:24Z</dcterms:modified>
  <cp:revision>2</cp:revision>
  <dc:subject/>
  <dc:title>«Огород на подоконнике»</dc:title>
</cp:coreProperties>
</file>