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CFD-FEE4-46AC-9B46-D053798E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3F63-0EE1-4E86-BDAB-35E07BBE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0B37-6870-4040-91D0-FB33C920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F04-6F19-4C08-B51D-0F60C990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315-1D93-442A-A226-91C46A4E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D961-4090-4B72-89F5-8F134CDD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4F4-64D1-46B7-B2F7-BA495751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062-7545-4987-991B-C1FC622B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4A2F-5BAC-4A14-84B0-E79880CF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7AF-9443-48A6-950D-EABE0DE0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1EE-7527-4A1F-974D-C60E3DFA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B051-4B2E-41CB-99B0-43BA790C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595C-7D1B-47A1-A9FA-2934C51AD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hotoline.ru/secbase/picpart/1303/1303093601.jp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ihi.ru/pics/2011/09/05/323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703/ganzha-nastya.0/0_5f45c_7bd701a4_XL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xtremeland.ru/data/pages/catalog/images/image.1218715208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osmos-x.net.ru/_fr/5/0581662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9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3371760"/>
          </a:xfrm>
          <a:prstGeom prst="rect">
            <a:avLst/>
          </a:prstGeom>
          <a:ln w="0">
            <a:noFill/>
          </a:ln>
        </p:spPr>
      </p:pic>
      <p:pic>
        <p:nvPicPr>
          <p:cNvPr id="42" name="i-main-pic" descr="Картинка 33 из 105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1125360"/>
            <a:ext cx="429732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Осенние празд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00000"/>
                </a:solidFill>
                <a:latin typeface="Arial"/>
              </a:rPr>
              <a:t>8 октября – КАПУСТН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00000"/>
                </a:solidFill>
                <a:latin typeface="Arial"/>
              </a:rPr>
              <a:t>14 октября – ПОКРОВ ДЕ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00000"/>
                </a:solidFill>
                <a:latin typeface="Arial"/>
              </a:rPr>
              <a:t>27 октября – ДЕНЬ ПАРАСКЕВЫ ПЯТН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Картинка 21 из 117585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Картинка 20 из 174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23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а 51 из 1216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764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4" descr=""/>
          <p:cNvPicPr/>
          <p:nvPr/>
        </p:nvPicPr>
        <p:blipFill>
          <a:blip r:embed="rId3"/>
          <a:stretch/>
        </p:blipFill>
        <p:spPr>
          <a:xfrm>
            <a:off x="2494080" y="281160"/>
            <a:ext cx="422424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Картинка 36 из 331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1538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3"/>
          <a:stretch/>
        </p:blipFill>
        <p:spPr>
          <a:xfrm>
            <a:off x="2494080" y="281160"/>
            <a:ext cx="422424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102 из 675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57120"/>
            <a:ext cx="9144000" cy="92869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3"/>
          <a:stretch/>
        </p:blipFill>
        <p:spPr>
          <a:xfrm>
            <a:off x="2494080" y="274680"/>
            <a:ext cx="4224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Картинка 5 из 4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8" descr=""/>
          <p:cNvPicPr/>
          <p:nvPr/>
        </p:nvPicPr>
        <p:blipFill>
          <a:blip r:embed="rId2"/>
          <a:stretch/>
        </p:blipFill>
        <p:spPr>
          <a:xfrm>
            <a:off x="2639880" y="2620800"/>
            <a:ext cx="4218120" cy="12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Картинка 98 из 29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7" descr=""/>
          <p:cNvPicPr/>
          <p:nvPr/>
        </p:nvPicPr>
        <p:blipFill>
          <a:blip r:embed="rId2"/>
          <a:stretch/>
        </p:blipFill>
        <p:spPr>
          <a:xfrm>
            <a:off x="2139840" y="2693880"/>
            <a:ext cx="46450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Картинка 44 из 128098"/>
          <p:cNvPicPr/>
          <p:nvPr/>
        </p:nvPicPr>
        <p:blipFill>
          <a:blip r:embed="rId1"/>
          <a:stretch/>
        </p:blipFill>
        <p:spPr>
          <a:xfrm>
            <a:off x="-157320" y="0"/>
            <a:ext cx="9301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75280" y="285588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2209680"/>
            <a:ext cx="2324160" cy="1352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М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Осенние\12189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238560" y="2979720"/>
            <a:ext cx="2666880" cy="9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ОГОВОРКИ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3-10-31T12:58:0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