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102-000B-4723-82A5-751A2C7D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E68-7F36-4046-913E-FC9212A5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A14-68D1-4714-8A83-5C4DB417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DD7-38B9-4771-8A88-5C2720FA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621-C525-4E8A-A5D6-B97953BC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E26-5B72-4214-BA8C-EF4B2A0F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55A-CBEC-4A1A-8865-70904764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3DB-CABC-4F51-8CDA-10CB1200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C29-A92C-4F32-9DFD-F0A2C812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AF4-42A3-4914-82FE-929660BF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CDD-50A0-4063-B730-AA258DF7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415-8906-4D2C-A474-7C2F5CFA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457C-1F6F-4576-8826-27DC9473D0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557360"/>
            <a:ext cx="8748720" cy="347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е бюджетное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школьное образовательное учреждение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ский сад «Колобок»</a:t>
            </a:r>
            <a:br>
              <a:rPr sz="3600"/>
            </a:br>
            <a:br>
              <a:rPr sz="3200"/>
            </a:br>
            <a:r>
              <a:rPr b="1" lang="ru-RU" sz="6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группа «Капельки»</a:t>
            </a:r>
            <a:br>
              <a:rPr sz="6000"/>
            </a:br>
            <a:br>
              <a:rPr sz="43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тель: </a:t>
            </a:r>
            <a:br>
              <a:rPr sz="4300"/>
            </a:b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валева Елена Викторовн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:\Users\Ольга\Desktop\Работа\Работа Колобок\Группа Капелька\Краплинка3-768x1086.png"/>
          <p:cNvPicPr/>
          <p:nvPr/>
        </p:nvPicPr>
        <p:blipFill>
          <a:blip r:embed="rId1"/>
          <a:stretch/>
        </p:blipFill>
        <p:spPr>
          <a:xfrm>
            <a:off x="7464600" y="2852640"/>
            <a:ext cx="167940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7487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3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868680" y="189000"/>
            <a:ext cx="740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е воспит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Ольга\Desktop\Работа\ФОТКИ на работе\Колобок\Группа Капельки\2 младщая группа\Уголки в группе\IMG_4949.JPG"/>
          <p:cNvPicPr/>
          <p:nvPr/>
        </p:nvPicPr>
        <p:blipFill>
          <a:blip r:embed="rId1"/>
          <a:stretch/>
        </p:blipFill>
        <p:spPr>
          <a:xfrm>
            <a:off x="826920" y="1019160"/>
            <a:ext cx="794232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179280" y="189000"/>
            <a:ext cx="8785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рись, мирись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ольше не дерись….             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голок «Мирилка»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Users\Ольга\Desktop\МОЯ аттестация\Ковалева Е В\Фото новое\12.jpg"/>
          <p:cNvPicPr/>
          <p:nvPr/>
        </p:nvPicPr>
        <p:blipFill>
          <a:blip r:embed="rId1"/>
          <a:stretch/>
        </p:blipFill>
        <p:spPr>
          <a:xfrm>
            <a:off x="196920" y="1278000"/>
            <a:ext cx="6067440" cy="546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Ольга\Desktop\МОЯ аттестация\Ковалева Е В\Фото новое\13.jpg"/>
          <p:cNvPicPr/>
          <p:nvPr/>
        </p:nvPicPr>
        <p:blipFill>
          <a:blip r:embed="rId2"/>
          <a:stretch/>
        </p:blipFill>
        <p:spPr>
          <a:xfrm>
            <a:off x="5076720" y="1413000"/>
            <a:ext cx="386568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320364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3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в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ей группе уголок,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торый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жизни нам помог!</a:t>
            </a:r>
            <a:br>
              <a:rPr sz="36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C:\Users\Ольга\Desktop\Работа\ФОТКИ на работе\Колобок\Группа Капельки\2 младщая группа\Уголки в группе\Сжатое  10.JPG"/>
          <p:cNvPicPr/>
          <p:nvPr/>
        </p:nvPicPr>
        <p:blipFill>
          <a:blip r:embed="rId1"/>
          <a:stretch/>
        </p:blipFill>
        <p:spPr>
          <a:xfrm>
            <a:off x="3059280" y="115920"/>
            <a:ext cx="5973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720" y="5235480"/>
            <a:ext cx="63370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Это зона – игровая: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нтересная такая!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десь игрушки говорят,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Голосами всех ребят.</a:t>
            </a:r>
            <a:br>
              <a:rPr sz="4300"/>
            </a:b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Ольга\Desktop\МОЯ аттестация\Ковалева Е В\Фото новое\15.JPG"/>
          <p:cNvPicPr/>
          <p:nvPr/>
        </p:nvPicPr>
        <p:blipFill>
          <a:blip r:embed="rId1"/>
          <a:stretch/>
        </p:blipFill>
        <p:spPr>
          <a:xfrm>
            <a:off x="2363760" y="115920"/>
            <a:ext cx="66452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C:\Users\Ольга\Desktop\Работа\ФОТКИ на работе\Колобок\Группа Капельки\2 младщая группа\Уголки в группе\2 — копия.JPG"/>
          <p:cNvPicPr/>
          <p:nvPr/>
        </p:nvPicPr>
        <p:blipFill>
          <a:blip r:embed="rId1"/>
          <a:stretch/>
        </p:blipFill>
        <p:spPr>
          <a:xfrm>
            <a:off x="179280" y="260280"/>
            <a:ext cx="8793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480" y="-360"/>
            <a:ext cx="87487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300"/>
            </a:br>
            <a:r>
              <a:rPr b="1" lang="ru-RU" sz="43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9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портивный уголок</a:t>
            </a:r>
            <a:br>
              <a:rPr sz="4900"/>
            </a:b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«Здоровье в порядке –</a:t>
            </a:r>
            <a:br>
              <a:rPr sz="2800"/>
            </a:b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      спасибо зарядке»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лон красо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Users\Ольга\Desktop\Работа\ФОТКИ на работе\Колобок\Группа Капельки\2 младщая группа\Уголки в группе\6 — копия.JPG"/>
          <p:cNvPicPr/>
          <p:nvPr/>
        </p:nvPicPr>
        <p:blipFill>
          <a:blip r:embed="rId1"/>
          <a:stretch/>
        </p:blipFill>
        <p:spPr>
          <a:xfrm>
            <a:off x="395280" y="1933560"/>
            <a:ext cx="84978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673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300"/>
            </a:b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ая зон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"/>
          <p:cNvSpPr/>
          <p:nvPr/>
        </p:nvSpPr>
        <p:spPr>
          <a:xfrm>
            <a:off x="0" y="2828880"/>
            <a:ext cx="4154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ы с фигурами знакомы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 цифры много узна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математики закон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стигать не устаем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C:\Users\Ольга\Desktop\Работа\ФОТКИ на работе\Колобок\Группа Капельки\Средняя группа\Уголки в группе\IMG_5176 — копия.JPG"/>
          <p:cNvPicPr/>
          <p:nvPr/>
        </p:nvPicPr>
        <p:blipFill>
          <a:blip r:embed="rId1"/>
          <a:stretch/>
        </p:blipFill>
        <p:spPr>
          <a:xfrm>
            <a:off x="4268880" y="227160"/>
            <a:ext cx="472572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39600" y="122040"/>
            <a:ext cx="57596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300"/>
            </a:br>
            <a:r>
              <a:rPr b="1" lang="ru-RU" sz="3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игры </a:t>
            </a:r>
            <a:br>
              <a:rPr sz="3400"/>
            </a:br>
            <a:r>
              <a:rPr b="1" lang="ru-RU" sz="3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зные играем,</a:t>
            </a:r>
            <a:br>
              <a:rPr sz="3400"/>
            </a:br>
            <a:r>
              <a:rPr b="1" lang="ru-RU" sz="3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сех с собою приглашаем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Ольга\Desktop\МОЯ аттестация\Ковалева Е В\Фото новое\19.JPG"/>
          <p:cNvPicPr/>
          <p:nvPr/>
        </p:nvPicPr>
        <p:blipFill>
          <a:blip r:embed="rId1"/>
          <a:stretch/>
        </p:blipFill>
        <p:spPr>
          <a:xfrm>
            <a:off x="179280" y="115920"/>
            <a:ext cx="3745080" cy="666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Ольга\Desktop\МОЯ аттестация\Ковалева Е В\Фото новое\20.JPG"/>
          <p:cNvPicPr/>
          <p:nvPr/>
        </p:nvPicPr>
        <p:blipFill>
          <a:blip r:embed="rId2"/>
          <a:stretch/>
        </p:blipFill>
        <p:spPr>
          <a:xfrm>
            <a:off x="4572000" y="2060640"/>
            <a:ext cx="389556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2"/>
          <p:cNvSpPr/>
          <p:nvPr/>
        </p:nvSpPr>
        <p:spPr>
          <a:xfrm>
            <a:off x="168120" y="1700280"/>
            <a:ext cx="8856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 нам, друзья вы, приходите,</a:t>
            </a:r>
            <a:br>
              <a:rPr sz="4800"/>
            </a:b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смотрите, оцените!</a:t>
            </a:r>
            <a:br>
              <a:rPr sz="4800"/>
            </a:b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 понравится у нас,</a:t>
            </a:r>
            <a:br>
              <a:rPr sz="4800"/>
            </a:b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ставайтесь в тот же час!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Ольга\Desktop\Работа\Работа Колобок\Группа Капелька\Краплинка3-768x1086.png"/>
          <p:cNvPicPr/>
          <p:nvPr/>
        </p:nvPicPr>
        <p:blipFill>
          <a:blip r:embed="rId1"/>
          <a:stretch/>
        </p:blipFill>
        <p:spPr>
          <a:xfrm>
            <a:off x="98280" y="0"/>
            <a:ext cx="15400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Ольга\Desktop\Работа\Работа Колобок\Группа Капелька\1_8350f15289a06df8c92845d9a2b9670e.jpg.jpg"/>
          <p:cNvPicPr/>
          <p:nvPr/>
        </p:nvPicPr>
        <p:blipFill>
          <a:blip r:embed="rId2"/>
          <a:stretch/>
        </p:blipFill>
        <p:spPr>
          <a:xfrm>
            <a:off x="98280" y="4684680"/>
            <a:ext cx="2168640" cy="216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Ольга\Desktop\Работа\Работа Колобок\Группа Капелька\Краплинка3-768x1086.png"/>
          <p:cNvPicPr/>
          <p:nvPr/>
        </p:nvPicPr>
        <p:blipFill>
          <a:blip r:embed="rId3"/>
          <a:stretch/>
        </p:blipFill>
        <p:spPr>
          <a:xfrm>
            <a:off x="7236000" y="4149720"/>
            <a:ext cx="19954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Ольга\Desktop\Работа\ФОТКИ на работе\Колобок\Группа Капельки\2 младщая группа\Уголки в группе\Сжатая 2.JPG"/>
          <p:cNvPicPr/>
          <p:nvPr/>
        </p:nvPicPr>
        <p:blipFill>
          <a:blip r:embed="rId1"/>
          <a:stretch/>
        </p:blipFill>
        <p:spPr>
          <a:xfrm>
            <a:off x="108000" y="115920"/>
            <a:ext cx="8939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-19440"/>
            <a:ext cx="874872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в группе для родите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личный уголок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 каждый ознакомиться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делами группы мог.</a:t>
            </a:r>
            <a:br>
              <a:rPr sz="2400"/>
            </a:br>
            <a:br>
              <a:rPr sz="4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Ольга\Desktop\Работа\ФОТКИ на работе\Колобок\Группа Капельки\2 младщая группа\Уголки в группе\21 — копия.JPG"/>
          <p:cNvPicPr/>
          <p:nvPr/>
        </p:nvPicPr>
        <p:blipFill>
          <a:blip r:embed="rId1"/>
          <a:stretch/>
        </p:blipFill>
        <p:spPr>
          <a:xfrm>
            <a:off x="250920" y="1806480"/>
            <a:ext cx="87138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22640" y="188640"/>
            <a:ext cx="4211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3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е творчество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Ольга\Desktop\МОЯ аттестация\Ковалева Е В\Фото новое\3.JPG"/>
          <p:cNvPicPr/>
          <p:nvPr/>
        </p:nvPicPr>
        <p:blipFill>
          <a:blip r:embed="rId1"/>
          <a:stretch/>
        </p:blipFill>
        <p:spPr>
          <a:xfrm>
            <a:off x="108000" y="115920"/>
            <a:ext cx="4535280" cy="666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Ольга\Desktop\МОЯ аттестация\Ковалева Е В\Фото новое\4.JPG"/>
          <p:cNvPicPr/>
          <p:nvPr/>
        </p:nvPicPr>
        <p:blipFill>
          <a:blip r:embed="rId2"/>
          <a:stretch/>
        </p:blipFill>
        <p:spPr>
          <a:xfrm>
            <a:off x="4788000" y="2133720"/>
            <a:ext cx="4257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Ольга\Desktop\Работа\ФОТКИ на работе\Колобок\Группа Капельки\Средняя группа\Уголки в группе\IMG_5175 — копия.JPG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:\Users\Ольга\Desktop\Работа\ФОТКИ на работе\Колобок\Группа Капельки\2 младщая группа\Уголки в группе\14.JPG"/>
          <p:cNvPicPr/>
          <p:nvPr/>
        </p:nvPicPr>
        <p:blipFill>
          <a:blip r:embed="rId1"/>
          <a:stretch/>
        </p:blipFill>
        <p:spPr>
          <a:xfrm>
            <a:off x="135000" y="260280"/>
            <a:ext cx="8869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432108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голок природы «Зеленая планета»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Ольга\Desktop\Работа\Работа Колобок\Группа Капелька\Уголки\image (1).jpg"/>
          <p:cNvPicPr/>
          <p:nvPr/>
        </p:nvPicPr>
        <p:blipFill>
          <a:blip r:embed="rId1"/>
          <a:stretch/>
        </p:blipFill>
        <p:spPr>
          <a:xfrm>
            <a:off x="2411280" y="4005360"/>
            <a:ext cx="2617920" cy="261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Ольга\Desktop\Работа\ФОТКИ на работе\Колобок\Группа Капельки\Средняя группа\Уголки в группе\IMG_5168 — копия.JPG"/>
          <p:cNvPicPr/>
          <p:nvPr/>
        </p:nvPicPr>
        <p:blipFill>
          <a:blip r:embed="rId2"/>
          <a:stretch/>
        </p:blipFill>
        <p:spPr>
          <a:xfrm>
            <a:off x="5364000" y="112680"/>
            <a:ext cx="371016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24000" y="620640"/>
            <a:ext cx="50036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6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Уголок творчества «Фантазия»</a:t>
            </a:r>
            <a:br>
              <a:rPr sz="43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4164120" y="327168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еня не надо заним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 научился рисо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 соберу большой бук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 нарисую твой портр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:\Users\Ольга\Desktop\Работа\ФОТКИ на работе\Колобок\Группа Капельки\Средняя группа\Уголки в группе\IMG_5169 — копия.JPG"/>
          <p:cNvPicPr/>
          <p:nvPr/>
        </p:nvPicPr>
        <p:blipFill>
          <a:blip r:embed="rId1"/>
          <a:stretch/>
        </p:blipFill>
        <p:spPr>
          <a:xfrm>
            <a:off x="190440" y="131760"/>
            <a:ext cx="366084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11280" y="115920"/>
            <a:ext cx="82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ческое воспит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65240" y="9478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ли не мы, то кто ж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тям нашим помож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оссию любить и знать!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к важно не опоздать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:\Users\Ольга\Desktop\МОЯ аттестация\Ковалева Е В\Фото новое\9.JPG"/>
          <p:cNvPicPr/>
          <p:nvPr/>
        </p:nvPicPr>
        <p:blipFill>
          <a:blip r:embed="rId1"/>
          <a:stretch/>
        </p:blipFill>
        <p:spPr>
          <a:xfrm>
            <a:off x="149400" y="3141720"/>
            <a:ext cx="4768560" cy="352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Users\Ольга\Desktop\Работа\ФОТКИ на работе\Колобок\Группа Капельки\2 младщая группа\Уголки в группе\Сжатая 8.JPG"/>
          <p:cNvPicPr/>
          <p:nvPr/>
        </p:nvPicPr>
        <p:blipFill>
          <a:blip r:embed="rId2"/>
          <a:stretch/>
        </p:blipFill>
        <p:spPr>
          <a:xfrm>
            <a:off x="5060880" y="871560"/>
            <a:ext cx="39895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9T04:28:49Z</dcterms:created>
  <dc:creator>Руслан Ковалёв</dc:creator>
  <dc:description/>
  <dc:language>en-US</dc:language>
  <cp:lastModifiedBy>Руслан Ковалёв</cp:lastModifiedBy>
  <dcterms:modified xsi:type="dcterms:W3CDTF">2019-10-09T05:39:32Z</dcterms:modified>
  <cp:revision>11</cp:revision>
  <dc:subject/>
  <dc:title>Презентация PowerPoint</dc:title>
</cp:coreProperties>
</file>