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3.gif" ContentType="image/gif"/>
  <Override PartName="/ppt/media/image12.jpeg" ContentType="image/jpeg"/>
  <Override PartName="/ppt/media/image10.wmf" ContentType="image/x-wmf"/>
  <Override PartName="/ppt/media/image22.gif" ContentType="image/gif"/>
  <Override PartName="/ppt/media/image8.png" ContentType="image/png"/>
  <Override PartName="/ppt/media/image14.jpeg" ContentType="image/jpeg"/>
  <Override PartName="/ppt/media/image16.wmf" ContentType="image/x-wmf"/>
  <Override PartName="/ppt/media/image7.gif" ContentType="image/gif"/>
  <Override PartName="/ppt/media/image5.jpeg" ContentType="image/jpeg"/>
  <Override PartName="/ppt/media/image6.wmf" ContentType="image/x-wmf"/>
  <Override PartName="/ppt/media/image11.gif" ContentType="image/gif"/>
  <Override PartName="/ppt/media/image9.wmf" ContentType="image/x-wmf"/>
  <Override PartName="/ppt/media/image3.wmf" ContentType="image/x-wmf"/>
  <Override PartName="/ppt/media/image2.wmf" ContentType="image/x-wmf"/>
  <Override PartName="/ppt/media/image26.gif" ContentType="image/gif"/>
  <Override PartName="/ppt/media/image17.wmf" ContentType="image/x-wmf"/>
  <Override PartName="/ppt/media/image25.gif" ContentType="image/gif"/>
  <Override PartName="/ppt/media/image24.jpeg" ContentType="image/jpeg"/>
  <Override PartName="/ppt/media/image21.wmf" ContentType="image/x-wmf"/>
  <Override PartName="/ppt/media/image19.gif" ContentType="image/gif"/>
  <Override PartName="/ppt/media/image4.wmf" ContentType="image/x-wmf"/>
  <Override PartName="/ppt/media/image23.png" ContentType="image/png"/>
  <Override PartName="/ppt/media/image20.gif" ContentType="image/gif"/>
  <Override PartName="/ppt/media/image18.png" ContentType="image/png"/>
  <Override PartName="/ppt/media/image15.gif" ContentType="image/gif"/>
  <Override PartName="/ppt/media/image1.jpeg" ContentType="image/jpeg"/>
  <Override PartName="/ppt/media/image2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594A-9306-41DF-99E7-D0CCB9064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1F14-0007-4392-9D26-C9D51765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08252-911C-41C0-BBB6-42FECE8E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76F88-61BC-48A1-A995-F458FFA3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1FD12-90E2-4A3D-BB40-290DCCC0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66986-0E96-4346-AE8A-2E36C41E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24D8E-629A-4A90-90C5-2D3971E6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E8328-2988-41CD-9935-508BB3F1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81CD4-AAD9-4F0B-AC0C-6206954C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63771-46FC-476B-BD15-1D31479D0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88C0F-6487-4E28-9C95-EB441167C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07273-E6FA-4A0A-811F-1D6D581F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91C2-1133-4345-9847-B8A81329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33F5A-C136-4E38-88D2-6F8DDE12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80CF85-26F7-4F29-B439-9E9DCC7C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2A00D5-AB92-4518-867A-48C301B7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BF8E3-017C-436B-A090-2BCBADCF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67A7A-1222-4876-ABEA-692659C5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3C93F-5662-4C15-AF75-582D0B05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28FA2-524D-40A1-9E7C-DA669CF7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33988-BA25-4B28-ABFC-0FD24865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B0F223-4653-4629-841C-26A1D023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9F4F9-6F8D-4CE1-BED1-A9FB3C565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6352-EB8F-41B5-B0C8-1C9CACAB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408D7-A89D-4518-BDB4-F85CF3D91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F54FD-9130-47BF-AF76-F90F2249B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16F0D-6772-4816-AAD5-7418E172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19927-DF83-40EE-B196-2F084D12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764F2-9B08-4602-856F-10835F4B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87526-392B-4535-A847-67325844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49291-CD37-43FF-AD9D-F1B53600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D282A-D39D-46AE-A152-A6BF1A20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B0387-1000-411B-ABA2-62E61650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41AF9-B7EC-493C-864A-AD1736DA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6087-3714-470F-AA0F-E62E64FC7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11BD5-DE54-4F98-A75C-A9044A88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CED1E-A099-4E70-94C1-5A3049127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A77B7-9B5C-4379-BCE6-8682BF266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613D2F-A103-4B39-95DC-BB66DB99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D1C16-5E28-42EF-9F5F-5BB5E1F3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15724B-974F-4BC3-87E8-AC0A6C68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07941B-A8BD-4EA5-B372-419C040E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0E8107-FD8D-4A28-99D8-CC66A271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4A254-FD7D-40C8-92D4-822E03B8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0CC32-8115-49DC-8AEE-2CAEC9E1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EEF0-969A-4EB7-ACC9-D11F2119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B726C-EC23-4D44-8AB8-A296DB0D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BCE56-FB3F-4614-B227-17433663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7B3DED-3641-4CC5-878B-7C55E3DD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5DE09-02D5-4994-B09F-48C376D7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A09D5-A427-4A32-9200-2E42470E8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890856-7B09-4CB2-8B44-C55885F1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9FFC60-E943-488D-94D1-12F2E4AC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C98584-AD4E-4BB6-92B2-4035D095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58D248-6946-4062-9F0A-463E9525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404A73-C412-4FE5-8C5D-FE3AF04D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1D23-0854-409C-86EB-64EE4448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2F13E6-0368-41CC-86EB-033593EE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536CB1-55D2-4B15-AEDE-3F18B8F5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D98ECA-37E4-4191-BEB3-521B5F54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E125F2-05F7-441A-A9B0-75087FFF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99BE64-C860-44D4-86D0-F8D4FE00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4D9A14-0AEF-4426-9FE2-D58E67CF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23F54E-1894-459E-8805-7DFE367C7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CE21D8-59BB-4ACD-B208-48AB911F5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B8758F-F3C8-49D0-9257-D8B56BA8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AF1836-90FE-44EE-9242-A0B0D50D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97E2-F286-41B3-89D7-65467794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342FAD-86FF-4BAE-833E-E07347E8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6ED4F2-8414-44D9-B634-A174FA31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872534-9729-4C9C-BD38-F25628A4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68553D-1596-4679-90A2-A374375F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E9F6F2-A5FA-4302-BD5C-D4DC8E0B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0ECEA6-8A30-47D5-AEB8-89A0B779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4A6F7A-D10C-4BF2-9DE2-4F9324AD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A8B201-63CE-4900-B016-042981D53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5CC0C1-C718-4889-93EB-A041861BE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74E5-74A4-48F3-924D-093FB3B8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94F5-799E-46CC-8D1C-7EDCBF79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06CC-1382-491E-B0AC-8381116E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35D7-FD51-4E10-8098-01CD2B19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B5A9-8178-434F-B910-A3BBDC26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C864-CC94-46D1-89B4-895CE5DD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E6C1-6C81-497E-BFE7-BBE59D56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DD44-5BBF-4535-BACE-B3498C623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7C99-A2CE-468E-9EDD-45EF9554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232E7-D924-4358-BA0F-41A4A1DF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5905F-0128-43F3-8A68-863C45A8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57DFB-76D8-4D4F-BC85-55571BF3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10E46-320C-49BE-B0D7-D668456E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CAD97-10B7-441E-B479-A28E9358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A762-8C82-43FE-8B2B-6AC10110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247F8-8EA7-49C3-B37D-AC033C42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75EE4-C9B3-4C88-8699-8F4A34EC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3B075-3CB9-4EDB-8DAA-57F62887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BC050-634D-41CA-92A8-55BAB1C7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15667-522A-4A5D-986B-BFDC621F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81486-BAB5-4B1F-A869-6783DA183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61DA3-F903-4D10-8533-2CDB57FD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4514B-C99F-42A5-9C37-2AC47F37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035CE-3CF7-4807-93B7-48B2EB25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83C5A-9167-4EBA-895F-47B707C8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127C-3E74-4921-9091-7552DAEF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BE6FF-9FD3-4B83-9A60-F7098173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E3807-B219-4952-9D6D-1008804E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38424-099A-4843-B56D-6B4A7592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86776-6167-44F1-9025-745D37CD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38A8A-9E01-428E-B438-81E14D41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7E82A-533E-4CC7-9EDC-EE084A22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975BA-B2C4-4EB3-B4D5-02B8AA94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20C9A-AEE8-4829-A506-873993347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1BB7B-55F1-4B66-A381-38C45D19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448F5-D5FD-4323-8943-C6100E4B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03BE-0269-4D1A-A97B-F2D791AC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53B0B-0F29-42DE-B1B1-2EF4BF0C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C2B9F-AC53-47D9-916A-D706AB0F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C073B-E154-4980-9540-A7FE3DC4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AE80C-E5A1-4116-8D9C-09649913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22E11-6063-46E2-9004-B14CE589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F3B7B-B6BD-4288-9A5A-626B3955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043A6-95C0-4AD6-87E4-5CCA20C5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01F1B-E1A2-48DF-8027-74D3F465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C29C1-F90C-43E3-B422-C4B79D97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17385-467A-4A7E-BE9A-BCDEF6BE5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D230-029C-449C-96D5-C8CD1609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C52E7-952B-40A2-B856-6F03D186A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BC4B5-DF01-4C2D-B156-94762483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18277-67DA-4156-B243-A0907D31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B6B38-E1CD-4A37-81D2-068F80A2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4DB11-3516-41C9-A71A-2CB15D77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150DC-914A-40C5-BD18-C48B703A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847FC-997E-4520-AF2D-FE59C222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CB605-AA69-4406-966C-7AD96A3F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90BA8-E3D2-4860-A55F-AB6520EF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C0CA6-ED67-46B2-8A23-33321212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06BC-4EF1-40C8-A2ED-BC8EB36A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D71A7-D855-4FF3-BF0A-1B868B17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B913B-0783-4E17-BA09-182D450DA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FF139-FE15-490D-9684-15A1BFE7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B6935-5CD3-4C38-AFD2-05104EFB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E2A99-7AD8-4455-9D30-A7CCF296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E8EFE-E465-4EBD-8ABE-67F1B212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611F4-A9D9-48BF-9150-1A79D044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B3D2F-B808-473F-AB08-5C705B24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CF7AE-A949-42B0-AA52-D7C8210C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C1EC4-217A-4E99-85D7-16207E81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EA57-C1FE-4149-9EA4-558B5F0F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9D579-3BB0-46DD-B110-E43C3E09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0FCAE-B969-4460-A2BC-8BBBD457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318F7-EECC-4895-945B-3D502942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5E905-4976-47F9-ABE5-C19248D5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0DEDA-56CE-417C-BF48-9CD4C554A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7BBEB-E4CD-4615-A0AB-75D91DC02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640E8-9F1C-4271-A1B0-3110BF81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F7F8D-8946-43CF-A00E-7BFEFF58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E7249-9CAA-4D26-8EC4-6B2A1E45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F5FA3-D250-45E9-84E0-CB2D817A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829A-1A93-4E81-B0E2-53B73EA2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3B4B0-90AE-4000-8BFD-877010CD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4E57B-0587-4945-8E20-7F84DF0D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D7607-76F0-47A9-AE49-DA348AC2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798E1-0B80-4BB9-AD66-299BF508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C327F-F5C1-4E06-854E-CB7B47B1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1E7F3-DFF8-4A28-BE00-01F2749FE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11DE8-B368-4945-BF73-927AC822C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33352-A3E2-4476-BBDD-DD8A6601A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8E55A-DA66-438E-A9E8-C09E5040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BA22B-E236-41AB-AC77-0B00BF32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38BB-1B12-4016-9D8E-B544843940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244D-E95A-4F17-BC00-D19E52CE29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63EA-035E-484E-AC00-1563D195AB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0320-1363-440E-9F7A-7E1FBCE828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1FEB-2AD3-47A8-A6E8-C489D3F177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669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70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Oval 5"/>
              <p:cNvSpPr/>
              <p:nvPr/>
            </p:nvSpPr>
            <p:spPr>
              <a:xfrm>
                <a:off x="3822840" y="1265760"/>
                <a:ext cx="23040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2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673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74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75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Oval 10"/>
                  <p:cNvSpPr/>
                  <p:nvPr/>
                </p:nvSpPr>
                <p:spPr>
                  <a:xfrm>
                    <a:off x="5109480" y="2234880"/>
                    <a:ext cx="71316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7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78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79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1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82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3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4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85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7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88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0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91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3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94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5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6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97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9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700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2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703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5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706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8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709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1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712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4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715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7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718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0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721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3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724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6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27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9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30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2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33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5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36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8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39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1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3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44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6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47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9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50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2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753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5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56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8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59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1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62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3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4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765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7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768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0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71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3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74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76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777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778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5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6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787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D784-A774-4541-BAED-491B81188FFB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4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5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710E-E21B-4F0A-A6F2-26EB62701C9E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7EC7-5822-4F6F-913F-99E748C2DB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34B1-8DA5-4643-9DFF-6AEAD5740C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2421-D30A-49B2-8A27-FB78AE1A12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188A-14CB-4DB9-AD9E-6389964F43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41C9-8D47-4F9E-A245-2E7FD67EC6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92D3-19E7-4C2C-83A7-FB2FD88DF2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607E-633D-4F80-B83D-C60DA693FB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gif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5.gi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wmf"/><Relationship Id="rId4" Type="http://schemas.openxmlformats.org/officeDocument/2006/relationships/image" Target="../media/image22.gif"/><Relationship Id="rId5" Type="http://schemas.openxmlformats.org/officeDocument/2006/relationships/slide" Target="slide6.xml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04920" y="38862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Impact"/>
              </a:rPr>
              <a:t>Разные праздники.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-360" y="301680"/>
            <a:ext cx="5257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Impact"/>
              </a:rPr>
              <a:t>Такие разные</a:t>
            </a:r>
            <a:r>
              <a:rPr b="0" lang="ru-RU" sz="3600" spc="-1" strike="noStrike">
                <a:solidFill>
                  <a:srgbClr val="cc0000"/>
                </a:solidFill>
                <a:latin typeface="Impact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Impact"/>
              </a:rPr>
              <a:t>праздники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4" name="Text Box 3"/>
          <p:cNvSpPr/>
          <p:nvPr/>
        </p:nvSpPr>
        <p:spPr>
          <a:xfrm>
            <a:off x="0" y="1700280"/>
            <a:ext cx="37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Семейные</a:t>
            </a: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4"/>
          <p:cNvSpPr/>
          <p:nvPr/>
        </p:nvSpPr>
        <p:spPr>
          <a:xfrm>
            <a:off x="395280" y="2924280"/>
            <a:ext cx="554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Профессиональные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5"/>
          <p:cNvSpPr/>
          <p:nvPr/>
        </p:nvSpPr>
        <p:spPr>
          <a:xfrm>
            <a:off x="1143000" y="4191120"/>
            <a:ext cx="446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Всенародные</a:t>
            </a: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6"/>
          <p:cNvSpPr/>
          <p:nvPr/>
        </p:nvSpPr>
        <p:spPr>
          <a:xfrm flipV="1" rot="10800000">
            <a:off x="2340000" y="5299560"/>
            <a:ext cx="512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Государствен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7" descr="connected_multiple"/>
          <p:cNvPicPr/>
          <p:nvPr/>
        </p:nvPicPr>
        <p:blipFill>
          <a:blip r:embed="rId1"/>
          <a:stretch/>
        </p:blipFill>
        <p:spPr>
          <a:xfrm>
            <a:off x="3203640" y="1700280"/>
            <a:ext cx="720720" cy="88884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8" descr="j0240695"/>
          <p:cNvPicPr/>
          <p:nvPr/>
        </p:nvPicPr>
        <p:blipFill>
          <a:blip r:embed="rId2"/>
          <a:stretch/>
        </p:blipFill>
        <p:spPr>
          <a:xfrm>
            <a:off x="5867280" y="2349360"/>
            <a:ext cx="1368720" cy="129564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9" descr="j0183290"/>
          <p:cNvPicPr/>
          <p:nvPr/>
        </p:nvPicPr>
        <p:blipFill>
          <a:blip r:embed="rId3"/>
          <a:stretch/>
        </p:blipFill>
        <p:spPr>
          <a:xfrm>
            <a:off x="5257800" y="4114800"/>
            <a:ext cx="1008000" cy="100980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10" descr="j0335112"/>
          <p:cNvPicPr/>
          <p:nvPr/>
        </p:nvPicPr>
        <p:blipFill>
          <a:blip r:embed="rId4"/>
          <a:stretch/>
        </p:blipFill>
        <p:spPr>
          <a:xfrm>
            <a:off x="7391520" y="525780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852" name="Прямоугольник 4"/>
          <p:cNvSpPr/>
          <p:nvPr/>
        </p:nvSpPr>
        <p:spPr>
          <a:xfrm>
            <a:off x="304920" y="59436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00"/>
                </a:solidFill>
                <a:latin typeface="Impact"/>
              </a:rPr>
              <a:t>Все мы любим празд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Impact"/>
              </a:rPr>
              <a:t>Праздник</a:t>
            </a:r>
            <a:r>
              <a:rPr b="0" lang="ru-RU" sz="1800" spc="-1" strike="noStrike">
                <a:solidFill>
                  <a:srgbClr val="996600"/>
                </a:solidFill>
                <a:latin typeface="Impact"/>
              </a:rPr>
              <a:t> – день торжества, установленный в честь или в память кого-нибудь или чего-ниб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77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77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8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8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35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/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35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35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35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/>
                                        <p:tgtEl>
                                          <p:spTgt spid="8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Picture 2" descr="j0185604"/>
          <p:cNvPicPr/>
          <p:nvPr/>
        </p:nvPicPr>
        <p:blipFill>
          <a:blip r:embed="rId2"/>
          <a:stretch/>
        </p:blipFill>
        <p:spPr>
          <a:xfrm flipH="1" rot="64200">
            <a:off x="684360" y="403920"/>
            <a:ext cx="1295280" cy="136548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3" descr="j0283177"/>
          <p:cNvPicPr/>
          <p:nvPr/>
        </p:nvPicPr>
        <p:blipFill>
          <a:blip r:embed="rId3"/>
          <a:stretch/>
        </p:blipFill>
        <p:spPr>
          <a:xfrm>
            <a:off x="2819520" y="3124080"/>
            <a:ext cx="1190520" cy="1414440"/>
          </a:xfrm>
          <a:prstGeom prst="rect">
            <a:avLst/>
          </a:prstGeom>
          <a:ln w="0">
            <a:noFill/>
          </a:ln>
        </p:spPr>
      </p:pic>
      <p:sp>
        <p:nvSpPr>
          <p:cNvPr id="855" name="WordArt 4"/>
          <p:cNvSpPr txBox="1"/>
          <p:nvPr/>
        </p:nvSpPr>
        <p:spPr>
          <a:xfrm>
            <a:off x="2362320" y="0"/>
            <a:ext cx="59436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9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Verdana"/>
              </a:rPr>
              <a:t>Семейные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856" name="Text Box 5"/>
          <p:cNvSpPr/>
          <p:nvPr/>
        </p:nvSpPr>
        <p:spPr>
          <a:xfrm>
            <a:off x="82800" y="2252520"/>
            <a:ext cx="677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6600"/>
                </a:solidFill>
                <a:latin typeface="Impact"/>
              </a:rPr>
              <a:t>Это праздники, которые связаны с крупными событиями в семь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6"/>
          <p:cNvSpPr/>
          <p:nvPr/>
        </p:nvSpPr>
        <p:spPr>
          <a:xfrm>
            <a:off x="312480" y="3429000"/>
            <a:ext cx="237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Дни р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7"/>
          <p:cNvSpPr/>
          <p:nvPr/>
        </p:nvSpPr>
        <p:spPr>
          <a:xfrm>
            <a:off x="3140640" y="5029200"/>
            <a:ext cx="14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Свадь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8"/>
          <p:cNvSpPr/>
          <p:nvPr/>
        </p:nvSpPr>
        <p:spPr>
          <a:xfrm>
            <a:off x="4648320" y="617220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Вечер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Picture 9" descr="j0281870"/>
          <p:cNvPicPr/>
          <p:nvPr/>
        </p:nvPicPr>
        <p:blipFill>
          <a:blip r:embed="rId6"/>
          <a:stretch/>
        </p:blipFill>
        <p:spPr>
          <a:xfrm>
            <a:off x="6629400" y="4800600"/>
            <a:ext cx="1763640" cy="180972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10" descr="j0390774"/>
          <p:cNvPicPr/>
          <p:nvPr/>
        </p:nvPicPr>
        <p:blipFill>
          <a:blip r:embed="rId7"/>
          <a:stretch/>
        </p:blipFill>
        <p:spPr>
          <a:xfrm>
            <a:off x="4800600" y="4267080"/>
            <a:ext cx="1206360" cy="177804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11" descr="j0178108"/>
          <p:cNvPicPr/>
          <p:nvPr/>
        </p:nvPicPr>
        <p:blipFill>
          <a:blip r:embed="rId8"/>
          <a:stretch/>
        </p:blipFill>
        <p:spPr>
          <a:xfrm>
            <a:off x="685800" y="4572000"/>
            <a:ext cx="1676520" cy="1662120"/>
          </a:xfrm>
          <a:prstGeom prst="rect">
            <a:avLst/>
          </a:prstGeom>
          <a:ln w="0">
            <a:noFill/>
          </a:ln>
        </p:spPr>
      </p:pic>
      <p:sp>
        <p:nvSpPr>
          <p:cNvPr id="863" name="Прямоугольник 1"/>
          <p:cNvSpPr/>
          <p:nvPr/>
        </p:nvSpPr>
        <p:spPr>
          <a:xfrm>
            <a:off x="4419720" y="28288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Impact"/>
              </a:rPr>
              <a:t>Крестин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Рисунок 2" descr=""/>
          <p:cNvPicPr/>
          <p:nvPr/>
        </p:nvPicPr>
        <p:blipFill>
          <a:blip r:embed="rId9"/>
          <a:stretch/>
        </p:blipFill>
        <p:spPr>
          <a:xfrm>
            <a:off x="6443640" y="2592360"/>
            <a:ext cx="1981080" cy="1601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10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10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0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65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65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650"/>
                            </p:stCondLst>
                            <p:childTnLst>
                              <p:par>
                                <p:cTn id="1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650"/>
                            </p:stCondLst>
                            <p:childTnLst>
                              <p:par>
                                <p:cTn id="1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1650"/>
                            </p:stCondLst>
                            <p:childTnLst>
                              <p:par>
                                <p:cTn id="1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2650"/>
                            </p:stCondLst>
                            <p:childTnLst>
                              <p:par>
                                <p:cTn id="1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3650"/>
                            </p:stCondLst>
                            <p:childTnLst>
                              <p:par>
                                <p:cTn id="1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/>
          </p:nvPr>
        </p:nvSpPr>
        <p:spPr>
          <a:xfrm>
            <a:off x="380880" y="2204640"/>
            <a:ext cx="498312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Rage Italic"/>
              </a:rPr>
              <a:t>Профессиональные праздники – это праздники, связанные с различными професс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Rage Italic"/>
              </a:rPr>
              <a:t>День учите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(5</a:t>
            </a:r>
            <a:r>
              <a:rPr b="0" lang="ru-RU" sz="2000" spc="-1" strike="noStrike">
                <a:solidFill>
                  <a:srgbClr val="ff0000"/>
                </a:solidFill>
                <a:latin typeface="Rage Italic"/>
              </a:rPr>
              <a:t> октября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День мили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(поли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10 нояб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Rage Italic"/>
              </a:rPr>
              <a:t>День стро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(14</a:t>
            </a:r>
            <a:r>
              <a:rPr b="0" lang="ru-RU" sz="2000" spc="-1" strike="noStrike">
                <a:solidFill>
                  <a:srgbClr val="ff0000"/>
                </a:solidFill>
                <a:latin typeface="Rage Italic"/>
              </a:rPr>
              <a:t> августа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Rage Italic"/>
              </a:rPr>
              <a:t>День медицинского работ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ff0000"/>
                </a:solidFill>
                <a:latin typeface="Rage Italic"/>
              </a:rPr>
              <a:t>третье воскресенье июня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Picture 3" descr="j0336891"/>
          <p:cNvPicPr/>
          <p:nvPr/>
        </p:nvPicPr>
        <p:blipFill>
          <a:blip r:embed="rId2"/>
          <a:stretch/>
        </p:blipFill>
        <p:spPr>
          <a:xfrm>
            <a:off x="5219640" y="1197000"/>
            <a:ext cx="1514520" cy="1440000"/>
          </a:xfrm>
          <a:prstGeom prst="rect">
            <a:avLst/>
          </a:prstGeom>
          <a:ln w="0">
            <a:noFill/>
          </a:ln>
        </p:spPr>
      </p:pic>
      <p:sp>
        <p:nvSpPr>
          <p:cNvPr id="867" name="WordArt 4"/>
          <p:cNvSpPr txBox="1"/>
          <p:nvPr/>
        </p:nvSpPr>
        <p:spPr>
          <a:xfrm>
            <a:off x="539640" y="228600"/>
            <a:ext cx="860436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Профессиональны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868" name="Picture 5" descr="j0283087"/>
          <p:cNvPicPr/>
          <p:nvPr/>
        </p:nvPicPr>
        <p:blipFill>
          <a:blip r:embed="rId5"/>
          <a:stretch/>
        </p:blipFill>
        <p:spPr>
          <a:xfrm>
            <a:off x="3941640" y="2976480"/>
            <a:ext cx="1800360" cy="198144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6" descr="j0343293"/>
          <p:cNvPicPr/>
          <p:nvPr/>
        </p:nvPicPr>
        <p:blipFill>
          <a:blip r:embed="rId6"/>
          <a:stretch/>
        </p:blipFill>
        <p:spPr>
          <a:xfrm>
            <a:off x="5410080" y="4800600"/>
            <a:ext cx="1719360" cy="1800360"/>
          </a:xfrm>
          <a:prstGeom prst="rect">
            <a:avLst/>
          </a:prstGeom>
          <a:ln w="0">
            <a:noFill/>
          </a:ln>
        </p:spPr>
      </p:pic>
      <p:pic>
        <p:nvPicPr>
          <p:cNvPr id="870" name="Рисунок 1" descr=""/>
          <p:cNvPicPr/>
          <p:nvPr/>
        </p:nvPicPr>
        <p:blipFill>
          <a:blip r:embed="rId7"/>
          <a:stretch/>
        </p:blipFill>
        <p:spPr>
          <a:xfrm>
            <a:off x="4549680" y="3411360"/>
            <a:ext cx="44640" cy="35280"/>
          </a:xfrm>
          <a:prstGeom prst="rect">
            <a:avLst/>
          </a:prstGeom>
          <a:ln w="0">
            <a:noFill/>
          </a:ln>
        </p:spPr>
      </p:pic>
      <p:pic>
        <p:nvPicPr>
          <p:cNvPr id="871" name="Рисунок 4" descr=""/>
          <p:cNvPicPr/>
          <p:nvPr/>
        </p:nvPicPr>
        <p:blipFill>
          <a:blip r:embed="rId8"/>
          <a:stretch/>
        </p:blipFill>
        <p:spPr>
          <a:xfrm>
            <a:off x="6800760" y="1895400"/>
            <a:ext cx="1914480" cy="2390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Picture 3" descr="j0336493"/>
          <p:cNvPicPr/>
          <p:nvPr/>
        </p:nvPicPr>
        <p:blipFill>
          <a:blip r:embed="rId1"/>
          <a:stretch/>
        </p:blipFill>
        <p:spPr>
          <a:xfrm>
            <a:off x="468360" y="2492280"/>
            <a:ext cx="1366920" cy="136836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4" descr="j0284140"/>
          <p:cNvPicPr/>
          <p:nvPr/>
        </p:nvPicPr>
        <p:blipFill>
          <a:blip r:embed="rId2"/>
          <a:stretch/>
        </p:blipFill>
        <p:spPr>
          <a:xfrm flipH="1">
            <a:off x="7695720" y="3429000"/>
            <a:ext cx="1143000" cy="1171440"/>
          </a:xfrm>
          <a:prstGeom prst="rect">
            <a:avLst/>
          </a:prstGeom>
          <a:ln w="0">
            <a:noFill/>
          </a:ln>
        </p:spPr>
      </p:pic>
      <p:pic>
        <p:nvPicPr>
          <p:cNvPr id="874" name="Picture 5" descr="j0324616"/>
          <p:cNvPicPr/>
          <p:nvPr/>
        </p:nvPicPr>
        <p:blipFill>
          <a:blip r:embed="rId3"/>
          <a:stretch/>
        </p:blipFill>
        <p:spPr>
          <a:xfrm>
            <a:off x="5843520" y="4513320"/>
            <a:ext cx="1724040" cy="135396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7" descr="AG00310_"/>
          <p:cNvPicPr/>
          <p:nvPr/>
        </p:nvPicPr>
        <p:blipFill>
          <a:blip r:embed="rId4"/>
          <a:stretch/>
        </p:blipFill>
        <p:spPr>
          <a:xfrm>
            <a:off x="304920" y="4648320"/>
            <a:ext cx="1150920" cy="1674720"/>
          </a:xfrm>
          <a:prstGeom prst="rect">
            <a:avLst/>
          </a:prstGeom>
          <a:ln w="0">
            <a:noFill/>
          </a:ln>
        </p:spPr>
      </p:pic>
      <p:sp>
        <p:nvSpPr>
          <p:cNvPr id="876" name="Text Box 8"/>
          <p:cNvSpPr/>
          <p:nvPr/>
        </p:nvSpPr>
        <p:spPr>
          <a:xfrm>
            <a:off x="4447440" y="2514600"/>
            <a:ext cx="24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Franklin Gothic Medium"/>
              </a:rPr>
              <a:t>Новый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9"/>
          <p:cNvSpPr/>
          <p:nvPr/>
        </p:nvSpPr>
        <p:spPr>
          <a:xfrm>
            <a:off x="2895480" y="3657600"/>
            <a:ext cx="448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Franklin Gothic Medium"/>
              </a:rPr>
              <a:t>День защитника Оте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10"/>
          <p:cNvSpPr/>
          <p:nvPr/>
        </p:nvSpPr>
        <p:spPr>
          <a:xfrm>
            <a:off x="28080" y="6256440"/>
            <a:ext cx="49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Franklin Gothic Medium"/>
              </a:rPr>
              <a:t>Международный женский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11"/>
          <p:cNvSpPr/>
          <p:nvPr/>
        </p:nvSpPr>
        <p:spPr>
          <a:xfrm>
            <a:off x="7308720" y="5805360"/>
            <a:ext cx="157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Franklin Gothic Medium"/>
              </a:rPr>
              <a:t>День </a:t>
            </a:r>
            <a:r>
              <a:rPr b="0" lang="ru-RU" sz="2400" spc="-1" strike="noStrike">
                <a:solidFill>
                  <a:srgbClr val="99cc00"/>
                </a:solidFill>
                <a:latin typeface="Franklin Gothic Medium"/>
              </a:rPr>
              <a:t> </a:t>
            </a:r>
            <a:r>
              <a:rPr b="0" lang="ru-RU" sz="2400" spc="-1" strike="noStrike">
                <a:solidFill>
                  <a:srgbClr val="ff6600"/>
                </a:solidFill>
                <a:latin typeface="Franklin Gothic Medium"/>
              </a:rPr>
              <a:t>Поб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AutoShape 12">
            <a:hlinkClick r:id="rId5" action="ppaction://hlinksldjump"/>
          </p:cNvPr>
          <p:cNvSpPr/>
          <p:nvPr/>
        </p:nvSpPr>
        <p:spPr>
          <a:xfrm>
            <a:off x="3962520" y="26668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AutoShape 16">
            <a:hlinkClick r:id="rId6" action="ppaction://hlinksldjump"/>
          </p:cNvPr>
          <p:cNvSpPr/>
          <p:nvPr/>
        </p:nvSpPr>
        <p:spPr>
          <a:xfrm rot="10800000">
            <a:off x="8381880" y="594324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AutoShape 17">
            <a:hlinkClick r:id="rId7" action="ppaction://hlinksldjump"/>
          </p:cNvPr>
          <p:cNvSpPr/>
          <p:nvPr/>
        </p:nvSpPr>
        <p:spPr>
          <a:xfrm rot="10800000">
            <a:off x="7619760" y="380952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AutoShape 18">
            <a:hlinkClick r:id="rId8" action="ppaction://hlinksldjump"/>
          </p:cNvPr>
          <p:cNvSpPr/>
          <p:nvPr/>
        </p:nvSpPr>
        <p:spPr>
          <a:xfrm rot="10800000">
            <a:off x="4800240" y="640044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Picture 19" descr="Order_Of_The_Patriotic_War_%282st_Class%29"/>
          <p:cNvPicPr/>
          <p:nvPr/>
        </p:nvPicPr>
        <p:blipFill>
          <a:blip r:embed="rId9"/>
          <a:stretch/>
        </p:blipFill>
        <p:spPr>
          <a:xfrm>
            <a:off x="4361040" y="4240080"/>
            <a:ext cx="1552320" cy="1809720"/>
          </a:xfrm>
          <a:prstGeom prst="rect">
            <a:avLst/>
          </a:prstGeom>
          <a:ln w="0">
            <a:noFill/>
          </a:ln>
        </p:spPr>
      </p:pic>
      <p:sp>
        <p:nvSpPr>
          <p:cNvPr id="885" name="WordArt 20"/>
          <p:cNvSpPr txBox="1"/>
          <p:nvPr/>
        </p:nvSpPr>
        <p:spPr>
          <a:xfrm>
            <a:off x="1219320" y="304920"/>
            <a:ext cx="6619680" cy="16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сенародные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государственные)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028600"/>
            <a:ext cx="8229600" cy="3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Это праздники, связанные с важнейшими историческими событ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3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59 -0.00509 L 0.75208 -0.01574 E">
                                      <p:cBhvr>
                                        <p:cTn id="284" dur="3000" fill="hold"/>
                                        <p:tgtEl>
                                          <p:spTgt spid="8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-0.67917 0.00347 E">
                                      <p:cBhvr>
                                        <p:cTn id="311" dur="2000" fill="hold"/>
                                        <p:tgtEl>
                                          <p:spTgt spid="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698 0.03264 L -0.56892 0.02986 E">
                                      <p:cBhvr>
                                        <p:cTn id="333" dur="2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4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3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WordArt 2"/>
          <p:cNvSpPr txBox="1"/>
          <p:nvPr/>
        </p:nvSpPr>
        <p:spPr>
          <a:xfrm>
            <a:off x="900000" y="333360"/>
            <a:ext cx="7488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овый го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88" name="Text Box 3"/>
          <p:cNvSpPr/>
          <p:nvPr/>
        </p:nvSpPr>
        <p:spPr>
          <a:xfrm>
            <a:off x="158760" y="207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4"/>
          <p:cNvSpPr/>
          <p:nvPr/>
        </p:nvSpPr>
        <p:spPr>
          <a:xfrm>
            <a:off x="-336960" y="2003400"/>
            <a:ext cx="9913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Impact"/>
              </a:rPr>
              <a:t>Этот праздник – один из самых любимых, весёлых, волшеб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Impact"/>
              </a:rPr>
              <a:t>     </a:t>
            </a:r>
            <a:r>
              <a:rPr b="0" lang="ru-RU" sz="1800" spc="-1" strike="noStrike">
                <a:solidFill>
                  <a:srgbClr val="009999"/>
                </a:solidFill>
                <a:latin typeface="Impact"/>
              </a:rPr>
              <a:t>Древние славяне праздновали Новый год 1 марта – начало полевых раб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Impact"/>
              </a:rPr>
              <a:t>Позднее стали отмечать Новый год 1 сентября: ровно в полночь палили из пуш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Impact"/>
              </a:rPr>
              <a:t>на стене Московского Кремля, следом подавал свой голос самый большой колок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Impact"/>
              </a:rPr>
              <a:t>Колокольни Ивана Вели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Impact"/>
              </a:rPr>
              <a:t>     </a:t>
            </a:r>
            <a:r>
              <a:rPr b="0" lang="ru-RU" sz="1800" spc="-1" strike="noStrike">
                <a:solidFill>
                  <a:srgbClr val="009999"/>
                </a:solidFill>
                <a:latin typeface="Impact"/>
              </a:rPr>
              <a:t>В России встречать Новый год 1 января стали при </a:t>
            </a:r>
            <a:r>
              <a:rPr b="0" lang="ru-RU" sz="1800" spc="-1" strike="noStrike">
                <a:solidFill>
                  <a:srgbClr val="cc3300"/>
                </a:solidFill>
                <a:latin typeface="Impact"/>
              </a:rPr>
              <a:t>Петре </a:t>
            </a:r>
            <a:r>
              <a:rPr b="0" lang="en-US" sz="1800" spc="-1" strike="noStrike">
                <a:solidFill>
                  <a:srgbClr val="cc3300"/>
                </a:solidFill>
                <a:latin typeface="Impact"/>
              </a:rPr>
              <a:t>I</a:t>
            </a:r>
            <a:r>
              <a:rPr b="0" lang="ru-RU" sz="1800" spc="-1" strike="noStrike">
                <a:solidFill>
                  <a:srgbClr val="009999"/>
                </a:solidFill>
                <a:latin typeface="Impact"/>
              </a:rPr>
              <a:t>. Впервые это произош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Impact"/>
              </a:rPr>
              <a:t>1 января 1700 года</a:t>
            </a:r>
            <a:r>
              <a:rPr b="0" lang="ru-RU" sz="1800" spc="-1" strike="noStrike">
                <a:solidFill>
                  <a:srgbClr val="009999"/>
                </a:solidFill>
                <a:latin typeface="Impact"/>
              </a:rPr>
              <a:t>.</a:t>
            </a:r>
            <a:r>
              <a:rPr b="0" lang="ru-RU" sz="1800" spc="-1" strike="noStrike">
                <a:solidFill>
                  <a:srgbClr val="0066ff"/>
                </a:solidFill>
                <a:latin typeface="Impac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Picture 5" descr="j0219099"/>
          <p:cNvPicPr/>
          <p:nvPr/>
        </p:nvPicPr>
        <p:blipFill>
          <a:blip r:embed="rId2"/>
          <a:stretch/>
        </p:blipFill>
        <p:spPr>
          <a:xfrm>
            <a:off x="2340000" y="3860640"/>
            <a:ext cx="1190520" cy="962280"/>
          </a:xfrm>
          <a:prstGeom prst="rect">
            <a:avLst/>
          </a:prstGeom>
          <a:ln w="0">
            <a:noFill/>
          </a:ln>
        </p:spPr>
      </p:pic>
      <p:sp>
        <p:nvSpPr>
          <p:cNvPr id="891" name="Text Box 6"/>
          <p:cNvSpPr/>
          <p:nvPr/>
        </p:nvSpPr>
        <p:spPr>
          <a:xfrm>
            <a:off x="-152640" y="4869000"/>
            <a:ext cx="91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Impact"/>
              </a:rPr>
              <a:t>Наш обычай зажигать на Новый год ёлочные огни пришёл из далёких времё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Impact"/>
              </a:rPr>
              <a:t>И родился он  не у нас в России, а у древних обитателей Англии и Герм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Picture 7" descr="j0318080"/>
          <p:cNvPicPr/>
          <p:nvPr/>
        </p:nvPicPr>
        <p:blipFill>
          <a:blip r:embed="rId3"/>
          <a:stretch/>
        </p:blipFill>
        <p:spPr>
          <a:xfrm>
            <a:off x="6877080" y="5013360"/>
            <a:ext cx="1798560" cy="151128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8" descr="j0318081"/>
          <p:cNvPicPr/>
          <p:nvPr/>
        </p:nvPicPr>
        <p:blipFill>
          <a:blip r:embed="rId4"/>
          <a:stretch/>
        </p:blipFill>
        <p:spPr>
          <a:xfrm>
            <a:off x="1547640" y="515772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8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8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4800"/>
                            </p:stCondLst>
                            <p:childTnLst>
                              <p:par>
                                <p:cTn id="3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6800"/>
                            </p:stCondLst>
                            <p:childTnLst>
                              <p:par>
                                <p:cTn id="3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8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8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21560"/>
                            </p:stCondLst>
                            <p:childTnLst>
                              <p:par>
                                <p:cTn id="40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4560"/>
                            </p:stCondLst>
                            <p:childTnLst>
                              <p:par>
                                <p:cTn id="4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548640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b050"/>
                </a:solidFill>
                <a:latin typeface="Arial Black"/>
              </a:rPr>
              <a:t>УРАААААААА!</a:t>
            </a:r>
            <a:br>
              <a:rPr sz="4400"/>
            </a:br>
            <a:r>
              <a:rPr b="0" lang="ru-RU" sz="4400" spc="-1" strike="noStrike">
                <a:solidFill>
                  <a:srgbClr val="00b050"/>
                </a:solidFill>
                <a:latin typeface="Arial Black"/>
              </a:rPr>
              <a:t>УРАААААААА!</a:t>
            </a:r>
            <a:br>
              <a:rPr sz="4400"/>
            </a:br>
            <a:r>
              <a:rPr b="0" lang="ru-RU" sz="4400" spc="-1" strike="noStrike">
                <a:solidFill>
                  <a:srgbClr val="00b050"/>
                </a:solidFill>
                <a:latin typeface="Arial Black"/>
              </a:rPr>
              <a:t>УРАААААААА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ера Томашкова</cp:lastModifiedBy>
  <dcterms:modified xsi:type="dcterms:W3CDTF">2019-10-08T09:34:54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