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8EC-1428-4A5A-A00C-21E9AF7C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987-17C0-42EA-B943-7BBC845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60C-FD28-488D-9D00-3478A01E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AA-C0EF-4401-AF15-AFF24C42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E42-A890-4262-96A6-D3C807E9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35E-D013-467E-A7C5-358A6366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F7A-0E94-404E-8F89-CCE484C8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08B-A960-47BD-BD46-5AE7EEB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ADB-996F-4356-8CE7-EE3CA012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4EC-B3EE-4F24-85BD-395A329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421-D48D-42F3-AEED-F87FA84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59B-9907-415D-907B-AD9BC37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2A0-6E1F-4E0E-8F0C-D79043D1C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1785600"/>
            <a:ext cx="6572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«УЧУСЬ     УЧИТЬСЯ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5880" y="12859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ТЕМА РОДИЕЛЬСКОГО СОБРАНИЯ </a:t>
            </a: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0.liveinternet.ru/images/attach/c/2/72/907/72907857_1301651079_73a3011c6449d3b7a61cea4c2b342b4a.jp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7168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учите ребенка общаться с окружающим ми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26C3-3574-4179-9281-D8575A21A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valckiry.ucoz.ru/_pu/0/96899286.jpg"/>
          <p:cNvPicPr/>
          <p:nvPr/>
        </p:nvPicPr>
        <p:blipFill>
          <a:blip r:embed="rId1"/>
          <a:stretch/>
        </p:blipFill>
        <p:spPr>
          <a:xfrm>
            <a:off x="0" y="-47520"/>
            <a:ext cx="10358280" cy="6905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50920" y="0"/>
            <a:ext cx="9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учите ребенка распознавать добро и зло, истинные намерения люд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9BE3-22B0-4C53-9B86-61E3DD972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luchshiye.com/images/kolobok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учите ребенка самостоятельно с честью и достоинством, без ущерба для жизни, выходить их сложных жизненных ситуа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720-0CA9-412E-A4D1-5941FDB60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№ 1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Calibri"/>
              </a:rPr>
              <a:t>главное положительное качество школьных вещей - ограниченность их возможност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№ 2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5400" spc="-1" strike="noStrike">
                <a:solidFill>
                  <a:srgbClr val="0066ff"/>
                </a:solidFill>
                <a:latin typeface="Calibri"/>
              </a:rPr>
              <a:t>В портфель не стоит класть сотовый телеф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№ 3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Calibri"/>
              </a:rPr>
              <a:t>А вот о чем не следует забывать, так это о небольшом рулончике туалетной бумаг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№ 5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Calibri"/>
              </a:rPr>
              <a:t>Игрушкам без разрешения взрослых в портфеле делать неч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6840" y="642600"/>
            <a:ext cx="62629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ка для родител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1714320"/>
            <a:ext cx="65516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) Условия успешности обучения в школе: здоровье, кругозор, психологическая готовность, адекватная самооценка, познавательный мотив, желание уч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2) Предпосылки сформированности учебной деятельности: ориентация на систему правил в работе, умение слушать, выполнять инструкцию взрослого, умение работать по образцу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565000"/>
            <a:ext cx="63342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3) Положительную мотивацию вашему ребёнку создадут: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ваше спокойное и радостное отношение к школе, отсутстиве завышенных требований к успехам ребёнка, оптимистичные рассказы о школе, отсутствие страха ребёнка перед возможной ошибкой, развитый познавательный интерес к окружающему мир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https://anonsiki.ru/wp-content/uploads/2019/08/tmp_19665-1.jpg"/>
          <p:cNvPicPr/>
          <p:nvPr/>
        </p:nvPicPr>
        <p:blipFill>
          <a:blip r:embed="rId1"/>
          <a:stretch/>
        </p:blipFill>
        <p:spPr>
          <a:xfrm>
            <a:off x="0" y="0"/>
            <a:ext cx="9429840" cy="942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Calibri"/>
              </a:rPr>
              <a:t>К окончанию начальной школы ребёнок должен хотеть и уметь учиться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Берегите своих детей, заботьтесь о них, учите их жить в этом сложном мире! </a:t>
            </a:r>
            <a:br>
              <a:rPr sz="4000"/>
            </a:br>
            <a:r>
              <a:rPr b="1" lang="ru-RU" sz="4000" spc="-1" strike="noStrike">
                <a:solidFill>
                  <a:srgbClr val="00cc00"/>
                </a:solidFill>
                <a:latin typeface="Calibri"/>
              </a:rPr>
              <a:t>Желаем Вам всего доброг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Лучший способ сделать детей хорошими — это сделать их счастливыми»</a:t>
            </a:r>
            <a:br>
              <a:rPr sz="6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кар Уайль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ети все разные.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зличны их способности, возможности и личностные качества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Calibri"/>
              </a:rPr>
              <a:t>Помощь детям должна идти в трех направлениях</a:t>
            </a:r>
            <a:r>
              <a:rPr b="0" lang="ru-RU" sz="4000" spc="-1" strike="noStrike">
                <a:solidFill>
                  <a:srgbClr val="0066ff"/>
                </a:solidFill>
                <a:latin typeface="Calibri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3640" y="2133720"/>
            <a:ext cx="6840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рганизация режим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ня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98989"/>
                </a:solidFill>
                <a:latin typeface="Calibri"/>
              </a:rPr>
              <a:t>•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приучение детей к самостоятельности</a:t>
            </a: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epositphotos_3902710-stock-illustration-maple-and-oak-leaves-fr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6407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Calibri"/>
              </a:rPr>
              <a:t>Организация режима дня позволяет ребенк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3771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егче справиться с учебной нагрузкой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•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защищает нервную систему от переутомления, т.е. укрепляет здоровь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3080" y="198360"/>
            <a:ext cx="50007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festival.1september.ru/articles/621867/presentation/03.jpg"/>
          <p:cNvPicPr/>
          <p:nvPr/>
        </p:nvPicPr>
        <p:blipFill>
          <a:blip r:embed="rId1"/>
          <a:stretch/>
        </p:blipFill>
        <p:spPr>
          <a:xfrm>
            <a:off x="-166680" y="0"/>
            <a:ext cx="9310680" cy="6983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0" y="35712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одившийся ребенок в семье должен быть всегда желанны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303-66AB-475B-84AA-6C1125DAA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yahooeu.ru/uploads/posts/2011-11/1321348026_kolobok-0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2357280" y="28584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е оставляйте маленьких детей без присмот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5791-1E35-44BB-B96C-615D193ED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1:14:31Z</dcterms:created>
  <dc:creator>Пользователь</dc:creator>
  <dc:description/>
  <dc:language>en-US</dc:language>
  <cp:lastModifiedBy>Пользователь Windows</cp:lastModifiedBy>
  <dcterms:modified xsi:type="dcterms:W3CDTF">2019-10-08T12:00:04Z</dcterms:modified>
  <cp:revision>15</cp:revision>
  <dc:subject/>
  <dc:title>Презентация PowerPoint</dc:title>
</cp:coreProperties>
</file>