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E216-9B5F-44B4-B929-C941BBB0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EF38-EBE7-4E22-B9F0-6B46A899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A2D6-107C-497F-9F92-F99BBE4E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D5EC-7678-4635-966A-0B60553A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92E4-0998-4795-AEE7-BC0FB461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8FCE-484F-49FD-A348-1BC02089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4C57-A61B-40D6-9468-8836F70B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4834-B2A9-45AA-9C94-725B24F4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D136-2F30-44AD-8AC7-3A20B9D3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E1AB-FE78-40D5-B466-FF840801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3045-F624-4D5B-8EBB-757C85AD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251C-C324-430C-BCB1-D54C531B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601D-EF89-48D5-898C-9E686F54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0E5C-4398-4BD2-AB9A-438F829E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2609-8C06-491D-9643-12D38B6F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A74A-0AEF-4BEB-976D-C2AC049C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505F-E67E-4D58-BFEE-9CBC19AB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5A66-A642-476D-B147-36CBD386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F6F-E1CB-4B67-9CF1-4D33DF33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218-54CB-4F42-B7D0-2995C530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530F-8150-4B77-95D0-04E33892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966-412A-456C-8408-BBB2EF0B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3B1E-03AB-44AA-8CDE-9CC97C82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947F-A91F-4939-992B-366436DA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BB0F-1A78-4511-8717-174EBD3F63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F38C-2DA3-43A3-BC41-337FB0DD78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52056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3" name="WordArt 6"/>
          <p:cNvSpPr txBox="1"/>
          <p:nvPr/>
        </p:nvSpPr>
        <p:spPr>
          <a:xfrm rot="21387600">
            <a:off x="250920" y="620280"/>
            <a:ext cx="78865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Особенности общения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4" name="WordArt 7"/>
          <p:cNvSpPr txBox="1"/>
          <p:nvPr/>
        </p:nvSpPr>
        <p:spPr>
          <a:xfrm rot="21251400">
            <a:off x="-38160" y="2997360"/>
            <a:ext cx="91821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с детьми разного возраста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c6600"/>
                </a:solidFill>
                <a:latin typeface="Arial"/>
              </a:rPr>
              <a:t>Главным </a:t>
            </a: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новообразованием</a:t>
            </a:r>
            <a:r>
              <a:rPr b="1" i="1" lang="ru-RU" sz="4400" spc="-1" strike="noStrike">
                <a:solidFill>
                  <a:srgbClr val="cc6600"/>
                </a:solidFill>
                <a:latin typeface="Arial"/>
              </a:rPr>
              <a:t> ранней юности является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товность (способность) к личностному и жизненному самоопреде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Функции общения в юности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важный «канал информации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 деятельности, которая оказывает значительное влияние на развитие лич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 эмоционального контакта, который способствует развитию эмоциональной сферы и формированию самоуважения, которое так важно в этом возрас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51076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Основным принципом общения и психической жизни в целом в юношеском возрасте является выраженный поиск путей к миру через нахождение пути к самому себе.</a:t>
            </a:r>
            <a:br>
              <a:rPr sz="4400"/>
            </a:b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6021360"/>
            <a:ext cx="8540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6"/>
          <p:cNvSpPr txBox="1"/>
          <p:nvPr/>
        </p:nvSpPr>
        <p:spPr>
          <a:xfrm>
            <a:off x="250920" y="260280"/>
            <a:ext cx="8420040" cy="19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latin typeface="Arial"/>
              </a:rPr>
              <a:t>Спасибо за внимание!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latin typeface="Arial"/>
              <a:ea typeface="Arial"/>
            </a:endParaRPr>
          </a:p>
        </p:txBody>
      </p:sp>
      <p:sp>
        <p:nvSpPr>
          <p:cNvPr id="108" name="WordArt 7"/>
          <p:cNvSpPr txBox="1"/>
          <p:nvPr/>
        </p:nvSpPr>
        <p:spPr>
          <a:xfrm>
            <a:off x="0" y="2781360"/>
            <a:ext cx="9048600" cy="160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latin typeface="Arial"/>
              </a:rPr>
              <a:t>Успехов в общении с детьми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39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6600"/>
                </a:solidFill>
                <a:latin typeface="Arial"/>
              </a:rPr>
              <a:t>Средний школьный возраст (подросток 11-14 лет)</a:t>
            </a:r>
            <a:endParaRPr b="0" lang="en-US" sz="6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5516280"/>
            <a:ext cx="854064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Переходный возраст включает в себя два ряда процессов:</a:t>
            </a: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тураль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процессы биологического созревания организма, включая половое созревани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циаль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процессы общения, воспитания, социализации в широком смысле сло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319680"/>
            <a:ext cx="8510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избежным, естественным и нормальным является появление у подростков полового влечения и соответствующих мыслей, чувств, переживаний, специального интереса к противоположному полу. Это одно из важ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сихических новообразований 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Отрочество -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196640"/>
            <a:ext cx="854064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ломки старых, отживших форм, разрушение специфически детских образований, которые могут тормозить полноценное развитие в дальнейш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являемое в этот период противопоставление себя взрослым, активное завоевание новой позиции являются продуктивными для формирования самостоятель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ичност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7236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требность в общении со сверстниками становится одной из центральных потребностей подрост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рочество является сензитивным периодом для развития средств общен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Новообразования этого периода: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тральное личностное новообразование– становление нового уровня самосознания, Я – концепц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амосознание как процесс познания себя, Я – концепция или «образ Я» как результат, продукт этого познани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школьников этого возраста возникает критичность сознания, они видят    недостатки в поведении, в деятельности взрослых, особенно пристрастно относятся  к родным и учител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-3564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сихическое новообразование- интерес к противоположному по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тие произвольности всех психических проце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6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6600"/>
                </a:solidFill>
                <a:latin typeface="Arial"/>
              </a:rPr>
              <a:t>Старший школьный возраст - ранняя юность (15-17 лет)</a:t>
            </a:r>
            <a:endParaRPr b="0" lang="en-US" sz="6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5950080"/>
            <a:ext cx="8540640" cy="1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4:04:54Z</dcterms:created>
  <dc:creator>Admin</dc:creator>
  <dc:description/>
  <dc:language>en-US</dc:language>
  <cp:lastModifiedBy>Админ</cp:lastModifiedBy>
  <dcterms:modified xsi:type="dcterms:W3CDTF">2018-12-11T16:10:59Z</dcterms:modified>
  <cp:revision>6</cp:revision>
  <dc:subject/>
  <dc:title>Младший школьник</dc:title>
</cp:coreProperties>
</file>