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F609-A6EF-4B77-A470-121B4CF54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9876-5A6C-425F-8D73-05F23DAC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73C8-E099-4F4F-AE87-238F359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FE26-9469-4745-87AC-EC3D045AE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6A48-A0B7-482D-85D6-7959E52B3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1DC4-E8E2-44C7-B962-BBBBA50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6039F-3A3D-4CE7-A5C5-F1935A9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E5FBB-91A1-40C5-AC50-E736C7CB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D06DE-33F4-4330-96FC-29E7E41E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B465-C9E6-49D3-830B-2A803B82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63B88-AAC2-46E3-BD63-BA820A3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B827-555D-4EBE-B683-BB16BED1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AF448-C978-4C6C-B3F8-9CE2441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3B35C-5413-4773-ADC2-F0531A27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72C6-2E77-4BF8-83CD-F73DCE7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68E0-C002-4C62-BF5E-5CFAB72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3C7FC-B03B-4378-AF02-1375C3CF8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192-7CFF-41A0-8DC2-80A366F13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B134-CD9E-4538-868A-FD678F9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98F-1648-4195-93C2-3EB3579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6AE-8DFA-4444-9A63-401EB246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B944-43B5-4E5F-81C7-61BC5F5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547D-E5B4-4C66-A918-29AAB784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EAB-B844-4ED3-BF2E-33667595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0829-FA89-4A00-80EA-3A521F44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848-E5C2-4AD2-83BF-F40D977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B132-CBBE-4C03-8724-5C7ACDD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81B-EA57-4660-B700-B9E2B24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B22-8DF6-4AEB-9789-64D9831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D478-F4B0-4639-9DD1-1D1C568C1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DBEFA-4B5E-4A22-B1E5-3E55CED28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BB9A1-A3C4-4B9D-99D8-D9A55CF7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6CFD2-F822-47DD-93B3-2E13E20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0FB1-851E-4B00-A357-26589798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2DA3B-BDA9-49C4-9872-A25002A4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4A127-CCE9-4AE9-8945-AB8DBC2A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59161-F8CA-49D1-8D74-413C985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CD608-9057-4EAF-BE5E-F1F58B3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0AA8C-482C-4689-A4A1-2628BA0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BC70F-AC1D-4143-9DC0-AF52863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347BF-7DC0-4B18-8967-E6E12128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D9906-86A5-4FC8-BF96-807450B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9E606-899F-44C4-BA58-61A1B625A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D43DF-2FD5-4DE4-9A82-E7041FA8D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663F-70D7-4D38-A3BE-38CE7E9F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A8FB3-82F1-4C4C-8045-E2B0333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2C53F-6301-42B3-82A3-31C97A15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C4801-2B65-45A0-B616-BFBE861C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269AC-92E4-4F26-B314-7B0223DF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4C940-6CBA-4454-972F-39D1ECEE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07C7F-B3A7-4743-9D7B-9326E61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804E4-B253-4D58-9567-D31551E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68195-84A2-46F5-8C59-BCBF610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0634B-B300-44F7-A1BF-7902155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62844-CFF1-44BB-9180-B1CE433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19E0-9D4B-44EF-A63B-0942C8F5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36597-CF8D-4017-851D-88163DE06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E3D4-1036-46E0-8472-CC9964EFD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F354-A901-4FFE-B8DB-93EA93C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11E6-4975-4C1E-BFF6-C109146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D22E-001D-4EA2-8D16-66FCBB9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5713-22EA-41A7-B11C-7FA1FEE8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065E-27D5-412C-9AD6-A82864C1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A659-67BB-40F7-B958-E3C8E1B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B998-3932-4E99-9B8E-1C16CE7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3F60-F1F0-4B48-BD05-239DE0F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7FE6-A306-4FB1-A172-522DF4D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5BC8-43AB-425F-AAD6-41878983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E2E6-293E-4920-93AD-89D209B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6598-C860-4101-89D4-492FC62A5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2E8CA-0831-41B1-8423-5B9008D91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0D054-7B42-47D9-B606-1753552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776D5-5E8B-44A3-8AA0-2F6F917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ACF51-B6F8-4A30-980D-267D6171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185BA-08F9-4754-8AB0-894DF7E8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B0F90-AC0C-472F-BE96-8A1E8CA7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E4BAC-A4D8-4FAA-BC54-12148BD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1B0B-4157-4751-A80C-7C162B7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F817B-E518-44E3-94CA-3D06A48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289A1-05EB-4057-84A8-D9FCF3B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87413-DE03-4CDA-B7C9-AFE49E8B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6EBE0-7001-44DD-8575-1DFD4F9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BD194-9482-4F7E-AF23-BC60539CC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55D0-D80A-4EE4-AC94-875366DC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331A-44C0-4301-8C67-99E3F29F7E8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21F2834-863D-4A2B-B544-99E634D4EC9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BC99AD-F936-4CB7-AC1E-CF04E6954ED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A150E7-A202-4EF5-B6EB-67D628806C9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876C027-364E-4A03-8E77-EFC22AA8C88A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C9FAE7-221A-46F6-B20B-A3082F7A88EC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B2ED5E-BFE8-47CA-8954-78203EF543BE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68360" y="1152360"/>
            <a:ext cx="4071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  <a:ea typeface="DejaVu Sans"/>
              </a:rPr>
              <a:t>«Организация эффективной методической  работы  на уровне школьного методического объедин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00120" y="428760"/>
            <a:ext cx="685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03640" y="4653000"/>
            <a:ext cx="633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Century"/>
                <a:ea typeface="DejaVu Sans"/>
              </a:rPr>
              <a:t>Учитель начальных классов МБОУ «Пеcтречинская средняя общебразовательная школа №2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Century"/>
                <a:ea typeface="DejaVu Sans"/>
              </a:rPr>
              <a:t>Тимофе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5483160" y="1798560"/>
            <a:ext cx="2725920" cy="27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57200" y="122400"/>
            <a:ext cx="7389720" cy="129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  <a:ea typeface="DejaVu Sans"/>
              </a:rPr>
              <a:t>Формы организации и проведения заседаний ШМО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2720" y="2843280"/>
            <a:ext cx="1438560" cy="14382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7960" y="1719360"/>
            <a:ext cx="1648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Теоретический семин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75000" y="3044880"/>
            <a:ext cx="1438560" cy="14382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91040" y="2557440"/>
            <a:ext cx="1557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Семинар-практик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78320" y="3502080"/>
            <a:ext cx="1438200" cy="14382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40440" y="3792600"/>
            <a:ext cx="15271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Диску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86360" y="3868560"/>
            <a:ext cx="1438200" cy="143856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81640" y="5183280"/>
            <a:ext cx="164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руглы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19440" y="3868560"/>
            <a:ext cx="1438200" cy="143856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14640" y="5183280"/>
            <a:ext cx="164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27480" y="3502080"/>
            <a:ext cx="1438200" cy="14382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74640" y="3792600"/>
            <a:ext cx="15274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Делов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30440" y="3044880"/>
            <a:ext cx="1438560" cy="14382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3800" y="2557440"/>
            <a:ext cx="1557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Мастер-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85920" y="28584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Теоретические семинар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79640" y="752400"/>
            <a:ext cx="71373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Это форма занятий является необходимой для ознакомления педагогов с новейшими достижениями педагогической науки и передового педагогического опыта. Она требует, в первую очередь, доступно освещать в сообщениях, докладах актуальные вопросы педагогического процесса, раскрывать содержание новых технологий, методов, приемов воспитания. 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4381560" cy="24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Семинары-практикумы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9920" y="647640"/>
            <a:ext cx="74977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Семинары-практикумы требуют серьезной подготовки, т. к. на них знакомят с результатами собственной поисковой, исследовательской работы, проводившейся под руководством специалистов-ученых и апробировавшейся в течение нескольких месяце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В центре внимания присутствующих на таких семинарах находятся не только теоретические вопросы, но и практические умения и навыки, что особенно важно и ценно для роста профессионального мастерства педагог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сле посещения практической части очень важно умело организовать обсуждение, дискуссию, на которых каждый может высказать свое мнение, свои соображения, дать оценку практикуму. 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«Деловые» игр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34960" y="1447920"/>
            <a:ext cx="749484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rbel"/>
                <a:ea typeface="Microsoft YaHei"/>
              </a:rPr>
              <a:t>Мастерская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Выбирается пробл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 u="sng">
                <a:solidFill>
                  <a:srgbClr val="0070c0"/>
                </a:solidFill>
                <a:uFillTx/>
                <a:latin typeface="Corbel"/>
                <a:ea typeface="Microsoft YaHei"/>
              </a:rPr>
              <a:t>Первый этап</a:t>
            </a:r>
            <a:r>
              <a:rPr b="0" lang="ru-RU" sz="1900" spc="-1" strike="noStrike" u="sng">
                <a:solidFill>
                  <a:srgbClr val="ff0000"/>
                </a:solidFill>
                <a:uFillTx/>
                <a:latin typeface="Corbel"/>
                <a:ea typeface="Microsoft YaHei"/>
              </a:rPr>
              <a:t>.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  <a:ea typeface="Microsoft YaHei"/>
              </a:rPr>
              <a:t> Критика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 Каждому из участников дается по 2 небольших листа бумаги, на которых предлагается в течение 5-10 мин  зафиксировать положительные («+») и отрицательные («-») аспекты обсуждаемой проблемы (на один лист записываются все «+», на др.- все «-»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 u="sng">
                <a:solidFill>
                  <a:srgbClr val="0070c0"/>
                </a:solidFill>
                <a:uFillTx/>
                <a:latin typeface="Corbel"/>
                <a:ea typeface="Microsoft YaHei"/>
              </a:rPr>
              <a:t>Второй этап.</a:t>
            </a:r>
            <a:r>
              <a:rPr b="1" lang="ru-RU" sz="1500" spc="-1" strike="noStrike">
                <a:solidFill>
                  <a:srgbClr val="0070c0"/>
                </a:solidFill>
                <a:latin typeface="Corbel"/>
                <a:ea typeface="Microsoft YaHei"/>
              </a:rPr>
              <a:t> 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  <a:ea typeface="Microsoft YaHei"/>
              </a:rPr>
              <a:t>Конструирование идеальной модели.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Участникам предлагается создать несколько творческих групп численностью 5-7 человек и в течение 20-30 мин разработать (сконструировать) идеальную модель обсуждаемой проблемы. Например, идеальную модель воспитания будущего ребенка или идеальную модель жизнедеятельности класса и т.д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Для оформления разрабатываемой модели у каждой из творческих групп должны быть листы бумаги большого формата и маркеры. 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После того, как проекты идеальных моделей подготовлены, каждая из групп публично представляет и защищает свою модель.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 u="sng">
                <a:solidFill>
                  <a:srgbClr val="0070c0"/>
                </a:solidFill>
                <a:uFillTx/>
                <a:latin typeface="Corbel"/>
                <a:ea typeface="Microsoft YaHei"/>
              </a:rPr>
              <a:t>Третий этап.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  <a:ea typeface="Microsoft YaHei"/>
              </a:rPr>
              <a:t> Реальные действия.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Тем же творческим группам (прежний состав) предлагается в течение 10-15 мин определить конкретные действия в решении обсуждаемой проблемы, которые можно сделать уже сегодня. Например,можно попробовать воспитать себ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 u="sng">
                <a:solidFill>
                  <a:srgbClr val="0070c0"/>
                </a:solidFill>
                <a:uFillTx/>
                <a:latin typeface="Corbel"/>
                <a:ea typeface="Microsoft YaHei"/>
              </a:rPr>
              <a:t>Четвертый этап.</a:t>
            </a:r>
            <a:r>
              <a:rPr b="1" lang="ru-RU" sz="1500" spc="-1" strike="noStrike">
                <a:solidFill>
                  <a:srgbClr val="0070c0"/>
                </a:solidFill>
                <a:latin typeface="Corbel"/>
                <a:ea typeface="Microsoft YaHei"/>
              </a:rPr>
              <a:t> </a:t>
            </a:r>
            <a:r>
              <a:rPr b="0" lang="ru-RU" sz="1900" spc="-1" strike="noStrike">
                <a:solidFill>
                  <a:srgbClr val="ff0000"/>
                </a:solidFill>
                <a:latin typeface="Corbel"/>
                <a:ea typeface="Microsoft YaHei"/>
              </a:rPr>
              <a:t>Рефлексивный.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В «рефлексивном кругу», каждому из участников дается возможност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зафиксировать свое состояние постижения обсуждаемой проблем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  <a:ea typeface="Microsoft YaHei"/>
              </a:rPr>
              <a:t>дать самооценку результативности состоявшегося педагогического взаимодействия для своего разви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Урок-панорам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Урок демонстрации приемов и методов, применяемых в обучении учителями-предметниками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714840" y="3571920"/>
            <a:ext cx="43815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357200" y="4287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 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Научно-практические конференции и педагогические чте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28840" y="114300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Данные формы являются своеобразным подведением итогов работы педагогического коллектива школы, отдельных педагогов над актуальными педагогическими проблем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857840" y="4214880"/>
            <a:ext cx="29052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Индивидуальное наставничество, консультации, собеседования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28800" y="205740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Эта форма широко применяется в работе с молодыми педагогами и теми, кто испытывает затруднения в работе с классом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795920" y="4319640"/>
            <a:ext cx="3052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Методические уголк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4240" y="144792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Методическая работа требует наглядности – это методические выставки, бюллетени, стенгазеты и т. д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357200" y="3000240"/>
            <a:ext cx="4827600" cy="2100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286680" y="3500280"/>
            <a:ext cx="20714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359000" y="51264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Выставки и отчеты по самообразованию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Отчеты по самообразованию требуют наглядной демонстрации продуктов труда педагога: доклады, рефераты, разработки мероприятий, создание авторских программ, составление тестов-анкет и т. д. – и продуктов труда учащихся, созданных под руководством педагога: выступления, рисунки, поделки, творческие работы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68360" y="15228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24000" y="85716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>
            <a:lum bright="-1000"/>
          </a:blip>
          <a:stretch/>
        </p:blipFill>
        <p:spPr>
          <a:xfrm>
            <a:off x="196920" y="503280"/>
            <a:ext cx="86677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71720" y="274680"/>
            <a:ext cx="786276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Сущность и задачи методической работы в образовательном учреждении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2057400"/>
            <a:ext cx="7498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orbel"/>
                <a:ea typeface="Microsoft YaHei"/>
              </a:rPr>
              <a:t>Методическая работа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– это систематическая коллективная и индивидуальная деятельность педагогических кадров, направленная на повышение их научно-теоретического общекультурного уровня, психолого-педагогической подготовки и профессионального мастерства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амым главным и существенным в методической работе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в образовательном учреждении является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оказание реальной, действенной помощи педагогическим работникам в развитии их мастерства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295280" y="-3240"/>
            <a:ext cx="684072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Используемая литератур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733840" y="1608120"/>
            <a:ext cx="5546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285920" y="42876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  <a:ea typeface="Microsoft YaHe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  <a:ea typeface="Microsoft YaHei"/>
              </a:rPr>
              <a:t>Определить цели и задачи методической рабо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- значит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  <a:ea typeface="Microsoft YaHei"/>
              </a:rPr>
              <a:t>определить важнейшие желаемые, необходим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 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Цель, прежде всего, заключается в росте педагогического мастерства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714840" y="3513240"/>
            <a:ext cx="28400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Направления работы школьного методического объединения: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071720"/>
            <a:ext cx="764064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  <a:ea typeface="Microsoft YaHei"/>
              </a:rPr>
              <a:t>     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изучение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вопросов организации образовательного и воспитательного процессов;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 овладение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научной методологие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ознакомление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с новыми положениями, документами, постановлениями и т. д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     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углубленное изучение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методики проведения учебных занятий и внеклассных мероприяти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опережающее рассмотрение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вопросов методики изучения наиболее сложных вопросов внеклассной и внешкольной работы с демонстрацией открытых внешкольных мероприятий, воспитательных час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Corbel"/>
                <a:ea typeface="Microsoft YaHei"/>
              </a:rPr>
              <a:t>изучение возрастной и педагогической психологии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  <a:ea typeface="Microsoft YaHei"/>
              </a:rPr>
              <a:t>, психолого-педагогических особенностей детей разных возрастных групп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46280" y="50004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Формы организации методической работы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7090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Формы работы могут быть коллективные и индивидуальны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^ 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Microsoft YaHei"/>
              </a:rPr>
              <a:t>Коллективные формы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 семинары и практикумы, научно-практические конференции, методические объединения, школы передового опыта, творческие группы, методические кабинеты и т. д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^ 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Microsoft YaHei"/>
              </a:rPr>
              <a:t>Индивидуальные формы: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стажировка, наставничество, работа над личной творческой темой, индивидуальные консультации, индивидуальное самообразование и т. 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Одна из самых важных форм методической работ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это работа над 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Microsoft YaHei"/>
              </a:rPr>
              <a:t>единой методической темой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 (проблемой)образовательного учрежд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38148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Одна из самых распространенных форм коллективной методической работ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57200" y="1785960"/>
            <a:ext cx="7572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Одна из самых распространенных форм коллективной методической работы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школьное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методические объединения учи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.</a:t>
            </a:r>
            <a:r>
              <a:rPr b="0" lang="ru-RU" sz="2200" spc="-1" strike="noStrike">
                <a:solidFill>
                  <a:srgbClr val="c00000"/>
                </a:solidFill>
                <a:latin typeface="Corbel"/>
                <a:ea typeface="Microsoft YaHe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Заседание ШМО, как правило, проводится один раз в четвер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Однако деятельность ШМО не должна сводиться только к заседаниям, она </a:t>
            </a: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должна носить повседневный характер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работы. Заседание ШМО должно включать в себя как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теоретическую часть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(доклады, сообщения, обзор методической литературы), так и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практическую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(посещение уроков, воспитательных часов, их обсуждение, открытые внеклассные мероприятия и т. 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Как </a:t>
            </a: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итог работы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методического объединения может быть методическая продукция для учителей предметников. В конце учебного года завершить работу МО может выставка, конференция, методический фестиваль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Формы занятий (заседаний)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00080" y="1214280"/>
            <a:ext cx="7572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1) теоретические семинары (доклады, сообщения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2) семинары-практикумы (доклады, сообщения с практическим показом на уроках, воспитательных часах, внеклассных, внешкольных мероприятиях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3) диспуты, дискусс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4) «деловые игры», ролевые игры; уроки (мероприятия)-панорам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5) лектории ученых, психологов, социологов, врачей;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Microsoft YaHei"/>
              </a:rPr>
              <a:t>Формы занятий (заседаний)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4280" y="1214280"/>
            <a:ext cx="79297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br>
              <a:rPr sz="1800"/>
            </a:br>
            <a:br>
              <a:rPr sz="18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Microsoft YaHei"/>
              </a:rPr>
              <a:t>6) обсуждение современных новейших методик, технологий, достижений педагогической науки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Microsoft YaHei"/>
              </a:rPr>
              <a:t>7) обсуждение открытых мероприятий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Microsoft YaHei"/>
              </a:rPr>
              <a:t>8) обсуждение и оценка авторских программ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Microsoft YaHei"/>
              </a:rPr>
              <a:t>9) обсуждение результатов тестирования, анкетирования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Microsoft YaHei"/>
              </a:rPr>
              <a:t>10) разнообразные выставки, отчеты по самообразованию;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8:12:22Z</dcterms:created>
  <dc:creator>pc</dc:creator>
  <dc:description/>
  <dc:language>en-US</dc:language>
  <cp:lastModifiedBy/>
  <cp:lastPrinted>2019-08-26T17:38:46Z</cp:lastPrinted>
  <dcterms:modified xsi:type="dcterms:W3CDTF">2019-10-08T17:38:55Z</dcterms:modified>
  <cp:revision>34</cp:revision>
  <dc:subject/>
  <dc:title>Эффективные нестандартные формы работы МО</dc:title>
</cp:coreProperties>
</file>