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492-3254-4886-9AF7-D3A86B36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C33-8645-4DD0-8BAE-3AEE90A2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B94-DCB7-4134-8215-C0C94097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968-8ABA-46D6-820E-780B2E77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149-D0C0-4573-A3B3-2EBDB4D1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5F4-38E4-4EF1-ACF7-6D810BE9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BD0-437C-42F9-B59B-D85D4D29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CA7-0B25-4367-8688-F313177A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63A-E053-483F-9FE9-E6B1E926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0F5-AB1E-4945-A227-D85618BE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B29-7417-40C1-B40F-F726E64C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713-6EF4-4B95-8EFA-E8A0D909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78B0-338A-4558-9E3F-302118C5EE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260280"/>
            <a:ext cx="720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2b5481">
                    <a:alpha val="48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 творческ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2b5481">
                  <a:alpha val="48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2b5481">
                    <a:alpha val="48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2b5481">
                  <a:alpha val="48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2b5481">
                  <a:alpha val="48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2b5481">
                    <a:alpha val="48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язаный топ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2b5481">
                  <a:alpha val="48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132000" y="4076640"/>
            <a:ext cx="5505480" cy="2095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>
                    <a:alpha val="57000"/>
                  </a:srgbClr>
                </a:solidFill>
                <a:latin typeface="Arial"/>
              </a:rPr>
              <a:t>Ставропольский кр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>
                  <a:alpha val="57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>
                    <a:alpha val="57000"/>
                  </a:srgbClr>
                </a:solidFill>
                <a:latin typeface="Arial"/>
              </a:rPr>
              <a:t>Минераловодский рай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>
                  <a:alpha val="57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>
                    <a:alpha val="57000"/>
                  </a:srgbClr>
                </a:solidFill>
                <a:latin typeface="Arial"/>
              </a:rPr>
              <a:t>с. Нижняя Александро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>
                  <a:alpha val="57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>
                    <a:alpha val="57000"/>
                  </a:srgbClr>
                </a:solidFill>
                <a:latin typeface="Arial"/>
              </a:rPr>
              <a:t>МКОУ СОШ №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>
                  <a:alpha val="57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258920" y="333360"/>
            <a:ext cx="65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Выбор инструментов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обору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24000" y="1704600"/>
            <a:ext cx="8497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Для работы мне понадобится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1. Крючок вязальный №3, №2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2. Сантиметровая лент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3. Ножницы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4. Швейная машин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5. Иглы, булавк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6. Нитки для вязания двух видов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   </a:t>
            </a: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а) меланжевая пряж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   </a:t>
            </a: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б) хлопчатобумажная: синего и зелёного цвет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ahoma"/>
              </a:rPr>
              <a:t>7. Нитки швейные для соединения детал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вязание, вязание крючком, вязание на спицах"/>
          <p:cNvPicPr/>
          <p:nvPr/>
        </p:nvPicPr>
        <p:blipFill>
          <a:blip r:embed="rId1"/>
          <a:stretch/>
        </p:blipFill>
        <p:spPr>
          <a:xfrm>
            <a:off x="7020000" y="2349360"/>
            <a:ext cx="15811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468360" y="44280"/>
            <a:ext cx="80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Выполнение технологиче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опера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908000" y="1268280"/>
            <a:ext cx="5286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Мерки, необходи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для построения чертеж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968760" y="2814120"/>
            <a:ext cx="7049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ahoma"/>
              </a:rPr>
              <a:t>Длина издел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ahoma"/>
              </a:rPr>
              <a:t>Ди=33с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ahoma"/>
              </a:rPr>
              <a:t>Полуобхват груди втор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ahoma"/>
              </a:rPr>
              <a:t>Сг2=43с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2952720" cy="225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3168360" cy="2517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468360" y="620640"/>
            <a:ext cx="414972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611280" y="5805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Чертёж переда и спи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867280" y="299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Чертёж рукав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867280" y="6165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Схема кок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2484360" y="404640"/>
            <a:ext cx="403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хемы вяз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84360" y="2276640"/>
            <a:ext cx="295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Основной узор: плоское вязание столбиками с одним наки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788000" y="501336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Схема вязания моти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2340000" y="260280"/>
            <a:ext cx="43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Сборка изде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87280" y="184464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11280" y="177336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Выполнение боковых швов. Пришивание кокетки к переду и спинке. Выполнение нижних швов рукавов. Вязание зеленых и голубых квадратов и пришивание их попеременно к нижнему ря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3780000" y="33336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rcRect l="26992" t="28099" r="36312" b="0"/>
          <a:stretch/>
        </p:blipFill>
        <p:spPr>
          <a:xfrm>
            <a:off x="539640" y="765000"/>
            <a:ext cx="2171880" cy="319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IMGA0756"/>
          <p:cNvPicPr/>
          <p:nvPr/>
        </p:nvPicPr>
        <p:blipFill>
          <a:blip r:embed="rId2"/>
          <a:srcRect l="15774" t="0" r="9868" b="0"/>
          <a:stretch/>
        </p:blipFill>
        <p:spPr>
          <a:xfrm>
            <a:off x="3924360" y="1844640"/>
            <a:ext cx="42559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6"/>
          <p:cNvSpPr txBox="1"/>
          <p:nvPr/>
        </p:nvSpPr>
        <p:spPr>
          <a:xfrm>
            <a:off x="3203640" y="333360"/>
            <a:ext cx="208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84360" y="1989000"/>
            <a:ext cx="806436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Итак мой топ готов. Моя задача решена, учитель одобрил мою работу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Я закрепила и пополнила знания по обработке нитей, по вязанию крюч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Я развила познавательную активность, умение пользоваться литературой, расширила кругоз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одобные модели можно рекомендовать для изготовления в мастерских шко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357120" y="1643040"/>
            <a:ext cx="8001000" cy="36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>
                    <a:alpha val="57000"/>
                  </a:srgbClr>
                </a:solidFill>
                <a:latin typeface="Arial"/>
              </a:rPr>
              <a:t>Подготовил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57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57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>
                    <a:alpha val="57000"/>
                  </a:srgbClr>
                </a:solidFill>
                <a:latin typeface="Arial"/>
              </a:rPr>
              <a:t>ученица 7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57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57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>
                    <a:alpha val="57000"/>
                  </a:srgbClr>
                </a:solidFill>
                <a:latin typeface="Arial"/>
              </a:rPr>
              <a:t>Яковлева Ал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5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2122560"/>
          <a:ext cx="208080" cy="1697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8"/>
          <p:cNvSpPr/>
          <p:nvPr/>
        </p:nvSpPr>
        <p:spPr>
          <a:xfrm>
            <a:off x="1800" y="3819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68360" y="260280"/>
            <a:ext cx="7920000" cy="61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ahoma"/>
              </a:rPr>
              <a:t>Цели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учиться вязать топ и пополнить гардероб необходимой вещ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Закрепить и пополнить знания по обработке нитей и вязанию крюч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Развить познавательную активность, умение самостоятельно пользоваться дополнительной литературой, расширять кругоз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Подготовиться к самостоятельной трудовой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7515360" y="5000760"/>
            <a:ext cx="1628640" cy="185724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26920" y="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становка проблемы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еского проекта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4000" y="199008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Покупаешь вещь и понимаешь, что эта модель не единственная. Хочется иметь изделие, которое будет неповторимо, которое не встретишь на каждом прохожем. А где такую вещь можно взя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Конечно же сделать своими рукам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Итак, передо мной стоит проблема создания неповторимой вещи, которая будет соответствовать сегодняшней м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712360" y="4292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619280" y="260280"/>
            <a:ext cx="561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ализ и синтез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учших идей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34136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Изучив альбомы и журналы по вязанию, я выбрала наиболее подходящие мод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rcRect l="0" t="25453" r="0" b="14639"/>
          <a:stretch/>
        </p:blipFill>
        <p:spPr>
          <a:xfrm>
            <a:off x="3564000" y="3573360"/>
            <a:ext cx="207648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rcRect l="0" t="27049" r="23146" b="0"/>
          <a:stretch/>
        </p:blipFill>
        <p:spPr>
          <a:xfrm>
            <a:off x="611280" y="2924280"/>
            <a:ext cx="1800000" cy="2457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3"/>
          <a:srcRect l="0" t="32985" r="0" b="8377"/>
          <a:stretch/>
        </p:blipFill>
        <p:spPr>
          <a:xfrm>
            <a:off x="6877080" y="306864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39640" y="57340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Модель №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708360" y="6093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Модель №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877080" y="5877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Модель №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rcRect l="0" t="30244" r="0" b="12760"/>
          <a:stretch/>
        </p:blipFill>
        <p:spPr>
          <a:xfrm>
            <a:off x="611280" y="3573360"/>
            <a:ext cx="1981080" cy="249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rcRect l="12120" t="29274" r="26097" b="4881"/>
          <a:stretch/>
        </p:blipFill>
        <p:spPr>
          <a:xfrm>
            <a:off x="1403280" y="333360"/>
            <a:ext cx="1984320" cy="252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4"/>
          <a:srcRect l="0" t="34563" r="0" b="0"/>
          <a:stretch/>
        </p:blipFill>
        <p:spPr>
          <a:xfrm>
            <a:off x="4788000" y="3573360"/>
            <a:ext cx="1904760" cy="2476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90800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Модель №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732720" y="3141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Модель №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90000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Модель №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651640" y="6165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Модель №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765000"/>
            <a:ext cx="806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Но детально исследовав достоинства и недостатки каждой модели, оценив материальные и финансовые возможности, я решила, что ни одна модель мне не подходит. Итак я разработаю свою модель, основываясь на модели, предложенные журна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"/>
          <p:cNvGrpSpPr/>
          <p:nvPr/>
        </p:nvGrpSpPr>
        <p:grpSpPr>
          <a:xfrm>
            <a:off x="0" y="-96840"/>
            <a:ext cx="9288360" cy="9286920"/>
            <a:chOff x="0" y="-96840"/>
            <a:chExt cx="9288360" cy="9286920"/>
          </a:xfrm>
        </p:grpSpPr>
        <p:sp>
          <p:nvSpPr>
            <p:cNvPr id="70" name="AutoShape 6"/>
            <p:cNvSpPr/>
            <p:nvPr/>
          </p:nvSpPr>
          <p:spPr>
            <a:xfrm>
              <a:off x="0" y="-96840"/>
              <a:ext cx="9288360" cy="9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363600" y="1591560"/>
              <a:ext cx="1821600" cy="50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</a:rPr>
                <a:t>Эстетические требования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6921000" y="1591560"/>
              <a:ext cx="1820160" cy="5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</a:rPr>
                <a:t>Эксплуатационные требования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3459600" y="831600"/>
              <a:ext cx="1820520" cy="5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</a:rPr>
                <a:t>Экономические требования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3459600" y="2013840"/>
              <a:ext cx="1821600" cy="33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ahoma"/>
                </a:rPr>
                <a:t>Топ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363600" y="3111480"/>
              <a:ext cx="1821600" cy="8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</a:rPr>
                <a:t>Должен быть красивым, оригинальным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2548800" y="3111480"/>
              <a:ext cx="1820160" cy="101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800000"/>
                  </a:solidFill>
                  <a:latin typeface="Tahoma"/>
                </a:rPr>
                <a:t>Должен соответствовать другим предметам гардероба.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284600" y="3111480"/>
              <a:ext cx="1820160" cy="101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800000"/>
                  </a:solidFill>
                  <a:latin typeface="Tahoma"/>
                </a:rPr>
                <a:t>Должен быть удобным в носке, достаточно прочным.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4"/>
            <p:cNvSpPr/>
            <p:nvPr/>
          </p:nvSpPr>
          <p:spPr>
            <a:xfrm>
              <a:off x="4917240" y="3111480"/>
              <a:ext cx="1821600" cy="101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</a:rPr>
                <a:t>Не должен деформироваться при носке, терять форму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5"/>
            <p:cNvSpPr/>
            <p:nvPr/>
          </p:nvSpPr>
          <p:spPr>
            <a:xfrm>
              <a:off x="2367000" y="4884120"/>
              <a:ext cx="4006800" cy="33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</a:rPr>
                <a:t>Гигиенические требования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6"/>
            <p:cNvSpPr/>
            <p:nvPr/>
          </p:nvSpPr>
          <p:spPr>
            <a:xfrm>
              <a:off x="3459600" y="5981760"/>
              <a:ext cx="2368440" cy="67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800000"/>
                  </a:solidFill>
                  <a:latin typeface="Tahoma"/>
                </a:rPr>
                <a:t>Должен быть достаточно воздухопроницаемым.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17"/>
            <p:cNvSpPr/>
            <p:nvPr/>
          </p:nvSpPr>
          <p:spPr>
            <a:xfrm>
              <a:off x="0" y="5981760"/>
              <a:ext cx="2548800" cy="59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</a:rPr>
                <a:t>Должен обеспечивать свободу движе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18"/>
            <p:cNvSpPr/>
            <p:nvPr/>
          </p:nvSpPr>
          <p:spPr>
            <a:xfrm>
              <a:off x="6738840" y="5981760"/>
              <a:ext cx="1820160" cy="50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</a:rPr>
                <a:t>Должен хорошо стираться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19"/>
            <p:cNvSpPr/>
            <p:nvPr/>
          </p:nvSpPr>
          <p:spPr>
            <a:xfrm>
              <a:off x="3459600" y="71280"/>
              <a:ext cx="1821600" cy="50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</a:rPr>
                <a:t>Должен быть недорогим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 flipV="1">
              <a:off x="4370400" y="1338120"/>
              <a:ext cx="0" cy="67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 flipV="1">
              <a:off x="2184840" y="1844280"/>
              <a:ext cx="1274040" cy="16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V="1">
              <a:off x="5281200" y="1760040"/>
              <a:ext cx="163944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H="1">
              <a:off x="4552200" y="2351160"/>
              <a:ext cx="1440" cy="253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 flipH="1">
              <a:off x="1273680" y="2098080"/>
              <a:ext cx="181800" cy="10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>
              <a:off x="1456200" y="2098080"/>
              <a:ext cx="2003040" cy="10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6192000" y="2098080"/>
              <a:ext cx="1274400" cy="10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Line 27"/>
            <p:cNvSpPr/>
            <p:nvPr/>
          </p:nvSpPr>
          <p:spPr>
            <a:xfrm>
              <a:off x="7466400" y="2098080"/>
              <a:ext cx="546840" cy="10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Line 28"/>
            <p:cNvSpPr/>
            <p:nvPr/>
          </p:nvSpPr>
          <p:spPr>
            <a:xfrm>
              <a:off x="4370400" y="5222160"/>
              <a:ext cx="0" cy="75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Line 29"/>
            <p:cNvSpPr/>
            <p:nvPr/>
          </p:nvSpPr>
          <p:spPr>
            <a:xfrm flipH="1">
              <a:off x="1820880" y="5222160"/>
              <a:ext cx="2549160" cy="75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Line 30"/>
            <p:cNvSpPr/>
            <p:nvPr/>
          </p:nvSpPr>
          <p:spPr>
            <a:xfrm>
              <a:off x="4370400" y="5222160"/>
              <a:ext cx="3096000" cy="75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Line 31"/>
            <p:cNvSpPr/>
            <p:nvPr/>
          </p:nvSpPr>
          <p:spPr>
            <a:xfrm flipV="1">
              <a:off x="4370400" y="57816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476360" y="333360"/>
            <a:ext cx="6480360" cy="165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ё изделие должно 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глядить так: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5370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7:39:42Z</dcterms:created>
  <dc:creator>User</dc:creator>
  <dc:description/>
  <dc:language>en-US</dc:language>
  <cp:lastModifiedBy>Asus</cp:lastModifiedBy>
  <dcterms:modified xsi:type="dcterms:W3CDTF">2019-10-08T20:48:17Z</dcterms:modified>
  <cp:revision>13</cp:revision>
  <dc:subject/>
  <dc:title>Слайд 1</dc:title>
</cp:coreProperties>
</file>