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6577-0E25-49D5-9E2C-89B85C445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7CFA-DD64-450B-AE90-A145C0F6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AB50-5FB9-4EE0-86A8-4643B76F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AE0B-D7E4-434E-807D-15C3F99C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0D24-971B-417A-A212-F02BBA59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9879-71A6-4019-8D18-2D2EB50C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02FA-E136-477F-9E4A-ECD8407D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1AD8-45B0-4D69-AF06-9B72E197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B073-5312-4E12-BBB7-7D673D64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F253-0FF2-4984-8D44-EBD7D01F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FF66-F356-4C08-B796-044D2215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4567-1798-4DE6-9DB2-FBC277AB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7786-4856-4BA8-93BE-CF147F18DA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90"/>
          <p:cNvPicPr/>
          <p:nvPr/>
        </p:nvPicPr>
        <p:blipFill>
          <a:blip r:embed="rId2"/>
          <a:stretch/>
        </p:blipFill>
        <p:spPr>
          <a:xfrm>
            <a:off x="539640" y="620640"/>
            <a:ext cx="3916440" cy="5106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95"/>
          <p:cNvPicPr/>
          <p:nvPr/>
        </p:nvPicPr>
        <p:blipFill>
          <a:blip r:embed="rId3"/>
          <a:stretch/>
        </p:blipFill>
        <p:spPr>
          <a:xfrm>
            <a:off x="8253360" y="0"/>
            <a:ext cx="890640" cy="9460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3851280" y="134136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entury Schoolbook"/>
              </a:rPr>
              <a:t>Детектив – сыщи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0">
            <a:hlinkClick r:id="" action="ppaction://hlinkshowjump?jump=nextslide"/>
          </p:cNvPr>
          <p:cNvSpPr/>
          <p:nvPr/>
        </p:nvSpPr>
        <p:spPr>
          <a:xfrm>
            <a:off x="8245440" y="6391440"/>
            <a:ext cx="898560" cy="466560"/>
          </a:xfrm>
          <a:custGeom>
            <a:avLst/>
            <a:gdLst>
              <a:gd name="textAreaLeft" fmla="*/ 30240 w 898560"/>
              <a:gd name="textAreaRight" fmla="*/ 868320 w 89856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1585" h="21600">
                <a:moveTo>
                  <a:pt x="0" y="0"/>
                </a:moveTo>
                <a:lnTo>
                  <a:pt x="41585" y="0"/>
                </a:lnTo>
                <a:lnTo>
                  <a:pt x="41585" y="21600"/>
                </a:lnTo>
                <a:lnTo>
                  <a:pt x="0" y="21600"/>
                </a:lnTo>
                <a:close/>
              </a:path>
              <a:path fill="lightenLess" w="41585" h="21600">
                <a:moveTo>
                  <a:pt x="0" y="0"/>
                </a:moveTo>
                <a:lnTo>
                  <a:pt x="41585" y="0"/>
                </a:lnTo>
                <a:lnTo>
                  <a:pt x="40185" y="1400"/>
                </a:lnTo>
                <a:lnTo>
                  <a:pt x="1400" y="1400"/>
                </a:lnTo>
                <a:close/>
              </a:path>
              <a:path fill="darken" w="41585" h="21600">
                <a:moveTo>
                  <a:pt x="41585" y="0"/>
                </a:moveTo>
                <a:lnTo>
                  <a:pt x="41585" y="21600"/>
                </a:lnTo>
                <a:lnTo>
                  <a:pt x="40185" y="20200"/>
                </a:lnTo>
                <a:lnTo>
                  <a:pt x="40185" y="1400"/>
                </a:lnTo>
                <a:close/>
              </a:path>
              <a:path fill="darkenLess" w="41585" h="21600">
                <a:moveTo>
                  <a:pt x="41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185" y="20200"/>
                </a:lnTo>
                <a:close/>
              </a:path>
              <a:path fill="lighten" w="41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585" h="21600">
                <a:moveTo>
                  <a:pt x="13786" y="3794"/>
                </a:moveTo>
                <a:lnTo>
                  <a:pt x="27799" y="10800"/>
                </a:lnTo>
                <a:lnTo>
                  <a:pt x="1378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323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3059280" y="907920"/>
            <a:ext cx="29509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entury Schoolbook"/>
              </a:rPr>
              <a:t>к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entury Schoolbook"/>
              </a:rPr>
              <a:t>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entury Schoolbook"/>
              </a:rPr>
              <a:t>ск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entury Schoolbook"/>
              </a:rPr>
              <a:t>кото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entury Schoolbook"/>
              </a:rPr>
              <a:t>к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entury Schoolbook"/>
              </a:rPr>
              <a:t>ка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entury Schoolbook"/>
              </a:rPr>
              <a:t>к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entury Schoolbook"/>
              </a:rPr>
              <a:t>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5"/>
          <p:cNvSpPr txBox="1"/>
          <p:nvPr/>
        </p:nvSpPr>
        <p:spPr>
          <a:xfrm>
            <a:off x="2340000" y="115920"/>
            <a:ext cx="417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6600"/>
                </a:solidFill>
                <a:latin typeface="Century Schoolbook"/>
              </a:rPr>
              <a:t>Образование</a:t>
            </a:r>
            <a:endParaRPr b="1" i="1" lang="en-US" sz="1800" spc="1" strike="noStrike">
              <a:ln w="0">
                <a:noFill/>
              </a:ln>
              <a:solidFill>
                <a:srgbClr val="ff6600"/>
              </a:solidFill>
              <a:latin typeface="Century Schoolbook"/>
              <a:ea typeface="Century Schoolbook"/>
            </a:endParaRPr>
          </a:p>
        </p:txBody>
      </p:sp>
      <p:pic>
        <p:nvPicPr>
          <p:cNvPr id="48" name="Picture 6" descr="95"/>
          <p:cNvPicPr/>
          <p:nvPr/>
        </p:nvPicPr>
        <p:blipFill>
          <a:blip r:embed="rId1"/>
          <a:stretch/>
        </p:blipFill>
        <p:spPr>
          <a:xfrm>
            <a:off x="8253360" y="0"/>
            <a:ext cx="890640" cy="94608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6"/>
          <p:cNvGrpSpPr/>
          <p:nvPr/>
        </p:nvGrpSpPr>
        <p:grpSpPr>
          <a:xfrm>
            <a:off x="2627280" y="907920"/>
            <a:ext cx="5184720" cy="5694840"/>
            <a:chOff x="2627280" y="907920"/>
            <a:chExt cx="5184720" cy="5694840"/>
          </a:xfrm>
        </p:grpSpPr>
        <p:sp>
          <p:nvSpPr>
            <p:cNvPr id="50" name="Text Box 7"/>
            <p:cNvSpPr/>
            <p:nvPr/>
          </p:nvSpPr>
          <p:spPr>
            <a:xfrm>
              <a:off x="2987640" y="90792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Century Schoolbook"/>
                </a:rPr>
                <a:t>н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2987640" y="162864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Century Schoolbook"/>
                </a:rPr>
                <a:t>н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9"/>
            <p:cNvSpPr/>
            <p:nvPr/>
          </p:nvSpPr>
          <p:spPr>
            <a:xfrm>
              <a:off x="2987640" y="237348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Century Schoolbook"/>
                </a:rPr>
                <a:t>н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0"/>
            <p:cNvSpPr/>
            <p:nvPr/>
          </p:nvSpPr>
          <p:spPr>
            <a:xfrm>
              <a:off x="3009960" y="309420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Century Schoolbook"/>
                </a:rPr>
                <a:t>н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1"/>
            <p:cNvSpPr/>
            <p:nvPr/>
          </p:nvSpPr>
          <p:spPr>
            <a:xfrm>
              <a:off x="2627280" y="3824280"/>
              <a:ext cx="12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Century Schoolbook"/>
                </a:rPr>
                <a:t>кое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2"/>
            <p:cNvSpPr/>
            <p:nvPr/>
          </p:nvSpPr>
          <p:spPr>
            <a:xfrm>
              <a:off x="5880240" y="454500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Century Schoolbook"/>
                </a:rPr>
                <a:t>-т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3"/>
            <p:cNvSpPr/>
            <p:nvPr/>
          </p:nvSpPr>
          <p:spPr>
            <a:xfrm>
              <a:off x="5904000" y="5275440"/>
              <a:ext cx="14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Century Schoolbook"/>
                </a:rPr>
                <a:t>-либ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4"/>
            <p:cNvSpPr/>
            <p:nvPr/>
          </p:nvSpPr>
          <p:spPr>
            <a:xfrm>
              <a:off x="5867280" y="6021360"/>
              <a:ext cx="194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Century Schoolbook"/>
                </a:rPr>
                <a:t>-нибуд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AutoShape 15">
            <a:hlinkClick r:id="" action="ppaction://hlinkshowjump?jump=nextslide"/>
          </p:cNvPr>
          <p:cNvSpPr/>
          <p:nvPr/>
        </p:nvSpPr>
        <p:spPr>
          <a:xfrm>
            <a:off x="8245440" y="6391440"/>
            <a:ext cx="898560" cy="466560"/>
          </a:xfrm>
          <a:custGeom>
            <a:avLst/>
            <a:gdLst>
              <a:gd name="textAreaLeft" fmla="*/ 30240 w 898560"/>
              <a:gd name="textAreaRight" fmla="*/ 868320 w 89856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1585" h="21600">
                <a:moveTo>
                  <a:pt x="0" y="0"/>
                </a:moveTo>
                <a:lnTo>
                  <a:pt x="41585" y="0"/>
                </a:lnTo>
                <a:lnTo>
                  <a:pt x="41585" y="21600"/>
                </a:lnTo>
                <a:lnTo>
                  <a:pt x="0" y="21600"/>
                </a:lnTo>
                <a:close/>
              </a:path>
              <a:path fill="lightenLess" w="41585" h="21600">
                <a:moveTo>
                  <a:pt x="0" y="0"/>
                </a:moveTo>
                <a:lnTo>
                  <a:pt x="41585" y="0"/>
                </a:lnTo>
                <a:lnTo>
                  <a:pt x="40185" y="1400"/>
                </a:lnTo>
                <a:lnTo>
                  <a:pt x="1400" y="1400"/>
                </a:lnTo>
                <a:close/>
              </a:path>
              <a:path fill="darken" w="41585" h="21600">
                <a:moveTo>
                  <a:pt x="41585" y="0"/>
                </a:moveTo>
                <a:lnTo>
                  <a:pt x="41585" y="21600"/>
                </a:lnTo>
                <a:lnTo>
                  <a:pt x="40185" y="20200"/>
                </a:lnTo>
                <a:lnTo>
                  <a:pt x="40185" y="1400"/>
                </a:lnTo>
                <a:close/>
              </a:path>
              <a:path fill="darkenLess" w="41585" h="21600">
                <a:moveTo>
                  <a:pt x="41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185" y="20200"/>
                </a:lnTo>
                <a:close/>
              </a:path>
              <a:path fill="lighten" w="41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585" h="21600">
                <a:moveTo>
                  <a:pt x="13786" y="3794"/>
                </a:moveTo>
                <a:lnTo>
                  <a:pt x="27799" y="10800"/>
                </a:lnTo>
                <a:lnTo>
                  <a:pt x="1378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2700360" y="98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8"/>
          <p:cNvGrpSpPr/>
          <p:nvPr/>
        </p:nvGrpSpPr>
        <p:grpSpPr>
          <a:xfrm>
            <a:off x="3059280" y="981000"/>
            <a:ext cx="504720" cy="142920"/>
            <a:chOff x="3059280" y="981000"/>
            <a:chExt cx="504720" cy="142920"/>
          </a:xfrm>
        </p:grpSpPr>
        <p:sp>
          <p:nvSpPr>
            <p:cNvPr id="61" name="Line 19"/>
            <p:cNvSpPr/>
            <p:nvPr/>
          </p:nvSpPr>
          <p:spPr>
            <a:xfrm>
              <a:off x="3059280" y="981000"/>
              <a:ext cx="50472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0"/>
            <p:cNvSpPr/>
            <p:nvPr/>
          </p:nvSpPr>
          <p:spPr>
            <a:xfrm>
              <a:off x="3564000" y="981000"/>
              <a:ext cx="0" cy="1429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21"/>
          <p:cNvGrpSpPr/>
          <p:nvPr/>
        </p:nvGrpSpPr>
        <p:grpSpPr>
          <a:xfrm>
            <a:off x="3059280" y="1700280"/>
            <a:ext cx="504720" cy="142920"/>
            <a:chOff x="3059280" y="1700280"/>
            <a:chExt cx="504720" cy="142920"/>
          </a:xfrm>
        </p:grpSpPr>
        <p:sp>
          <p:nvSpPr>
            <p:cNvPr id="64" name="Line 22"/>
            <p:cNvSpPr/>
            <p:nvPr/>
          </p:nvSpPr>
          <p:spPr>
            <a:xfrm>
              <a:off x="3059280" y="1700280"/>
              <a:ext cx="50472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23"/>
            <p:cNvSpPr/>
            <p:nvPr/>
          </p:nvSpPr>
          <p:spPr>
            <a:xfrm>
              <a:off x="3564000" y="1700280"/>
              <a:ext cx="0" cy="1429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24"/>
          <p:cNvGrpSpPr/>
          <p:nvPr/>
        </p:nvGrpSpPr>
        <p:grpSpPr>
          <a:xfrm>
            <a:off x="3059280" y="2492280"/>
            <a:ext cx="504720" cy="142920"/>
            <a:chOff x="3059280" y="2492280"/>
            <a:chExt cx="504720" cy="142920"/>
          </a:xfrm>
        </p:grpSpPr>
        <p:sp>
          <p:nvSpPr>
            <p:cNvPr id="67" name="Line 25"/>
            <p:cNvSpPr/>
            <p:nvPr/>
          </p:nvSpPr>
          <p:spPr>
            <a:xfrm>
              <a:off x="3059280" y="2492280"/>
              <a:ext cx="50472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6"/>
            <p:cNvSpPr/>
            <p:nvPr/>
          </p:nvSpPr>
          <p:spPr>
            <a:xfrm>
              <a:off x="3564000" y="2492280"/>
              <a:ext cx="0" cy="1429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7"/>
          <p:cNvGrpSpPr/>
          <p:nvPr/>
        </p:nvGrpSpPr>
        <p:grpSpPr>
          <a:xfrm>
            <a:off x="3059280" y="3141720"/>
            <a:ext cx="504720" cy="142920"/>
            <a:chOff x="3059280" y="3141720"/>
            <a:chExt cx="504720" cy="142920"/>
          </a:xfrm>
        </p:grpSpPr>
        <p:sp>
          <p:nvSpPr>
            <p:cNvPr id="70" name="Line 28"/>
            <p:cNvSpPr/>
            <p:nvPr/>
          </p:nvSpPr>
          <p:spPr>
            <a:xfrm>
              <a:off x="3059280" y="3141720"/>
              <a:ext cx="50472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9"/>
            <p:cNvSpPr/>
            <p:nvPr/>
          </p:nvSpPr>
          <p:spPr>
            <a:xfrm>
              <a:off x="3564000" y="3141720"/>
              <a:ext cx="0" cy="1429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30"/>
          <p:cNvGrpSpPr/>
          <p:nvPr/>
        </p:nvGrpSpPr>
        <p:grpSpPr>
          <a:xfrm>
            <a:off x="2700360" y="3933720"/>
            <a:ext cx="792000" cy="142920"/>
            <a:chOff x="2700360" y="3933720"/>
            <a:chExt cx="792000" cy="142920"/>
          </a:xfrm>
        </p:grpSpPr>
        <p:sp>
          <p:nvSpPr>
            <p:cNvPr id="73" name="Line 31"/>
            <p:cNvSpPr/>
            <p:nvPr/>
          </p:nvSpPr>
          <p:spPr>
            <a:xfrm>
              <a:off x="2700360" y="3933720"/>
              <a:ext cx="79200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32"/>
            <p:cNvSpPr/>
            <p:nvPr/>
          </p:nvSpPr>
          <p:spPr>
            <a:xfrm>
              <a:off x="3492360" y="3933720"/>
              <a:ext cx="0" cy="1429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33"/>
          <p:cNvGrpSpPr/>
          <p:nvPr/>
        </p:nvGrpSpPr>
        <p:grpSpPr>
          <a:xfrm>
            <a:off x="6012000" y="4365720"/>
            <a:ext cx="647280" cy="358560"/>
            <a:chOff x="6012000" y="4365720"/>
            <a:chExt cx="647280" cy="358560"/>
          </a:xfrm>
        </p:grpSpPr>
        <p:sp>
          <p:nvSpPr>
            <p:cNvPr id="76" name="Line 34"/>
            <p:cNvSpPr/>
            <p:nvPr/>
          </p:nvSpPr>
          <p:spPr>
            <a:xfrm flipV="1">
              <a:off x="6012000" y="4365720"/>
              <a:ext cx="351720" cy="3585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35"/>
            <p:cNvSpPr/>
            <p:nvPr/>
          </p:nvSpPr>
          <p:spPr>
            <a:xfrm>
              <a:off x="6364800" y="4365720"/>
              <a:ext cx="294480" cy="3585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36"/>
          <p:cNvGrpSpPr/>
          <p:nvPr/>
        </p:nvGrpSpPr>
        <p:grpSpPr>
          <a:xfrm>
            <a:off x="6227640" y="5084280"/>
            <a:ext cx="792000" cy="360720"/>
            <a:chOff x="6227640" y="5084280"/>
            <a:chExt cx="792000" cy="360720"/>
          </a:xfrm>
        </p:grpSpPr>
        <p:sp>
          <p:nvSpPr>
            <p:cNvPr id="79" name="Line 37"/>
            <p:cNvSpPr/>
            <p:nvPr/>
          </p:nvSpPr>
          <p:spPr>
            <a:xfrm flipV="1">
              <a:off x="6227640" y="5084280"/>
              <a:ext cx="430200" cy="3603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8"/>
            <p:cNvSpPr/>
            <p:nvPr/>
          </p:nvSpPr>
          <p:spPr>
            <a:xfrm>
              <a:off x="6659280" y="5084640"/>
              <a:ext cx="360360" cy="3603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9"/>
          <p:cNvGrpSpPr/>
          <p:nvPr/>
        </p:nvGrpSpPr>
        <p:grpSpPr>
          <a:xfrm>
            <a:off x="6084720" y="5805000"/>
            <a:ext cx="1366200" cy="360720"/>
            <a:chOff x="6084720" y="5805000"/>
            <a:chExt cx="1366200" cy="360720"/>
          </a:xfrm>
        </p:grpSpPr>
        <p:sp>
          <p:nvSpPr>
            <p:cNvPr id="82" name="Line 40"/>
            <p:cNvSpPr/>
            <p:nvPr/>
          </p:nvSpPr>
          <p:spPr>
            <a:xfrm flipV="1">
              <a:off x="6084720" y="5805000"/>
              <a:ext cx="742320" cy="3603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41"/>
            <p:cNvSpPr/>
            <p:nvPr/>
          </p:nvSpPr>
          <p:spPr>
            <a:xfrm>
              <a:off x="6829200" y="5805360"/>
              <a:ext cx="621720" cy="3603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2340000" y="115920"/>
            <a:ext cx="4176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6600"/>
                </a:solidFill>
                <a:latin typeface="Century Schoolbook"/>
              </a:rPr>
              <a:t>Склонение</a:t>
            </a:r>
            <a:endParaRPr b="1" i="1" lang="en-US" sz="1800" spc="1" strike="noStrike">
              <a:ln w="0">
                <a:noFill/>
              </a:ln>
              <a:solidFill>
                <a:srgbClr val="ff6600"/>
              </a:solidFill>
              <a:latin typeface="Century Schoolbook"/>
              <a:ea typeface="Century Schoolbook"/>
            </a:endParaRPr>
          </a:p>
        </p:txBody>
      </p:sp>
      <p:pic>
        <p:nvPicPr>
          <p:cNvPr id="85" name="Picture 5" descr="95"/>
          <p:cNvPicPr/>
          <p:nvPr/>
        </p:nvPicPr>
        <p:blipFill>
          <a:blip r:embed="rId1"/>
          <a:stretch/>
        </p:blipFill>
        <p:spPr>
          <a:xfrm>
            <a:off x="8253360" y="0"/>
            <a:ext cx="890640" cy="946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684360" y="981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entury Schoolbook"/>
              </a:rPr>
              <a:t>И.п.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Century Schoolbook"/>
              </a:rPr>
              <a:t>какой-либо                           кое-к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755640" y="1628640"/>
            <a:ext cx="7777080" cy="34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entury Schoolbook"/>
              </a:rPr>
              <a:t>Р.п.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Century Schoolbook"/>
              </a:rPr>
              <a:t>какого-либо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</a:t>
            </a:r>
            <a:r>
              <a:rPr b="1" lang="ru-RU" sz="2800" spc="-1" strike="noStrike">
                <a:solidFill>
                  <a:srgbClr val="333399"/>
                </a:solidFill>
                <a:latin typeface="Century Schoolbook"/>
              </a:rPr>
              <a:t>   кое-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entury Schoolbook"/>
              </a:rPr>
              <a:t>Д.п. </a:t>
            </a:r>
            <a:r>
              <a:rPr b="1" lang="ru-RU" sz="2800" spc="-1" strike="noStrike">
                <a:solidFill>
                  <a:srgbClr val="333399"/>
                </a:solidFill>
                <a:latin typeface="Century Schoolbook"/>
              </a:rPr>
              <a:t>какому-либо                        кое-к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entury Schoolbook"/>
              </a:rPr>
              <a:t>В.п. </a:t>
            </a:r>
            <a:r>
              <a:rPr b="1" lang="ru-RU" sz="2800" spc="-1" strike="noStrike">
                <a:solidFill>
                  <a:srgbClr val="333399"/>
                </a:solidFill>
                <a:latin typeface="Century Schoolbook"/>
              </a:rPr>
              <a:t>какого-либо                         кое-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entury Schoolbook"/>
              </a:rPr>
              <a:t>Т.п. </a:t>
            </a:r>
            <a:r>
              <a:rPr b="1" lang="ru-RU" sz="2800" spc="-1" strike="noStrike">
                <a:solidFill>
                  <a:srgbClr val="333399"/>
                </a:solidFill>
                <a:latin typeface="Century Schoolbook"/>
              </a:rPr>
              <a:t>каким-либо                          кое-к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entury Schoolbook"/>
              </a:rPr>
              <a:t>П.п. </a:t>
            </a:r>
            <a:r>
              <a:rPr b="1" lang="ru-RU" sz="2800" spc="-1" strike="noStrike">
                <a:solidFill>
                  <a:srgbClr val="333399"/>
                </a:solidFill>
                <a:latin typeface="Century Schoolbook"/>
              </a:rPr>
              <a:t>каком-либо                          кое о ком</a:t>
            </a:r>
            <a:r>
              <a:rPr b="1" lang="ru-RU" sz="2800" spc="-1" strike="noStrike">
                <a:solidFill>
                  <a:srgbClr val="008000"/>
                </a:solidFill>
                <a:latin typeface="Century Schoolbook"/>
              </a:rPr>
              <a:t>      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>
            <a:hlinkClick r:id="" action="ppaction://hlinkshowjump?jump=nextslide"/>
          </p:cNvPr>
          <p:cNvSpPr/>
          <p:nvPr/>
        </p:nvSpPr>
        <p:spPr>
          <a:xfrm>
            <a:off x="8245440" y="6391440"/>
            <a:ext cx="898560" cy="466560"/>
          </a:xfrm>
          <a:custGeom>
            <a:avLst/>
            <a:gdLst>
              <a:gd name="textAreaLeft" fmla="*/ 30240 w 898560"/>
              <a:gd name="textAreaRight" fmla="*/ 868320 w 89856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1585" h="21600">
                <a:moveTo>
                  <a:pt x="0" y="0"/>
                </a:moveTo>
                <a:lnTo>
                  <a:pt x="41585" y="0"/>
                </a:lnTo>
                <a:lnTo>
                  <a:pt x="41585" y="21600"/>
                </a:lnTo>
                <a:lnTo>
                  <a:pt x="0" y="21600"/>
                </a:lnTo>
                <a:close/>
              </a:path>
              <a:path fill="lightenLess" w="41585" h="21600">
                <a:moveTo>
                  <a:pt x="0" y="0"/>
                </a:moveTo>
                <a:lnTo>
                  <a:pt x="41585" y="0"/>
                </a:lnTo>
                <a:lnTo>
                  <a:pt x="40185" y="1400"/>
                </a:lnTo>
                <a:lnTo>
                  <a:pt x="1400" y="1400"/>
                </a:lnTo>
                <a:close/>
              </a:path>
              <a:path fill="darken" w="41585" h="21600">
                <a:moveTo>
                  <a:pt x="41585" y="0"/>
                </a:moveTo>
                <a:lnTo>
                  <a:pt x="41585" y="21600"/>
                </a:lnTo>
                <a:lnTo>
                  <a:pt x="40185" y="20200"/>
                </a:lnTo>
                <a:lnTo>
                  <a:pt x="40185" y="1400"/>
                </a:lnTo>
                <a:close/>
              </a:path>
              <a:path fill="darkenLess" w="41585" h="21600">
                <a:moveTo>
                  <a:pt x="41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185" y="20200"/>
                </a:lnTo>
                <a:close/>
              </a:path>
              <a:path fill="lighten" w="41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585" h="21600">
                <a:moveTo>
                  <a:pt x="13786" y="3794"/>
                </a:moveTo>
                <a:lnTo>
                  <a:pt x="27799" y="10800"/>
                </a:lnTo>
                <a:lnTo>
                  <a:pt x="1378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4:31:08Z</dcterms:created>
  <dc:creator>User</dc:creator>
  <dc:description/>
  <dc:language>en-US</dc:language>
  <cp:lastModifiedBy>1</cp:lastModifiedBy>
  <dcterms:modified xsi:type="dcterms:W3CDTF">2016-03-11T06:09:10Z</dcterms:modified>
  <cp:revision>22</cp:revision>
  <dc:subject/>
  <dc:title>Слайд 1</dc:title>
</cp:coreProperties>
</file>