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8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57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24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5.png" ContentType="image/png"/>
  <Override PartName="/ppt/media/image18.jpeg" ContentType="image/jpeg"/>
  <Override PartName="/ppt/media/image49.jpeg" ContentType="image/jpeg"/>
  <Override PartName="/ppt/media/image4.png" ContentType="image/png"/>
  <Override PartName="/ppt/media/image16.png" ContentType="image/png"/>
  <Override PartName="/ppt/media/image20.jpeg" ContentType="image/jpeg"/>
  <Override PartName="/ppt/media/image67.jpeg" ContentType="image/jpeg"/>
  <Override PartName="/ppt/media/image21.png" ContentType="image/png"/>
  <Override PartName="/ppt/media/image70.jpeg" ContentType="image/jpeg"/>
  <Override PartName="/ppt/media/image35.png" ContentType="image/png"/>
  <Override PartName="/ppt/media/image65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71.png" ContentType="image/png"/>
  <Override PartName="/ppt/media/image69.jpeg" ContentType="image/jpeg"/>
  <Override PartName="/ppt/media/image25.jpeg" ContentType="image/jpeg"/>
  <Override PartName="/ppt/media/image68.jpeg" ContentType="image/jpeg"/>
  <Override PartName="/ppt/media/image19.jpeg" ContentType="image/jpeg"/>
  <Override PartName="/ppt/media/image63.jpeg" ContentType="image/jpeg"/>
  <Override PartName="/ppt/media/image17.jpeg" ContentType="image/jpeg"/>
  <Override PartName="/ppt/media/image26.png" ContentType="image/png"/>
  <Override PartName="/ppt/media/image61.jpeg" ContentType="image/jpeg"/>
  <Override PartName="/ppt/media/image13.jpeg" ContentType="image/jpeg"/>
  <Override PartName="/ppt/media/image40.jpeg" ContentType="image/jpeg"/>
  <Override PartName="/ppt/media/image64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8.jpeg" ContentType="image/jpeg"/>
  <Override PartName="/ppt/media/image72.png" ContentType="image/pn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42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41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85C1-3401-4C09-BD6C-8A455F4F3A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55B6-39F9-4C7A-90CF-603799A31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A02-5F62-4F7F-A509-462D01CF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9D9-02C6-4FB5-A2F0-34B468FF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647-286D-4CE8-9F4B-98084EE7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333-414D-4610-9571-6474A2CB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E77-8C4E-4DF3-92B1-6CD94AA5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F1C-3EC7-40AD-A41B-771D2814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D00-96EF-4FD8-88F6-9A513AC6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8B9-8A63-4E53-8E5C-EBB5489A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187-C955-4CDD-B732-27166180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6BD-E110-46CF-8A29-158706F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F6D-43C5-4175-A12D-AEEE31C1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469-3C28-424C-AA4A-AC834BF2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812F-B01E-4F26-A321-48380D655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72;&#1081;&#1083;:Vaccinium_vitis-idaea_flowers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8.jpe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8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Documents and Settings\Титенко Галина\Мои документы\Мои рисунки\Брусника 2.jpg"/>
          <p:cNvPicPr/>
          <p:nvPr/>
        </p:nvPicPr>
        <p:blipFill>
          <a:blip r:embed="rId1"/>
          <a:stretch/>
        </p:blipFill>
        <p:spPr>
          <a:xfrm>
            <a:off x="2143080" y="2214720"/>
            <a:ext cx="4411800" cy="4071960"/>
          </a:xfrm>
          <a:prstGeom prst="rect">
            <a:avLst/>
          </a:prstGeom>
          <a:ln w="0">
            <a:noFill/>
          </a:ln>
        </p:spPr>
      </p:pic>
      <p:sp>
        <p:nvSpPr>
          <p:cNvPr id="49" name="Горизонтальный свиток 5"/>
          <p:cNvSpPr/>
          <p:nvPr/>
        </p:nvSpPr>
        <p:spPr>
          <a:xfrm>
            <a:off x="500040" y="-142920"/>
            <a:ext cx="8286840" cy="2428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5050"/>
                </a:solidFill>
                <a:latin typeface="Calibri"/>
              </a:rPr>
              <a:t>Почему эту ягоду так назвали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Vaccinium vitis-idaea flower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43120" y="2214720"/>
            <a:ext cx="3500640" cy="3993840"/>
          </a:xfrm>
          <a:prstGeom prst="rect">
            <a:avLst/>
          </a:prstGeom>
          <a:ln w="0">
            <a:noFill/>
          </a:ln>
        </p:spPr>
      </p:pic>
      <p:pic>
        <p:nvPicPr>
          <p:cNvPr id="51" name="музыка ханты Журавль.mp3" descr=""/>
          <p:cNvPicPr/>
          <p:nvPr/>
        </p:nvPicPr>
        <p:blipFill>
          <a:blip r:embed="rId4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4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400"/>
                            </p:stCondLst>
                            <p:childTnLst>
                              <p:par>
                                <p:cTn id="1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4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одержимое 2"/>
          <p:cNvSpPr/>
          <p:nvPr/>
        </p:nvSpPr>
        <p:spPr>
          <a:xfrm>
            <a:off x="0" y="1143000"/>
            <a:ext cx="55008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спевает брусник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ли дни холодне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от птичьего кри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рдце только грустн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(В. Лунин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22.jpg"/>
          <p:cNvPicPr/>
          <p:nvPr/>
        </p:nvPicPr>
        <p:blipFill>
          <a:blip r:embed="rId1"/>
          <a:stretch/>
        </p:blipFill>
        <p:spPr>
          <a:xfrm>
            <a:off x="5214960" y="1785960"/>
            <a:ext cx="3379680" cy="357192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4" descr=""/>
          <p:cNvPicPr/>
          <p:nvPr/>
        </p:nvPicPr>
        <p:blipFill>
          <a:blip r:embed="rId2"/>
          <a:stretch/>
        </p:blipFill>
        <p:spPr>
          <a:xfrm>
            <a:off x="1494000" y="19080"/>
            <a:ext cx="6248160" cy="115092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571680" y="457200"/>
            <a:ext cx="4143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Спелая брусника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В побережной зоне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Бисером краснеет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На осеннем фоне.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Сыплется в ладони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Утренней прохладой,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Обжигает губы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Сладкою отрадо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</a:t>
            </a:r>
            <a:r>
              <a:rPr b="1" i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(Ю. Леонтьев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images.jpg"/>
          <p:cNvPicPr/>
          <p:nvPr/>
        </p:nvPicPr>
        <p:blipFill>
          <a:blip r:embed="rId1"/>
          <a:stretch/>
        </p:blipFill>
        <p:spPr>
          <a:xfrm>
            <a:off x="5214960" y="1500120"/>
            <a:ext cx="3095640" cy="411480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:\Documents and Settings\Титенко Галина\Мои документы\Мои рисунки\Брусника 2.jpg"/>
          <p:cNvPicPr/>
          <p:nvPr/>
        </p:nvPicPr>
        <p:blipFill>
          <a:blip r:embed="rId1"/>
          <a:stretch/>
        </p:blipFill>
        <p:spPr>
          <a:xfrm>
            <a:off x="5214960" y="1785960"/>
            <a:ext cx="3411360" cy="31496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357120" y="301680"/>
            <a:ext cx="4572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Arial"/>
                <a:ea typeface="Times New Roman"/>
              </a:rPr>
              <a:t>«Осен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певает брусни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и дни холодне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т птичьего кр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рдце стало грустне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и птиц улетаю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чь, за синее м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деревья блистаю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ноцветном убор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лнце реже сме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в цветах благовонь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 Осень просне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аплачет спросон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К.Бальмо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506520" y="1000080"/>
            <a:ext cx="4452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косновенье к ягоде божественн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 чувствую тепло и арома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ру бруснику в туесок торжественн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ой в моем роду живет обряд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ру я гроздья росные целебны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х, эти бы места навек сберечь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птицы боровые и небесные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 верю – этой думы слышат реч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грянцем светится брусника спела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русника словно изнутри гор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радости, для утреннего п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юют огонь брусники глухар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гда недели набегут метельн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гда придут холодные день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гонь брусники принесет спас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злой простуды, от лихой тос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(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Андрей Тарханов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RAL1YCAQ8BL8GCAJZWLP3CAE0UKWQCAW44VBTCACG07KICA96ZPJPCA41KV1KCALX8U0ECA6E7CVACAZ201C3CASC5E68CACWI0TBCAVRSKJ4CAOF9WDGCA3B6HCHCAWQ82T1CADVZ07NCALBEDY4CA4P8R0T.jpg"/>
          <p:cNvPicPr/>
          <p:nvPr/>
        </p:nvPicPr>
        <p:blipFill>
          <a:blip r:embed="rId1"/>
          <a:stretch/>
        </p:blipFill>
        <p:spPr>
          <a:xfrm>
            <a:off x="5429160" y="1285920"/>
            <a:ext cx="3183120" cy="1952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корзина.jpg"/>
          <p:cNvPicPr/>
          <p:nvPr/>
        </p:nvPicPr>
        <p:blipFill>
          <a:blip r:embed="rId2"/>
          <a:stretch/>
        </p:blipFill>
        <p:spPr>
          <a:xfrm>
            <a:off x="5572080" y="3929040"/>
            <a:ext cx="282564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3"/>
          <a:stretch/>
        </p:blipFill>
        <p:spPr>
          <a:xfrm>
            <a:off x="2286000" y="139680"/>
            <a:ext cx="4376880" cy="939960"/>
          </a:xfrm>
          <a:prstGeom prst="rect">
            <a:avLst/>
          </a:prstGeom>
          <a:ln w="0">
            <a:noFill/>
          </a:ln>
        </p:spPr>
      </p:pic>
      <p:pic>
        <p:nvPicPr>
          <p:cNvPr id="101" name="фон для презентации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5840" y="785880"/>
            <a:ext cx="45720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дной сказке злая женщина посылает зимой в лес маленькую девочку и приказывает ей принести свежих ягод. Добрый волшебник помогает девочке. Он совершает чудо, и девочка из-под снега достает свежие красные яго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чешь сам совершить такое чудо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заметь в лесу место, где растет брусника, а зимой раскопай здесь неглубокий снег. Ты найдешь под снегом веточки с маленькими жесткими блестящими листочками и ярко-красными ягодами. Брусника – вечнозеленое растение. Оно осенью не сбрасывает листья и под снегом остается зеленым. И ягодки под стать листочкам – ни мороз их не берет, ни снег им не страшен. Такие же красивые, как осенью, и такие же вкусные.</a:t>
            </a:r>
            <a:br>
              <a:rPr sz="1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4292280" y="60721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Calibri"/>
              </a:rPr>
              <a:t>Ю.Дмитри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D:\Documents and Settings\Титенко Галина\Мои документы\Мои рисунки\таежная ягода - брусника.jpg"/>
          <p:cNvPicPr/>
          <p:nvPr/>
        </p:nvPicPr>
        <p:blipFill>
          <a:blip r:embed="rId1"/>
          <a:stretch/>
        </p:blipFill>
        <p:spPr>
          <a:xfrm>
            <a:off x="5929200" y="428760"/>
            <a:ext cx="2473560" cy="27590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ягоды.jpg"/>
          <p:cNvPicPr/>
          <p:nvPr/>
        </p:nvPicPr>
        <p:blipFill>
          <a:blip r:embed="rId2"/>
          <a:stretch/>
        </p:blipFill>
        <p:spPr>
          <a:xfrm>
            <a:off x="6072120" y="378612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3"/>
          <a:stretch/>
        </p:blipFill>
        <p:spPr>
          <a:xfrm>
            <a:off x="3376440" y="182520"/>
            <a:ext cx="1762200" cy="70164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одержимое 2"/>
          <p:cNvSpPr/>
          <p:nvPr/>
        </p:nvSpPr>
        <p:spPr>
          <a:xfrm>
            <a:off x="285840" y="1305000"/>
            <a:ext cx="507204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0360" indent="-90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 почему это Солнышко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ой стороны ходи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ажите ему, пусть с обе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рон меня гре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чем, Брусничк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Да как же! Одна щечка у ме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сная, другая белая! С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А разве Солнышко виновато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ечно! Кому из нас лег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ернуться – то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(Э.Ши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плоды.jpg"/>
          <p:cNvPicPr/>
          <p:nvPr/>
        </p:nvPicPr>
        <p:blipFill>
          <a:blip r:embed="rId1"/>
          <a:stretch/>
        </p:blipFill>
        <p:spPr>
          <a:xfrm>
            <a:off x="5429160" y="1500120"/>
            <a:ext cx="2951280" cy="35974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2"/>
          <a:stretch/>
        </p:blipFill>
        <p:spPr>
          <a:xfrm>
            <a:off x="2828880" y="201600"/>
            <a:ext cx="2955960" cy="101124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" descr="NJP7ICASLE7VYCAFU4FGPCAN479TXCA48C0KSCAK2DSXWCAFCTDY8CA7UVNSQCACO2363CAXRDGU4CA7T5WBFCAFH5TW8CACTFXIXCADYVOQVCAUQOMQJCA14KZ64CA60PVD6CAYEHXCKCA7VZ1P2CABD7CUH.jpg"/>
          <p:cNvPicPr/>
          <p:nvPr/>
        </p:nvPicPr>
        <p:blipFill>
          <a:blip r:embed="rId1"/>
          <a:stretch/>
        </p:blipFill>
        <p:spPr>
          <a:xfrm>
            <a:off x="6005520" y="4143240"/>
            <a:ext cx="3138480" cy="2363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214200" y="38592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бору, у подножья елей, растёт брусника. Этот мелкий, не ветвистый полукустарничек выглядит всегда чистым и опрятным. Особенно когда он красив, кода на нём зарумянятся я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 Хорошо тебе, - с завистью сказал куст Орешника. – ты вечнозелёная. А мне придётся осенью листья сбрасы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 У меня тоже листья отпадают, - объяснила Брусника, - только постепенно, не все сраз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ст брусники твёрдый, кожистый, даже немного грубый. Сверху он гладкий и блестящий. Уже ранней весной, как только начинает сходить снег, в проталинках показываются веточки брусники с маленькими зелёными листочками. А позже на кустиках появляются бледно-розовые цветочки. Они похожи на маленькие колокольчики, собранные в небольшие кис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русника, брусёна, бруска - так ласково называют это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сной гостине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Из неё делают брусничные соки, сиропы, пастил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карамельные начинки, - начала перечислять усевшая 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ешник Сорока. – Везде вкусна ягодка из нашего бор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про брусничный морс и варенье забыла сказать, 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омнила зарумяненная ягод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Про них я уже и не говорю – пальчики оближешь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Вл.Зо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Прямоугольник 4" descr=""/>
          <p:cNvPicPr/>
          <p:nvPr/>
        </p:nvPicPr>
        <p:blipFill>
          <a:blip r:embed="rId2"/>
          <a:stretch/>
        </p:blipFill>
        <p:spPr>
          <a:xfrm>
            <a:off x="3041640" y="19080"/>
            <a:ext cx="2577960" cy="80964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8YFPUCAADVJG3CA8J103FCAU561CWCARWQM9BCAWN2NU2CAMLZR39CAXAKQPCCAH3HY34CAV2IPSGCA6ODKVYCAWJIQP6CAV82IJJCATQYU74CA8VD0I4CAC3C583CAJRXUS6CA42JII8CAA5W43DCARNSSA0.jpg"/>
          <p:cNvPicPr/>
          <p:nvPr/>
        </p:nvPicPr>
        <p:blipFill>
          <a:blip r:embed="rId1"/>
          <a:stretch/>
        </p:blipFill>
        <p:spPr>
          <a:xfrm>
            <a:off x="7072200" y="0"/>
            <a:ext cx="1920960" cy="2428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ONLHUCAUCTDHLCA8BZHBBCAQZ0236CAM20R74CAX3UO14CA8JJY73CAZLZKSJCAIZ58X0CAGC7T6YCATC1GV0CACQMBQJCAMWVBPCCAWIU1H2CAZOB5BQCAGXA3I9CAPJ1O22CA5M057ICA0PRT09CAUS6O18.jpg"/>
          <p:cNvPicPr/>
          <p:nvPr/>
        </p:nvPicPr>
        <p:blipFill>
          <a:blip r:embed="rId2"/>
          <a:stretch/>
        </p:blipFill>
        <p:spPr>
          <a:xfrm>
            <a:off x="7429680" y="3357720"/>
            <a:ext cx="1476360" cy="2528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RPD14CAWA8P7HCA0K2EACCAL1MZ6ECAXE8VRXCAWA3YRMCAYGSHEPCANXS1RMCAW2W3WHCAQPYWO1CAFBPF8MCA6HK1C0CAV1MKBZCAYAJ695CAMAJ7P5CAKZ61TACAVYH61ICAZND285CABY2ES4CATWLWE6.jpg"/>
          <p:cNvPicPr/>
          <p:nvPr/>
        </p:nvPicPr>
        <p:blipFill>
          <a:blip r:embed="rId3"/>
          <a:stretch/>
        </p:blipFill>
        <p:spPr>
          <a:xfrm>
            <a:off x="1643040" y="2286000"/>
            <a:ext cx="3083040" cy="2071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VS45CCAJI1ZUMCAG1B2MPCAPG59AZCAL68HUNCAZQT01MCAPRYCR9CA2BQTKWCA2F1A7XCA7W4AGFCALHUO1NCAT46I7ZCAJ6VELQCAIE7R8GCAUH8R4PCAJIS2GYCAI12NC7CAKJU34SCAV61XK6CAM16Q1J.jpg"/>
          <p:cNvPicPr/>
          <p:nvPr/>
        </p:nvPicPr>
        <p:blipFill>
          <a:blip r:embed="rId4"/>
          <a:stretch/>
        </p:blipFill>
        <p:spPr>
          <a:xfrm>
            <a:off x="5143680" y="1857240"/>
            <a:ext cx="1684080" cy="2428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G5S0KCAIZL4W8CA4MWYE8CA0WQH3LCA5ASW8SCAC3BRX5CA112OYLCADUBRKYCALCHALWCAOF1W24CAENEUC9CA1WELWTCAP9W3DDCANW0WHHCAYHQ9HPCAK7QJYLCAJ5OUKYCAQ03JR1CA7V06G9CAY7HNRG.jpg"/>
          <p:cNvPicPr/>
          <p:nvPr/>
        </p:nvPicPr>
        <p:blipFill>
          <a:blip r:embed="rId5"/>
          <a:stretch/>
        </p:blipFill>
        <p:spPr>
          <a:xfrm>
            <a:off x="285840" y="4500720"/>
            <a:ext cx="2071440" cy="207144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7" descr=""/>
          <p:cNvPicPr/>
          <p:nvPr/>
        </p:nvPicPr>
        <p:blipFill>
          <a:blip r:embed="rId6"/>
          <a:stretch/>
        </p:blipFill>
        <p:spPr>
          <a:xfrm>
            <a:off x="285840" y="12600"/>
            <a:ext cx="5413320" cy="2011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2811240" y="4714920"/>
            <a:ext cx="470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лечения мног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езней в медици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няют листья брус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edg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2" descr="EU0DOCA9ENWSFCAAQ4BJPCAG4901NCANU4TU0CA4VZQ0HCA7LX1HRCAT3695DCA3KFDCSCAI2V6INCA986WQCCAKYMHKACA0606Y0CADTJA3OCAU8FT1RCAVI13OQCABZ6UD8CABM7RKSCA59QJ46CA52AF42.jpg"/>
          <p:cNvPicPr/>
          <p:nvPr/>
        </p:nvPicPr>
        <p:blipFill>
          <a:blip r:embed="rId1"/>
          <a:stretch/>
        </p:blipFill>
        <p:spPr>
          <a:xfrm>
            <a:off x="642960" y="357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RAL1YCAQ8BL8GCAJZWLP3CAE0UKWQCAW44VBTCACG07KICA96ZPJPCA41KV1KCALX8U0ECA6E7CVACAZ201C3CASC5E68CACWI0TBCAVRSKJ4CAOF9WDGCA3B6HCHCAWQ82T1CADVZ07NCALBEDY4CA4P8R0T.jpg"/>
          <p:cNvPicPr/>
          <p:nvPr/>
        </p:nvPicPr>
        <p:blipFill>
          <a:blip r:embed="rId2"/>
          <a:stretch/>
        </p:blipFill>
        <p:spPr>
          <a:xfrm>
            <a:off x="4857840" y="285840"/>
            <a:ext cx="3929040" cy="24098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4" descr=""/>
          <p:cNvPicPr/>
          <p:nvPr/>
        </p:nvPicPr>
        <p:blipFill>
          <a:blip r:embed="rId3"/>
          <a:stretch/>
        </p:blipFill>
        <p:spPr>
          <a:xfrm>
            <a:off x="706320" y="2462040"/>
            <a:ext cx="7944120" cy="3652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9H6MGCAVVI9XCCARDL46KCA9DJZP1CAFIKSLDCAYEIIXZCAS0LC82CADFUQJCCADBMF21CAF3JCZJCAVGQ6S0CAI3AJZJCAMIUAH5CAC2EUHOCA8RGG8NCA9FEFZ2CAONDQZGCAJ2L309CAD8LBVGCAMFMTBO.jpg"/>
          <p:cNvPicPr/>
          <p:nvPr/>
        </p:nvPicPr>
        <p:blipFill>
          <a:blip r:embed="rId4"/>
          <a:stretch/>
        </p:blipFill>
        <p:spPr>
          <a:xfrm>
            <a:off x="285840" y="4606920"/>
            <a:ext cx="2643120" cy="2009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34CLPCATTJ8Z7CAJL1VFQCASRJW9YCALGDZHNCA3YW99QCABLW405CA26I2A9CAA0AS2LCABYXSW5CA09Q7NTCAKHBUTZCAZSDW5JCA1N1R09CA56NDYJCA4EJB2QCAD4NDTUCAN3VPHJCADSIFYMCAE2GRFE.jpg"/>
          <p:cNvPicPr/>
          <p:nvPr/>
        </p:nvPicPr>
        <p:blipFill>
          <a:blip r:embed="rId5"/>
          <a:stretch/>
        </p:blipFill>
        <p:spPr>
          <a:xfrm>
            <a:off x="7000920" y="4286160"/>
            <a:ext cx="1716120" cy="221472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23.jpg"/>
          <p:cNvPicPr/>
          <p:nvPr/>
        </p:nvPicPr>
        <p:blipFill>
          <a:blip r:embed="rId1"/>
          <a:stretch/>
        </p:blipFill>
        <p:spPr>
          <a:xfrm>
            <a:off x="7143840" y="0"/>
            <a:ext cx="1571400" cy="2151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3" descr="G9ZXICAH3TH85CAE46YX0CAL4YZGJCAVB69DSCAKIVY1QCAYFDZVNCA2ABXBTCAECD3TKCADEWSGGCAT3JFH3CA89DNKUCAY15W90CA0V46R9CAOFMB0RCAN044OOCA30VL7LCA41UV5ZCAQE4RRYCAF3GABJ.jpg"/>
          <p:cNvPicPr/>
          <p:nvPr/>
        </p:nvPicPr>
        <p:blipFill>
          <a:blip r:embed="rId2"/>
          <a:stretch/>
        </p:blipFill>
        <p:spPr>
          <a:xfrm>
            <a:off x="0" y="4286160"/>
            <a:ext cx="3071880" cy="25718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>
            <a:off x="1857240" y="714240"/>
            <a:ext cx="5572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Брусничные квасы, морсы, кисели, жел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и воспет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А. С. Пушкиным брусничная вода — отменные десерт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9" descr="десерт.jpg"/>
          <p:cNvPicPr/>
          <p:nvPr/>
        </p:nvPicPr>
        <p:blipFill>
          <a:blip r:embed="rId3"/>
          <a:stretch/>
        </p:blipFill>
        <p:spPr>
          <a:xfrm>
            <a:off x="285840" y="214200"/>
            <a:ext cx="2071440" cy="21211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0" descr="ягодка2.jpg"/>
          <p:cNvPicPr/>
          <p:nvPr/>
        </p:nvPicPr>
        <p:blipFill>
          <a:blip r:embed="rId4"/>
          <a:srcRect l="21395" t="0" r="0" b="0"/>
          <a:stretch/>
        </p:blipFill>
        <p:spPr>
          <a:xfrm>
            <a:off x="6253200" y="4397400"/>
            <a:ext cx="2890800" cy="24606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1" descr="JSC5QCA9IO1VGCA2835I1CA7TLRSUCAW3TYLHCARCTW99CACNGFNNCA7BX67ECAOOPSDTCATOJ7T6CAF0O74HCAAH33EACAFRW183CAZ9DF7WCADUT3TGCAUEQMIZCAF730IZCAQRO6M3CAB95DJSCA8J0M3J.jpg"/>
          <p:cNvPicPr/>
          <p:nvPr/>
        </p:nvPicPr>
        <p:blipFill>
          <a:blip r:embed="rId5"/>
          <a:srcRect l="26940" t="0" r="22177" b="0"/>
          <a:stretch/>
        </p:blipFill>
        <p:spPr>
          <a:xfrm>
            <a:off x="7500960" y="2286000"/>
            <a:ext cx="1214280" cy="1785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F6RVFCA8PT7AYCAE437BWCA7JAD4QCAVO34ENCA1EOKS0CAU65D2SCA3LBV4PCAYL7G95CA5ZMADICA7J2E1UCA4EWBQGCAKO9BH8CAMQHNH2CASGOS2UCAY50MZHCAHZUXFVCAX98ZA8CA1U63IACADZJ7PM.jpg"/>
          <p:cNvPicPr/>
          <p:nvPr/>
        </p:nvPicPr>
        <p:blipFill>
          <a:blip r:embed="rId6"/>
          <a:srcRect l="17857" t="0" r="17857" b="0"/>
          <a:stretch/>
        </p:blipFill>
        <p:spPr>
          <a:xfrm>
            <a:off x="4071960" y="4643280"/>
            <a:ext cx="1285920" cy="200196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учить литературу, в том числе и в сети Интернет  по данной проблем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Calibri"/>
              </a:rPr>
              <a:t>собрать и проанализировать информацию об этой ягод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Calibri"/>
              </a:rPr>
              <a:t>структурировать материа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Calibri"/>
              </a:rPr>
              <a:t>подготовить защиту исследовательской рабо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1"/>
          <a:stretch/>
        </p:blipFill>
        <p:spPr>
          <a:xfrm>
            <a:off x="-85680" y="73080"/>
            <a:ext cx="8004240" cy="14698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6" descr=""/>
          <p:cNvPicPr/>
          <p:nvPr/>
        </p:nvPicPr>
        <p:blipFill>
          <a:blip r:embed="rId2"/>
          <a:stretch/>
        </p:blipFill>
        <p:spPr>
          <a:xfrm>
            <a:off x="-73080" y="1359000"/>
            <a:ext cx="2779920" cy="93960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" descr="UXTKBCAPP4ED4CAYXNH98CATM7W51CAATMKJ3CAMJEXEVCA4FTHDUCAB1F1F8CA0DANDDCA47JG7DCAYZJ4J6CAQEAC1FCAQQKFADCAA6S900CA7E6VUUCAO3NK1PCA26MN3KCA2FYTI4CADO6L28CA7K6LA5.jpg"/>
          <p:cNvPicPr/>
          <p:nvPr/>
        </p:nvPicPr>
        <p:blipFill>
          <a:blip r:embed="rId1"/>
          <a:stretch/>
        </p:blipFill>
        <p:spPr>
          <a:xfrm>
            <a:off x="2643120" y="4286160"/>
            <a:ext cx="3714840" cy="23781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W13U1CARGRWECCAS0ZP8DCA3G7O1SCA6HV511CATEEJHKCAVBRWJ6CAA8GRV7CAFK8F3XCARF3WLKCAGF6I2LCAAXXERDCAGD8952CA207Z0JCA9BCZMLCA439ZEPCAIE8C9WCAUIA4BSCAKQX07UCA9SRSB4.jpg"/>
          <p:cNvPicPr/>
          <p:nvPr/>
        </p:nvPicPr>
        <p:blipFill>
          <a:blip r:embed="rId2"/>
          <a:stretch/>
        </p:blipFill>
        <p:spPr>
          <a:xfrm rot="20377800">
            <a:off x="487440" y="2125440"/>
            <a:ext cx="4086000" cy="27144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U7TOXCAPBHP05CA1D7TJ2CA4E1AR5CA9IKV3VCAL89JTECAI6GGIYCAKH5BQACAK8ORQ8CA4363AJCA5GH85ECA2RBYD8CA17BXHXCAS1MI6ICA0HO8XICAT1Z11UCANZA2BSCA4QYJDECAII8RN7CAYBSUIS.jpg"/>
          <p:cNvPicPr/>
          <p:nvPr/>
        </p:nvPicPr>
        <p:blipFill>
          <a:blip r:embed="rId3"/>
          <a:stretch/>
        </p:blipFill>
        <p:spPr>
          <a:xfrm rot="2207400">
            <a:off x="5354640" y="2557080"/>
            <a:ext cx="3387600" cy="2548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7"/>
          <p:cNvSpPr/>
          <p:nvPr/>
        </p:nvSpPr>
        <p:spPr>
          <a:xfrm>
            <a:off x="285840" y="21420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alibri"/>
              </a:rPr>
              <a:t>Варенье из брусники с грушами, яблоками или айвой необыкновенно вкусно. Моченую бруснику подают как гарнир к дичи и домашней птице — курице, утке, индейке. Хороша она и к мясу диких животн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edg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2" descr="6FYHOCAJS2LX7CAK9ICNJCACOADY2CAF08LJGCAHRPDLSCAK6KU2FCAEKMJAYCAN2S9W4CAUYL7J5CADWE6NKCA4BRO0OCA70KIA0CAHJQHKACAGCTABUCAD3ZEQKCAR1GJ5WCAQ976CHCATBEBBNCA8P9XU3.jpg"/>
          <p:cNvPicPr/>
          <p:nvPr/>
        </p:nvPicPr>
        <p:blipFill>
          <a:blip r:embed="rId1"/>
          <a:srcRect l="21622" t="0" r="21622" b="0"/>
          <a:stretch/>
        </p:blipFill>
        <p:spPr>
          <a:xfrm>
            <a:off x="5857920" y="2643120"/>
            <a:ext cx="1695240" cy="40006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ZSUE9CAF7W1O5CAFNPY0KCAUMIXMYCA0DZN9LCAK644NZCAIKSAAOCABAQW4DCAQAVZ8MCAKFU66UCA1L5J4PCAGJ6KCUCA91WFIOCA1VTRR3CAD8ZJGCCADHA39ZCAZYAMPCCATJEKUKCAGH8942CAS00430.jpg"/>
          <p:cNvPicPr/>
          <p:nvPr/>
        </p:nvPicPr>
        <p:blipFill>
          <a:blip r:embed="rId2"/>
          <a:srcRect l="15673" t="0" r="13870" b="0"/>
          <a:stretch/>
        </p:blipFill>
        <p:spPr>
          <a:xfrm>
            <a:off x="1785960" y="3071880"/>
            <a:ext cx="2144520" cy="3214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4" descr=""/>
          <p:cNvPicPr/>
          <p:nvPr/>
        </p:nvPicPr>
        <p:blipFill>
          <a:blip r:embed="rId3"/>
          <a:stretch/>
        </p:blipFill>
        <p:spPr>
          <a:xfrm>
            <a:off x="853920" y="152280"/>
            <a:ext cx="7436160" cy="208440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9DWFHCA46VCG9CA2J7UWGCAOA0U3JCACARWTJCACR5TF8CA99VCKCCASDPIZ7CAFQ9OZ7CAHPJXN2CAWZYHKSCAZSV69DCA2I1XFVCA3C79R6CACOGOO1CA6IALNMCAKPZSHWCAOMIPSMCA54HYG8CA3DJ8VE.jpg"/>
          <p:cNvPicPr/>
          <p:nvPr/>
        </p:nvPicPr>
        <p:blipFill>
          <a:blip r:embed="rId1"/>
          <a:stretch/>
        </p:blipFill>
        <p:spPr>
          <a:xfrm>
            <a:off x="285840" y="4143240"/>
            <a:ext cx="3684600" cy="25545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FJ8XQCADPSF2DCAX49NKNCA3V8Z4MCA0YEGA4CAIB1F6OCAUURFH5CA20APP9CACC0H36CATQLTRECA4SO53CCAVP7H3NCA4OGAQ1CA68ZH8QCA8BYYD7CAO597Z1CASZAE2NCAWHKOXBCAH24VCJCA5LU1ZH.jpg"/>
          <p:cNvPicPr/>
          <p:nvPr/>
        </p:nvPicPr>
        <p:blipFill>
          <a:blip r:embed="rId2"/>
          <a:stretch/>
        </p:blipFill>
        <p:spPr>
          <a:xfrm>
            <a:off x="4786200" y="285840"/>
            <a:ext cx="4127760" cy="28335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брусника Фомин Н..jpg"/>
          <p:cNvPicPr/>
          <p:nvPr/>
        </p:nvPicPr>
        <p:blipFill>
          <a:blip r:embed="rId3"/>
          <a:srcRect l="0" t="0" r="7690" b="9156"/>
          <a:stretch/>
        </p:blipFill>
        <p:spPr>
          <a:xfrm>
            <a:off x="2071800" y="1785960"/>
            <a:ext cx="4572000" cy="30718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4375440" y="5214960"/>
            <a:ext cx="355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Фомин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 Н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19840" y="285840"/>
            <a:ext cx="372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Живопись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edg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Зорина Елена Брусника.jpg"/>
          <p:cNvPicPr/>
          <p:nvPr/>
        </p:nvPicPr>
        <p:blipFill>
          <a:blip r:embed="rId1"/>
          <a:stretch/>
        </p:blipFill>
        <p:spPr>
          <a:xfrm>
            <a:off x="2857680" y="357120"/>
            <a:ext cx="3187440" cy="4143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1381680" y="4714920"/>
            <a:ext cx="676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Зорина Елена  «Брусника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2009 го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edg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1II25CANYXED1CABWMHLJCAYSW5IXCACB48VMCAOIKLTMCALRZ34ZCABAIJU2CA2CC5QQCAT84GPVCANDX58WCA5PVHP1CA5CHSAZCAWHFOAPCAFRKD2VCA4FTIT5CAGO487NCA9LNSL0CA336140CA1L4Z98.jpg"/>
          <p:cNvPicPr/>
          <p:nvPr/>
        </p:nvPicPr>
        <p:blipFill>
          <a:blip r:embed="rId1"/>
          <a:stretch/>
        </p:blipFill>
        <p:spPr>
          <a:xfrm rot="2194800">
            <a:off x="119160" y="844560"/>
            <a:ext cx="37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33069679_brusnika.jpg"/>
          <p:cNvPicPr/>
          <p:nvPr/>
        </p:nvPicPr>
        <p:blipFill>
          <a:blip r:embed="rId2"/>
          <a:stretch/>
        </p:blipFill>
        <p:spPr>
          <a:xfrm rot="19128000">
            <a:off x="5356080" y="750600"/>
            <a:ext cx="3302280" cy="27162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5RLGHCAI3LP73CAYNNEZ4CA6C15M2CASHCCT1CAR7Q0JFCAS5ZD5YCAFEAT88CAM1VSZ8CAYJ4NF3CAG8I3N0CA3K8U86CA0QQGH6CAUZB4WPCAWX0XF9CA3MDMOACAG83BRXCAKGMLR9CAV435V3CAJCLRKL.jpg"/>
          <p:cNvPicPr/>
          <p:nvPr/>
        </p:nvPicPr>
        <p:blipFill>
          <a:blip r:embed="rId3"/>
          <a:stretch/>
        </p:blipFill>
        <p:spPr>
          <a:xfrm>
            <a:off x="2571840" y="3357720"/>
            <a:ext cx="4116240" cy="3071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2864520" y="285840"/>
            <a:ext cx="332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Украшени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Изображение_007.jpg"/>
          <p:cNvPicPr/>
          <p:nvPr/>
        </p:nvPicPr>
        <p:blipFill>
          <a:blip r:embed="rId1"/>
          <a:stretch/>
        </p:blipFill>
        <p:spPr>
          <a:xfrm>
            <a:off x="928800" y="642960"/>
            <a:ext cx="7334280" cy="5500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298800" y="5643720"/>
            <a:ext cx="857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Calibri"/>
              </a:rPr>
              <a:t>Женское ожерелье «Брусник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edg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D:\Documents and Settings\Титенко Галина\Мои документы\Мои рисунки\Брусника 9.jpg"/>
          <p:cNvPicPr/>
          <p:nvPr/>
        </p:nvPicPr>
        <p:blipFill>
          <a:blip r:embed="rId1"/>
          <a:stretch/>
        </p:blipFill>
        <p:spPr>
          <a:xfrm>
            <a:off x="3143160" y="214200"/>
            <a:ext cx="2857680" cy="1733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D:\Documents and Settings\Титенко Галина\Мои документы\Мои рисунки\Брусника 9.jpg"/>
          <p:cNvPicPr/>
          <p:nvPr/>
        </p:nvPicPr>
        <p:blipFill>
          <a:blip r:embed="rId2"/>
          <a:stretch/>
        </p:blipFill>
        <p:spPr>
          <a:xfrm>
            <a:off x="357120" y="214200"/>
            <a:ext cx="2857680" cy="1733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:\Documents and Settings\Титенко Галина\Мои документы\Мои рисунки\Брусника 9.jpg"/>
          <p:cNvPicPr/>
          <p:nvPr/>
        </p:nvPicPr>
        <p:blipFill>
          <a:blip r:embed="rId3"/>
          <a:stretch/>
        </p:blipFill>
        <p:spPr>
          <a:xfrm>
            <a:off x="5929200" y="214200"/>
            <a:ext cx="2857680" cy="1733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JA4K6CAWBU96DCAVNYJ7OCAQ9DWTXCA16WVDNCADZXQ9WCAOGPO1XCA3B6BYFCA1654XCCAQAXXA5CAP203DICATIRZ70CA24EW24CA4XJ3SJCACRWS12CA7X9ACECAQCGVFXCAN28LFFCA85ORTMCA53IMES.jpg"/>
          <p:cNvPicPr/>
          <p:nvPr/>
        </p:nvPicPr>
        <p:blipFill>
          <a:blip r:embed="rId4"/>
          <a:stretch/>
        </p:blipFill>
        <p:spPr>
          <a:xfrm>
            <a:off x="500040" y="4071960"/>
            <a:ext cx="3786120" cy="2577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урожай.jpg"/>
          <p:cNvPicPr/>
          <p:nvPr/>
        </p:nvPicPr>
        <p:blipFill>
          <a:blip r:embed="rId5"/>
          <a:stretch/>
        </p:blipFill>
        <p:spPr>
          <a:xfrm>
            <a:off x="4857840" y="4071960"/>
            <a:ext cx="3786120" cy="253044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6" descr=""/>
          <p:cNvPicPr/>
          <p:nvPr/>
        </p:nvPicPr>
        <p:blipFill>
          <a:blip r:embed="rId6"/>
          <a:stretch/>
        </p:blipFill>
        <p:spPr>
          <a:xfrm>
            <a:off x="914400" y="2077920"/>
            <a:ext cx="7205760" cy="201312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Прямоугольник 1" descr=""/>
          <p:cNvPicPr/>
          <p:nvPr/>
        </p:nvPicPr>
        <p:blipFill>
          <a:blip r:embed="rId1"/>
          <a:stretch/>
        </p:blipFill>
        <p:spPr>
          <a:xfrm>
            <a:off x="993600" y="560520"/>
            <a:ext cx="7504200" cy="496872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7" descr=""/>
          <p:cNvPicPr/>
          <p:nvPr/>
        </p:nvPicPr>
        <p:blipFill>
          <a:blip r:embed="rId1"/>
          <a:stretch/>
        </p:blipFill>
        <p:spPr>
          <a:xfrm>
            <a:off x="-19080" y="103320"/>
            <a:ext cx="7596360" cy="12618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8" descr=""/>
          <p:cNvPicPr/>
          <p:nvPr/>
        </p:nvPicPr>
        <p:blipFill>
          <a:blip r:embed="rId2"/>
          <a:stretch/>
        </p:blipFill>
        <p:spPr>
          <a:xfrm>
            <a:off x="55440" y="1170000"/>
            <a:ext cx="7809120" cy="17557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9" descr=""/>
          <p:cNvPicPr/>
          <p:nvPr/>
        </p:nvPicPr>
        <p:blipFill>
          <a:blip r:embed="rId3"/>
          <a:stretch/>
        </p:blipFill>
        <p:spPr>
          <a:xfrm>
            <a:off x="-19080" y="2743200"/>
            <a:ext cx="8881920" cy="12621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0" descr=""/>
          <p:cNvPicPr/>
          <p:nvPr/>
        </p:nvPicPr>
        <p:blipFill>
          <a:blip r:embed="rId4"/>
          <a:stretch/>
        </p:blipFill>
        <p:spPr>
          <a:xfrm>
            <a:off x="-19080" y="3889440"/>
            <a:ext cx="8955000" cy="273060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черники.jpg"/>
          <p:cNvPicPr/>
          <p:nvPr/>
        </p:nvPicPr>
        <p:blipFill>
          <a:blip r:embed="rId1"/>
          <a:stretch/>
        </p:blipFill>
        <p:spPr>
          <a:xfrm>
            <a:off x="1000080" y="407196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голубика.jpg"/>
          <p:cNvPicPr/>
          <p:nvPr/>
        </p:nvPicPr>
        <p:blipFill>
          <a:blip r:embed="rId2"/>
          <a:stretch/>
        </p:blipFill>
        <p:spPr>
          <a:xfrm>
            <a:off x="5929200" y="4143240"/>
            <a:ext cx="2286000" cy="2195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куст.jpg"/>
          <p:cNvPicPr/>
          <p:nvPr/>
        </p:nvPicPr>
        <p:blipFill>
          <a:blip r:embed="rId3"/>
          <a:stretch/>
        </p:blipFill>
        <p:spPr>
          <a:xfrm>
            <a:off x="3500280" y="3857760"/>
            <a:ext cx="2257560" cy="222084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285840" y="214200"/>
            <a:ext cx="86439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Брусника -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Vaccinium vitis-idaea)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устарничек семейства брусничны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(или семейства вересковых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           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Брусничник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– родовое им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низ 11"/>
          <p:cNvSpPr/>
          <p:nvPr/>
        </p:nvSpPr>
        <p:spPr>
          <a:xfrm>
            <a:off x="4357800" y="2714760"/>
            <a:ext cx="571320" cy="10713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Выгнутая влево стрелка 15"/>
          <p:cNvSpPr/>
          <p:nvPr/>
        </p:nvSpPr>
        <p:spPr>
          <a:xfrm rot="1093200">
            <a:off x="269640" y="2331720"/>
            <a:ext cx="1209600" cy="2836800"/>
          </a:xfrm>
          <a:custGeom>
            <a:avLst/>
            <a:gdLst>
              <a:gd name="textAreaLeft" fmla="*/ 162000 w 1209600"/>
              <a:gd name="textAreaRight" fmla="*/ 1047600 w 1209600"/>
              <a:gd name="textAreaTop" fmla="*/ 578880 h 2836800"/>
              <a:gd name="textAreaBottom" fmla="*/ 2174400 h 28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7" stAng="-5400000" swAng="-5400000"/>
                <a:lnTo>
                  <a:pt x="0" y="12146"/>
                </a:lnTo>
                <a:arcTo wR="21600" hR="8817" stAng="10800000" swAng="-2075923"/>
                <a:lnTo>
                  <a:pt x="10600" y="20371"/>
                </a:lnTo>
                <a:lnTo>
                  <a:pt x="21600" y="19299"/>
                </a:lnTo>
                <a:lnTo>
                  <a:pt x="10600" y="15768"/>
                </a:lnTo>
                <a:lnTo>
                  <a:pt x="10600" y="16405"/>
                </a:lnTo>
                <a:arcTo wR="21600" hR="8817" stAng="8724077" swAng="1806710"/>
                <a:lnTo>
                  <a:pt x="388" y="10482"/>
                </a:lnTo>
                <a:arcTo wR="21600" hR="8817" stAng="-10530788" swAng="5130788"/>
                <a:close/>
              </a:path>
              <a:path fill="darkenLess" w="21600" h="21600">
                <a:moveTo>
                  <a:pt x="21600" y="0"/>
                </a:moveTo>
                <a:arcTo wR="21600" hR="8817" stAng="-5400000" swAng="-5400000"/>
                <a:lnTo>
                  <a:pt x="0" y="8817"/>
                </a:lnTo>
                <a:arcTo wR="21600" hR="8817" stAng="10800000" swAng="-269212"/>
                <a:lnTo>
                  <a:pt x="388" y="10482"/>
                </a:lnTo>
                <a:arcTo wR="21600" hR="8817" stAng="-10530788" swAng="5130788"/>
                <a:close/>
              </a:path>
            </a:pathLst>
          </a:cu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Выгнутая влево стрелка 16"/>
          <p:cNvSpPr/>
          <p:nvPr/>
        </p:nvSpPr>
        <p:spPr>
          <a:xfrm flipH="1" rot="20506800">
            <a:off x="7770600" y="2260080"/>
            <a:ext cx="1209960" cy="2836800"/>
          </a:xfrm>
          <a:custGeom>
            <a:avLst/>
            <a:gdLst>
              <a:gd name="textAreaLeft" fmla="*/ 162000 w 1209960"/>
              <a:gd name="textAreaRight" fmla="*/ 1047960 w 1209960"/>
              <a:gd name="textAreaTop" fmla="*/ 578880 h 2836800"/>
              <a:gd name="textAreaBottom" fmla="*/ 2174400 h 28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7" stAng="-5400000" swAng="-5400000"/>
                <a:lnTo>
                  <a:pt x="0" y="12146"/>
                </a:lnTo>
                <a:arcTo wR="21600" hR="8817" stAng="10800000" swAng="-2075923"/>
                <a:lnTo>
                  <a:pt x="10600" y="20371"/>
                </a:lnTo>
                <a:lnTo>
                  <a:pt x="21600" y="19299"/>
                </a:lnTo>
                <a:lnTo>
                  <a:pt x="10600" y="15768"/>
                </a:lnTo>
                <a:lnTo>
                  <a:pt x="10600" y="16405"/>
                </a:lnTo>
                <a:arcTo wR="21600" hR="8817" stAng="8724077" swAng="1806710"/>
                <a:lnTo>
                  <a:pt x="388" y="10482"/>
                </a:lnTo>
                <a:arcTo wR="21600" hR="8817" stAng="-10530788" swAng="5130788"/>
                <a:close/>
              </a:path>
              <a:path fill="darkenLess" w="21600" h="21600">
                <a:moveTo>
                  <a:pt x="21600" y="0"/>
                </a:moveTo>
                <a:arcTo wR="21600" hR="8817" stAng="-5400000" swAng="-5400000"/>
                <a:lnTo>
                  <a:pt x="0" y="8817"/>
                </a:lnTo>
                <a:arcTo wR="21600" hR="8817" stAng="10800000" swAng="-269212"/>
                <a:lnTo>
                  <a:pt x="388" y="10482"/>
                </a:lnTo>
                <a:arcTo wR="21600" hR="8817" stAng="-10530788" swAng="5130788"/>
                <a:close/>
              </a:path>
            </a:pathLst>
          </a:cu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1214280" y="335772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Чер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6000840" y="34290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Голуб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3500280" y="60008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Брус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музыка ханты Журавль.mp3" descr=""/>
          <p:cNvPicPr/>
          <p:nvPr/>
        </p:nvPicPr>
        <p:blipFill>
          <a:blip r:embed="rId4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Брусника (Vaccinium vitis-idaea)"/>
          <p:cNvPicPr/>
          <p:nvPr/>
        </p:nvPicPr>
        <p:blipFill>
          <a:blip r:embed="rId1"/>
          <a:stretch/>
        </p:blipFill>
        <p:spPr>
          <a:xfrm>
            <a:off x="357120" y="1000080"/>
            <a:ext cx="3357720" cy="4938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Wikispecies-logo.svg"/>
          <p:cNvPicPr/>
          <p:nvPr/>
        </p:nvPicPr>
        <p:blipFill>
          <a:blip r:embed="rId2"/>
          <a:stretch/>
        </p:blipFill>
        <p:spPr>
          <a:xfrm>
            <a:off x="0" y="0"/>
            <a:ext cx="162000" cy="190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Commons-logo.svg"/>
          <p:cNvPicPr/>
          <p:nvPr/>
        </p:nvPicPr>
        <p:blipFill>
          <a:blip r:embed="rId3"/>
          <a:stretch/>
        </p:blipFill>
        <p:spPr>
          <a:xfrm>
            <a:off x="0" y="0"/>
            <a:ext cx="142920" cy="190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3857760" y="159840"/>
            <a:ext cx="48574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тики брусники, побеги которой иногда должны прокладывать себе дорогу в гнилом пне между корой и древесиной, могут достигать в длину одного метра, между тем как растущие рядом на земле имеют обычно высоту от 8 до 15 с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e1e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e1e1e"/>
                </a:solidFill>
                <a:latin typeface="Times New Roman"/>
                <a:ea typeface="Times New Roman"/>
              </a:rPr>
              <a:t>Распространена брусника чрезвычайно широко: в сосновых, лиственничных, темнохвойных и смешанных лесах Европейской части России, а также по всей лесной зоне Сибири, гольцовой зоне горных районов и в арктических тундрах. В отдельные годы урожайность растения колеблется от 100 до более чем 1000 кг с 1 гектара. Иногда ягод настолько много, что за человеком, идущим по брусничнику, тянется ярко-красный сле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V5JLACAN16PFGCA22HM7TCAG2AJE8CA72MX10CAOGU6WGCAX71BBQCAW6NLVBCAMERCXRCA3DEUPYCAPUHAWZCA43OH21CAUDL86XCASYLEEFCA6UJEPSCAO7L1DBCAGNHCI6CA9E8SIHCAVDL5BTCAWS1XMQ.jpg"/>
          <p:cNvPicPr/>
          <p:nvPr/>
        </p:nvPicPr>
        <p:blipFill>
          <a:blip r:embed="rId1"/>
          <a:stretch/>
        </p:blipFill>
        <p:spPr>
          <a:xfrm>
            <a:off x="5429160" y="571680"/>
            <a:ext cx="3444840" cy="2571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XIVFSCAKNRLPGCA34X4BQCA13WR51CARI22PMCAZUEKXWCA6T0Y9UCAXFJ5DKCAX84CBGCA1WMIB5CA0NBYGOCARF9FOICA17RNVNCAHDZGMHCA20RH3RCA16TY3TCAHF0S6TCASCVB3NCA4NQOPWCADRLJEO.jpg"/>
          <p:cNvPicPr/>
          <p:nvPr/>
        </p:nvPicPr>
        <p:blipFill>
          <a:blip r:embed="rId2"/>
          <a:stretch/>
        </p:blipFill>
        <p:spPr>
          <a:xfrm>
            <a:off x="714240" y="3929040"/>
            <a:ext cx="3500640" cy="2341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214200" y="214200"/>
            <a:ext cx="5572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овое название vitis-idaea в переводе собственно означает — «виноградная лоза с горы Ида» (остров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Кри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. Название vitis-idaea для брусники впервые приводится у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одонэуса и Геснера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тичные писатели бруснику не упомин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4572000" y="400068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латинского языка в дословном переводе на русский язык означает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троянский (фригийский) виногра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642960"/>
            <a:ext cx="4214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1964 году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ССР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ыла выпущена почтовая марка с изображением брусни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0" descr="Soviet Union stamp 1964 CPA 3136.jpg"/>
          <p:cNvPicPr/>
          <p:nvPr/>
        </p:nvPicPr>
        <p:blipFill>
          <a:blip r:embed="rId1"/>
          <a:stretch/>
        </p:blipFill>
        <p:spPr>
          <a:xfrm>
            <a:off x="5143680" y="1214280"/>
            <a:ext cx="2925720" cy="414360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3071880" y="78588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D:\Documents and Settings\Титенко Галина\Мои документы\Мои рисунки\Брусника.jpg"/>
          <p:cNvPicPr/>
          <p:nvPr/>
        </p:nvPicPr>
        <p:blipFill>
          <a:blip r:embed="rId1"/>
          <a:stretch/>
        </p:blipFill>
        <p:spPr>
          <a:xfrm>
            <a:off x="571680" y="1571760"/>
            <a:ext cx="3213000" cy="47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4214880" y="21430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Calibri"/>
              </a:rPr>
              <a:t>Моя загадка – эй!</a:t>
            </a:r>
            <a:br>
              <a:rPr sz="2800"/>
            </a:br>
            <a:r>
              <a:rPr b="1" lang="ru-RU" sz="2800" spc="-1" strike="noStrike">
                <a:solidFill>
                  <a:srgbClr val="1e1c11"/>
                </a:solidFill>
                <a:latin typeface="Calibri"/>
              </a:rPr>
              <a:t>В лесной неведомой глухомани,</a:t>
            </a:r>
            <a:br>
              <a:rPr sz="2800"/>
            </a:br>
            <a:r>
              <a:rPr b="1" lang="ru-RU" sz="2800" spc="-1" strike="noStrike">
                <a:solidFill>
                  <a:srgbClr val="1e1c11"/>
                </a:solidFill>
                <a:latin typeface="Calibri"/>
              </a:rPr>
              <a:t>В дальнем краю висят маленькие серебряные лыжи.</a:t>
            </a:r>
            <a:br>
              <a:rPr sz="2800"/>
            </a:br>
            <a:r>
              <a:rPr b="1" lang="ru-RU" sz="2800" spc="-1" strike="noStrike">
                <a:solidFill>
                  <a:srgbClr val="1e1c11"/>
                </a:solidFill>
                <a:latin typeface="Calibri"/>
              </a:rPr>
              <a:t>- Отгадайте, что это?</a:t>
            </a:r>
            <a:br>
              <a:rPr sz="2800"/>
            </a:br>
            <a:r>
              <a:rPr b="1" lang="ru-RU" sz="2800" spc="-1" strike="noStrike">
                <a:solidFill>
                  <a:srgbClr val="1e1c11"/>
                </a:solidFill>
                <a:latin typeface="Calibri"/>
              </a:rPr>
              <a:t>- Это листочки брусн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Прямоугольник 5" descr=""/>
          <p:cNvPicPr/>
          <p:nvPr/>
        </p:nvPicPr>
        <p:blipFill>
          <a:blip r:embed="rId2"/>
          <a:stretch/>
        </p:blipFill>
        <p:spPr>
          <a:xfrm>
            <a:off x="1133640" y="158760"/>
            <a:ext cx="7211880" cy="115236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D:\Documents and Settings\Титенко Галина\Мои документы\Мои рисунки\Брусника 1.jpg"/>
          <p:cNvPicPr/>
          <p:nvPr/>
        </p:nvPicPr>
        <p:blipFill>
          <a:blip r:embed="rId1"/>
          <a:stretch/>
        </p:blipFill>
        <p:spPr>
          <a:xfrm>
            <a:off x="4714920" y="1714680"/>
            <a:ext cx="4218120" cy="3881160"/>
          </a:xfrm>
          <a:prstGeom prst="rect">
            <a:avLst/>
          </a:prstGeom>
          <a:ln w="0">
            <a:noFill/>
          </a:ln>
        </p:spPr>
      </p:pic>
      <p:sp>
        <p:nvSpPr>
          <p:cNvPr id="85" name="Содержимое 2"/>
          <p:cNvSpPr/>
          <p:nvPr/>
        </p:nvSpPr>
        <p:spPr>
          <a:xfrm>
            <a:off x="0" y="1714680"/>
            <a:ext cx="4643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Листья с глянцем,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Ягодка с румянцем,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 сами листочки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Не больше кочки.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рямоугольник 4" descr=""/>
          <p:cNvPicPr/>
          <p:nvPr/>
        </p:nvPicPr>
        <p:blipFill>
          <a:blip r:embed="rId2"/>
          <a:stretch/>
        </p:blipFill>
        <p:spPr>
          <a:xfrm>
            <a:off x="-12600" y="347760"/>
            <a:ext cx="5138640" cy="10112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5" descr=""/>
          <p:cNvPicPr/>
          <p:nvPr/>
        </p:nvPicPr>
        <p:blipFill>
          <a:blip r:embed="rId3"/>
          <a:stretch/>
        </p:blipFill>
        <p:spPr>
          <a:xfrm>
            <a:off x="-60480" y="3713040"/>
            <a:ext cx="4821480" cy="938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0" y="5000760"/>
            <a:ext cx="5072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Брусничины покраснели –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и овсы поспели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фон для презентации.mp3" descr=""/>
          <p:cNvPicPr/>
          <p:nvPr/>
        </p:nvPicPr>
        <p:blipFill>
          <a:blip r:embed="rId4"/>
          <a:stretch/>
        </p:blipFill>
        <p:spPr>
          <a:xfrm>
            <a:off x="8643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32:26Z</dcterms:created>
  <dc:creator>Admin</dc:creator>
  <dc:description/>
  <dc:language>en-US</dc:language>
  <cp:lastModifiedBy>Татьяна</cp:lastModifiedBy>
  <dcterms:modified xsi:type="dcterms:W3CDTF">2011-02-03T07:36:21Z</dcterms:modified>
  <cp:revision>73</cp:revision>
  <dc:subject/>
  <dc:title>Слайд 1</dc:title>
</cp:coreProperties>
</file>