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media/image12.jpeg" ContentType="image/jpeg"/>
  <Override PartName="/ppt/media/image10.gif" ContentType="image/gif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5032-CBF7-42C6-B194-CD6F61202B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B04-046C-4D76-800C-BB0C92065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9E6-551B-4EB5-8C66-EE986EC6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E6B-A852-424B-AD67-9FCCF534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2AE-09CE-4269-9E97-B55CD77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931-57C9-4CA9-87C7-4D10650A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1EF4-065B-413E-A6BE-5D0714EB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FA23-1372-443F-9F4E-0F378BE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265A-194D-4654-AE88-4BDC30A3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5DA9-D0E7-49EF-944D-E8AE9CD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05F-E86B-44F2-82E1-6B3BA1B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89F-CC77-4CFB-A4C2-766AFBB6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F92-C560-4F7F-B2FF-19BD5D0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261-0C24-41B8-B14A-0CBFF8E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2F0-5D05-44B8-BE86-26CBA01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BE0-95C6-4E43-B9AA-6AB58E2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6C1-AC4A-41FF-AE04-C1E09CE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AAF-5AE1-4FE6-A51F-E95A2045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47AC-C7F1-43CC-9B61-DC5CF01A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1E6C-016D-4604-9A16-38005AB5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A44B-99EB-4247-B1A5-BFAB261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EFAE-8F6A-4FDE-B438-1B4B58F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2022-A7A7-40B0-AF71-68C84C9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6E58-9D94-42FF-9B0B-06276B3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F48-7D4D-4BBE-BE68-8CB67B7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066B-35F6-47B8-8088-A7F669A4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9B22-3BF1-4130-A25F-1A116AC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E168-A6F5-4EC9-A7E6-E958319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D6C7-4A46-4DB1-95F7-5D831B2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204B-0D06-485D-9928-8E92CDCE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2300-56EC-4EBD-A2F6-66504361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9EDA-4185-4DD9-A859-98047349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7E74-D6FD-4BE8-B37F-DB7A991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ED9C-3B39-490F-B0EB-5D7F24A1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6D66-379C-42DB-B211-4CAD696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407-C119-4440-B7F3-EA6B9C5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BCBB-C492-4192-B5F0-922CED6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99C5-678B-4991-8B57-73504C5C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A4DB-36AF-4E54-801E-3B72BDF3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71FC-7C86-43E7-935B-5CE09920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5350-242A-4386-850A-94AE304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BF4B-689B-456E-9512-777CA68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2AF7-3706-4111-9B52-3AC15E9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D261-3D2E-4A28-B69F-EB71E05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1AF1-88EF-42D1-AAC4-39755DF2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99A6-2E77-437E-91A3-EC61F566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6D2-1726-4287-87E1-0D63C3B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F7276-3F72-4D3C-85F3-79334A0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B7AD-AAAE-4F9A-8180-DEEE840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C01D-A588-4D40-AAC6-85363018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7FEE-78D0-418E-8356-8324959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631A-10FB-477C-911C-3C92C871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09B3-36C3-452D-ADAC-DF1311D6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EC5AA-32DA-4446-A192-4CE433B1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4F5C-B2C1-4C82-BF1B-ADA6E53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FE32-3DDB-4CDF-9ED7-DD1CBA0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B8AE-7CF6-4D26-8F10-FFA6B453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9D6-9DAD-4986-BFD9-C5DD523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D097-E80F-41A2-974C-5FA2CC8E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E40B-8198-44EC-9ADD-EE5411CB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8835-219E-4F4A-8208-D232A2BC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172D-B346-4D59-BE55-038F8B7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5182-7DC1-408D-B542-1BB2BBA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3DB9-B7B4-4254-B479-10261669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C2C7-C408-4487-A393-E28B484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C32E-5019-4016-B095-47E3013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4085-CE38-4809-9A19-7014EC5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20C5-7EC8-4470-8C05-AD12728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17F-915F-43DA-8166-44FD1E7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BD17-F468-4D8B-9999-B98392D6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9F63-CF95-4D64-A0E0-2BDE4E71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A811-BCDC-4189-B705-95B8DAB2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E44-6248-4D0B-A6F6-1F16520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24D-C061-422B-8613-2B54AD8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 " ГИМНАЗИЯ № 29"                   ИГОШИНА С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6CAE-0F93-4C90-A333-13B734CDEE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МОУ " ГИМНАЗИЯ № 29"                   ИГОШИНА С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5B3F-F54D-44C5-AD61-0411533C33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 " ГИМНАЗИЯ № 29"                   ИГОШИНА С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8CCA-D4F3-4762-A371-6361A4CE09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МОУ " ГИМНАЗИЯ № 29"                   ИГОШИНА С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AC7-343B-4AD8-AA26-08199E79C01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МОУ " ГИМНАЗИЯ № 29"                   ИГОШИНА С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F51-4628-410F-B03B-760DC053BFF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МОУ " ГИМНАЗИЯ № 29"                   ИГОШИНА С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268-24A4-4FFD-AEF1-FED1953304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&#1052;&#1072;&#1081;&#1082;&#1083;%20&#1060;&#1072;&#1088;&#1072;&#1076;&#1077;&#1081;.doc" TargetMode="External"/><Relationship Id="rId3" Type="http://schemas.openxmlformats.org/officeDocument/2006/relationships/hyperlink" Target="file:///&#1052;&#1072;&#1081;&#1082;&#1083;%20&#1060;&#1072;&#1088;&#1072;&#1076;&#1077;&#1081;.doc" TargetMode="External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5"/>
          <p:cNvSpPr txBox="1"/>
          <p:nvPr/>
        </p:nvSpPr>
        <p:spPr>
          <a:xfrm>
            <a:off x="684360" y="1413000"/>
            <a:ext cx="77644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Явление 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лектромагнитной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ндукции.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4000" y="5950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8"/>
          <p:cNvSpPr/>
          <p:nvPr/>
        </p:nvSpPr>
        <p:spPr>
          <a:xfrm>
            <a:off x="1908000" y="3573360"/>
            <a:ext cx="4464360" cy="1297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4140360" y="4869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971640" y="620640"/>
            <a:ext cx="73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- РИСУНКИ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50920" y="220500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пределите направление тока в    проводни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067280" y="2852640"/>
            <a:ext cx="144360" cy="3311640"/>
          </a:xfrm>
          <a:prstGeom prst="can">
            <a:avLst>
              <a:gd name="adj" fmla="val 66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2916360" y="3860640"/>
            <a:ext cx="2447640" cy="6480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908000" y="4221000"/>
            <a:ext cx="719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5"/>
          <p:cNvSpPr/>
          <p:nvPr/>
        </p:nvSpPr>
        <p:spPr>
          <a:xfrm flipH="1" flipV="1">
            <a:off x="5579640" y="2997360"/>
            <a:ext cx="79236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5796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586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226836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234000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0"/>
          <p:cNvSpPr/>
          <p:nvPr/>
        </p:nvSpPr>
        <p:spPr>
          <a:xfrm>
            <a:off x="5508720" y="50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54374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3995640" y="3933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8"/>
          <p:cNvSpPr/>
          <p:nvPr/>
        </p:nvSpPr>
        <p:spPr>
          <a:xfrm rot="16200000">
            <a:off x="4444920" y="1321920"/>
            <a:ext cx="289080" cy="5077080"/>
          </a:xfrm>
          <a:prstGeom prst="can">
            <a:avLst>
              <a:gd name="adj" fmla="val 325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WordArt 4"/>
          <p:cNvSpPr txBox="1"/>
          <p:nvPr/>
        </p:nvSpPr>
        <p:spPr>
          <a:xfrm>
            <a:off x="971640" y="620640"/>
            <a:ext cx="73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- РИСУНКИ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684360" y="206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пределите магнитные полюсы катушки с 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1258920" y="5373720"/>
            <a:ext cx="288720" cy="287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7236000" y="5373720"/>
            <a:ext cx="288720" cy="287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1258920" y="530064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7236000" y="530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7"/>
          <p:cNvSpPr/>
          <p:nvPr/>
        </p:nvSpPr>
        <p:spPr>
          <a:xfrm>
            <a:off x="1403280" y="2971800"/>
            <a:ext cx="1152720" cy="24019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567" h="1513">
                <a:moveTo>
                  <a:pt x="0" y="1513"/>
                </a:moveTo>
                <a:cubicBezTo>
                  <a:pt x="4" y="953"/>
                  <a:pt x="8" y="394"/>
                  <a:pt x="91" y="197"/>
                </a:cubicBezTo>
                <a:cubicBezTo>
                  <a:pt x="174" y="0"/>
                  <a:pt x="431" y="219"/>
                  <a:pt x="499" y="333"/>
                </a:cubicBezTo>
                <a:cubicBezTo>
                  <a:pt x="567" y="447"/>
                  <a:pt x="514" y="825"/>
                  <a:pt x="499" y="878"/>
                </a:cubicBezTo>
                <a:cubicBezTo>
                  <a:pt x="484" y="931"/>
                  <a:pt x="423" y="689"/>
                  <a:pt x="408" y="6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"/>
          <p:cNvSpPr/>
          <p:nvPr/>
        </p:nvSpPr>
        <p:spPr>
          <a:xfrm>
            <a:off x="2484360" y="3213000"/>
            <a:ext cx="432000" cy="1224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3"/>
          <p:cNvSpPr/>
          <p:nvPr/>
        </p:nvSpPr>
        <p:spPr>
          <a:xfrm>
            <a:off x="2916360" y="3213000"/>
            <a:ext cx="431640" cy="1224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4"/>
          <p:cNvSpPr/>
          <p:nvPr/>
        </p:nvSpPr>
        <p:spPr>
          <a:xfrm>
            <a:off x="3348000" y="3213000"/>
            <a:ext cx="432000" cy="1224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5"/>
          <p:cNvSpPr/>
          <p:nvPr/>
        </p:nvSpPr>
        <p:spPr>
          <a:xfrm>
            <a:off x="3780000" y="3213000"/>
            <a:ext cx="431640" cy="1224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6"/>
          <p:cNvSpPr/>
          <p:nvPr/>
        </p:nvSpPr>
        <p:spPr>
          <a:xfrm>
            <a:off x="4211640" y="3213000"/>
            <a:ext cx="431640" cy="1224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7"/>
          <p:cNvSpPr/>
          <p:nvPr/>
        </p:nvSpPr>
        <p:spPr>
          <a:xfrm>
            <a:off x="4643280" y="3213000"/>
            <a:ext cx="432000" cy="1224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8"/>
          <p:cNvSpPr/>
          <p:nvPr/>
        </p:nvSpPr>
        <p:spPr>
          <a:xfrm>
            <a:off x="5076720" y="3213000"/>
            <a:ext cx="432000" cy="1224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9"/>
          <p:cNvSpPr/>
          <p:nvPr/>
        </p:nvSpPr>
        <p:spPr>
          <a:xfrm>
            <a:off x="5508720" y="3213000"/>
            <a:ext cx="431640" cy="1224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0"/>
          <p:cNvSpPr/>
          <p:nvPr/>
        </p:nvSpPr>
        <p:spPr>
          <a:xfrm>
            <a:off x="5940360" y="3213000"/>
            <a:ext cx="432000" cy="1224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1"/>
          <p:cNvSpPr/>
          <p:nvPr/>
        </p:nvSpPr>
        <p:spPr>
          <a:xfrm>
            <a:off x="6372360" y="3213000"/>
            <a:ext cx="431640" cy="1224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1" h="771">
                <a:moveTo>
                  <a:pt x="0" y="332"/>
                </a:moveTo>
                <a:cubicBezTo>
                  <a:pt x="75" y="166"/>
                  <a:pt x="151" y="0"/>
                  <a:pt x="181" y="60"/>
                </a:cubicBezTo>
                <a:cubicBezTo>
                  <a:pt x="211" y="120"/>
                  <a:pt x="204" y="619"/>
                  <a:pt x="181" y="695"/>
                </a:cubicBezTo>
                <a:cubicBezTo>
                  <a:pt x="158" y="771"/>
                  <a:pt x="68" y="551"/>
                  <a:pt x="45" y="514"/>
                </a:cubicBezTo>
                <a:cubicBezTo>
                  <a:pt x="22" y="477"/>
                  <a:pt x="45" y="476"/>
                  <a:pt x="45" y="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2"/>
          <p:cNvSpPr/>
          <p:nvPr/>
        </p:nvSpPr>
        <p:spPr>
          <a:xfrm>
            <a:off x="6804000" y="3008160"/>
            <a:ext cx="576360" cy="2365560"/>
          </a:xfrm>
          <a:custGeom>
            <a:avLst/>
            <a:gdLst>
              <a:gd name="textAreaLeft" fmla="*/ 0 w 576360"/>
              <a:gd name="textAreaRight" fmla="*/ 576720 w 57636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363" h="1490">
                <a:moveTo>
                  <a:pt x="0" y="446"/>
                </a:moveTo>
                <a:cubicBezTo>
                  <a:pt x="83" y="223"/>
                  <a:pt x="167" y="0"/>
                  <a:pt x="227" y="174"/>
                </a:cubicBezTo>
                <a:cubicBezTo>
                  <a:pt x="287" y="348"/>
                  <a:pt x="340" y="1271"/>
                  <a:pt x="363" y="14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395280" y="620640"/>
            <a:ext cx="820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Определите неизвестную велич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95280" y="177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= 0,8Т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I= 20A      F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2"/>
          <p:cNvSpPr txBox="1"/>
          <p:nvPr/>
        </p:nvSpPr>
        <p:spPr>
          <a:xfrm>
            <a:off x="2411280" y="333360"/>
            <a:ext cx="41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ВЕТЫ: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250920" y="1197000"/>
            <a:ext cx="85690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7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13. 1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.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14. 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9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1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                10. F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∙v∙q∙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                   11. 1A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17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                     12. 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18. F= 16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3597120" y="2565360"/>
                <a:ext cx="1124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Line 7"/>
          <p:cNvSpPr/>
          <p:nvPr/>
        </p:nvSpPr>
        <p:spPr>
          <a:xfrm>
            <a:off x="7524720" y="2924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7885080" y="342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2400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вление электромагнитн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66188"/>
          <p:cNvPicPr/>
          <p:nvPr/>
        </p:nvPicPr>
        <p:blipFill>
          <a:blip r:embed="rId1"/>
          <a:srcRect l="3685" t="0" r="14789" b="0"/>
          <a:stretch/>
        </p:blipFill>
        <p:spPr>
          <a:xfrm>
            <a:off x="539640" y="1700280"/>
            <a:ext cx="2613240" cy="3384360"/>
          </a:xfrm>
          <a:prstGeom prst="rect">
            <a:avLst/>
          </a:prstGeom>
          <a:ln w="57240">
            <a:solidFill>
              <a:srgbClr val="dbf5f9"/>
            </a:solidFill>
            <a:miter/>
          </a:ln>
        </p:spPr>
      </p:pic>
      <p:sp>
        <p:nvSpPr>
          <p:cNvPr id="426" name="Rectangle 6"/>
          <p:cNvSpPr/>
          <p:nvPr/>
        </p:nvSpPr>
        <p:spPr>
          <a:xfrm>
            <a:off x="468360" y="5300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МАЙКЛ ФА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(1791 – 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3348000" y="1700280"/>
            <a:ext cx="5400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евратить магнетизм в электриче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821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708360" y="4221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9 августа 1831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5"/>
          <p:cNvSpPr/>
          <p:nvPr/>
        </p:nvSpPr>
        <p:spPr>
          <a:xfrm>
            <a:off x="611280" y="333360"/>
            <a:ext cx="8064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в замкнутом проводнике электрического тока , обусловленное изменением магнитного поля называют явлением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ЛЕКТРОМАГНИТНОЙ ИН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енный ток называют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дукцио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250920" y="3789360"/>
            <a:ext cx="889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4"/>
          <p:cNvSpPr/>
          <p:nvPr/>
        </p:nvSpPr>
        <p:spPr>
          <a:xfrm>
            <a:off x="2593440" y="1928880"/>
            <a:ext cx="43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ить видеофрагмент приложение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404640"/>
            <a:ext cx="7920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Индукционный ток возникает только при относительном перемещении катушки и магнита. Направление индукционного тока зависит от направления вектора В внешнего магнитного по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4"/>
          <p:cNvSpPr/>
          <p:nvPr/>
        </p:nvSpPr>
        <p:spPr>
          <a:xfrm>
            <a:off x="2714760" y="1643040"/>
            <a:ext cx="28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ить видеофрагмент приложе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1928880" y="2071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ить видеофрагмент приложение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Цель урока: изучить явление электромагнитной индукции</a:t>
            </a:r>
            <a:br>
              <a:rPr sz="29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В ходе учебного занятия вы: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знает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е понятия: магнитная индукц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гнитный поток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дукционный ток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ловия возникновения индукционного то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ение электромагнитной индук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учитес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ать графические задачи на определение величины индукционного тока и магнитной индук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>
            <a:off x="1187280" y="404640"/>
            <a:ext cx="6121440" cy="10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539640" y="1916280"/>
            <a:ext cx="8064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Times New Roman"/>
                <a:ea typeface="Arial"/>
              </a:rPr>
              <a:t>§</a:t>
            </a:r>
            <a:r>
              <a:rPr b="1" i="1" lang="ru-RU" sz="5400" spc="-1" strike="noStrike">
                <a:solidFill>
                  <a:srgbClr val="cc0000"/>
                </a:solidFill>
                <a:latin typeface="Times New Roman"/>
                <a:ea typeface="Arial"/>
              </a:rPr>
              <a:t>49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Упр.39(1,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Подготовиться к лабораторной работе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468360" y="54936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АБОРАТОРНАЯ РАБОТА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учение явления электромагнитной ин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755640" y="2421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С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→ ВСЕ ПРОГРАММЫ →ДРОФА → ЛАБ.РАБОТЫ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97964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ЕШИТЕ 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№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38,40 ( стр.2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4"/>
          <p:cNvSpPr/>
          <p:nvPr/>
        </p:nvSpPr>
        <p:spPr>
          <a:xfrm>
            <a:off x="3286080" y="20001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ить видеофрагмент приложение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179280" y="549360"/>
            <a:ext cx="878544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зовите источники электрического по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зовите источники магнитного по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м создается магнитное по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м создается поле постоянного магни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является основной характеристикой магнитного по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называют линиями магнитного по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395280" y="549360"/>
            <a:ext cx="8352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7. Что представляют собой линии индукции прямого т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8. Что представляют собой линии индукции соленои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9. Как можно определить направление линий магнитной инду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0. По какому правилу можно определить направление силы, действующей на проводник с ток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1. Как можно изменить магнитные полюса катушки  с ток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1619280" y="1700280"/>
            <a:ext cx="604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ИЧЕС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КТАН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Text Box 5"/>
          <p:cNvSpPr/>
          <p:nvPr/>
        </p:nvSpPr>
        <p:spPr>
          <a:xfrm rot="20725200">
            <a:off x="755280" y="357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Т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 rot="832800">
            <a:off x="3563640" y="5084640"/>
            <a:ext cx="28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Ф=В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∙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s</a:t>
            </a:r>
            <a:r>
              <a:rPr b="1" lang="el-GR" sz="3200" spc="-1" strike="noStrike">
                <a:solidFill>
                  <a:srgbClr val="ff0066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20364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1908000" y="620640"/>
            <a:ext cx="3888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4400" spc="-1" strike="noStrike" baseline="-25000">
                <a:solidFill>
                  <a:srgbClr val="0000cc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=B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  <a:ea typeface="Arial"/>
              </a:rPr>
              <a:t>∙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v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∙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  <a:ea typeface="Arial"/>
              </a:rPr>
              <a:t>q∙sin</a:t>
            </a:r>
            <a:r>
              <a:rPr b="1" i="1" lang="el-GR" sz="44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 rot="1120200">
            <a:off x="7092360" y="47592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28"/>
          <p:cNvPicPr/>
          <p:nvPr/>
        </p:nvPicPr>
        <p:blipFill>
          <a:blip r:embed="rId2"/>
          <a:stretch/>
        </p:blipFill>
        <p:spPr>
          <a:xfrm>
            <a:off x="684360" y="4533840"/>
            <a:ext cx="2016000" cy="1898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155"/>
          <p:cNvPicPr/>
          <p:nvPr/>
        </p:nvPicPr>
        <p:blipFill>
          <a:blip r:embed="rId3"/>
          <a:stretch/>
        </p:blipFill>
        <p:spPr>
          <a:xfrm>
            <a:off x="250920" y="189000"/>
            <a:ext cx="1514520" cy="1800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205"/>
          <p:cNvPicPr/>
          <p:nvPr/>
        </p:nvPicPr>
        <p:blipFill>
          <a:blip r:embed="rId4"/>
          <a:stretch/>
        </p:blipFill>
        <p:spPr>
          <a:xfrm>
            <a:off x="7093080" y="2492280"/>
            <a:ext cx="1888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50920" y="2602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МИ БУКВАМИ ОБОЗНАЧ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ЕДУЮЩИЕ ФИЗИЧЕСКИЕ ВЕЛ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116000" y="1628640"/>
            <a:ext cx="6624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ГНИТНЫЙ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ДУКЦИЯ МАГНИТНОГО П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ЛА АМП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ЛА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РОСТЬ ЗА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ИНА ПРОВО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250920" y="40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ПИШИТЕ ФОРМУЛУ ДЛЯ РАСЧЁ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539640" y="1268280"/>
            <a:ext cx="7201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МАГНИТНОГО ПО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СИЛЫ, ДЕЙСТВУЮЩЕЙ НА ПРОВОДНИК С Т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МАГНИТН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0. СИЛЫ, ДЕЙСТВУЮЩЕЙ НА ДВИЖУЩИЙСЯ ЗА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539640" y="18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ПИШИТЕ ЕДИНИЦЫ ИЗМЕРЕНИЯ ФИЗИЧЕСКИХ ВЕЛИЧ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971640" y="1700280"/>
            <a:ext cx="705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МАГНИТНОГО ПО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МАГНИТН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СИЛЫ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9"/>
          <p:cNvSpPr/>
          <p:nvPr/>
        </p:nvSpPr>
        <p:spPr>
          <a:xfrm>
            <a:off x="3059280" y="2781360"/>
            <a:ext cx="2592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×  ×  ×  × 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×  ×  ×  × 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×  ×  ×  × 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×  ×  ×  × 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971640" y="620640"/>
            <a:ext cx="73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- РИСУНКИ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971640" y="213372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21337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Укажите направление силы Амп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 flipV="1">
            <a:off x="3995640" y="292428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067280" y="31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3132000" y="53737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3:19:38Z</dcterms:created>
  <dc:creator>Игошина С.Н.</dc:creator>
  <dc:description/>
  <dc:language>en-US</dc:language>
  <cp:lastModifiedBy>НКармалка</cp:lastModifiedBy>
  <dcterms:modified xsi:type="dcterms:W3CDTF">2019-10-09T07:39:00Z</dcterms:modified>
  <cp:revision>18</cp:revision>
  <dc:subject/>
  <dc:title>Слайд 1</dc:title>
</cp:coreProperties>
</file>