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8EDB-78F7-4DAE-BB20-5357880507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BE15-BF61-40DF-A67A-4B908156684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DBF-2B4B-4A9C-839A-90E1628B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7B5-8AB3-41A6-9763-B0B8721F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BD2-F988-41B7-92D3-B122D0C4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530-7DCE-44D4-B431-77188E13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AF6C-95C0-4547-82D6-EE618C6A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D2B6-94B3-4085-88BD-8B2983A2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E95B-67C4-4F8E-87D8-1BC4DD8E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FCE6-8AE0-4D34-8B67-138FA029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D619-D189-4B07-881F-07D3B45F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C8A4-9900-4C8A-ABCD-667B9770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0C77-1228-4D5A-B4AC-31C2DF85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2B4-B7B0-4932-9226-06F60110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E3EB-3383-49E1-BDCE-11346D8A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A3E9-426B-4785-BC0C-C49ACA65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8416-8957-4218-82EF-01AEFDAF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C740-73FC-4E35-98EC-CC675F72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1FE9-7A76-4D92-9B81-5D734A60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E93-DB36-4842-909E-4D98CE7F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448-BE19-497A-9A0A-16A0A905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BE1-7DF9-4FB3-BD9F-0B1BAD22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1E5-0D4F-47C9-8AED-ADE77D0B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E24-024A-40D3-9253-ADE1135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923-3D1B-45E6-880B-F00A820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951-9F5E-4EA1-A0C6-8F5EB744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Прямоугольник 30"/>
          <p:cNvSpPr/>
          <p:nvPr/>
        </p:nvSpPr>
        <p:spPr>
          <a:xfrm>
            <a:off x="5410080" y="360360"/>
            <a:ext cx="3733920" cy="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31"/>
          <p:cNvSpPr/>
          <p:nvPr/>
        </p:nvSpPr>
        <p:spPr>
          <a:xfrm>
            <a:off x="5410080" y="439560"/>
            <a:ext cx="373392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2160" cy="27000"/>
          </a:xfrm>
          <a:custGeom>
            <a:avLst/>
            <a:gdLst>
              <a:gd name="textAreaLeft" fmla="*/ 1080 w 3062160"/>
              <a:gd name="textAreaRight" fmla="*/ 3061080 w 3062160"/>
              <a:gd name="textAreaTop" fmla="*/ 1080 h 27000"/>
              <a:gd name="textAreaBottom" fmla="*/ 25920 h 27000"/>
            </a:gdLst>
            <a:ahLst/>
            <a:rect l="textAreaLeft" t="textAreaTop" r="textAreaRight" b="textAreaBottom"/>
            <a:pathLst>
              <a:path w="3062288" h="26987">
                <a:moveTo>
                  <a:pt x="4498" y="0"/>
                </a:moveTo>
                <a:lnTo>
                  <a:pt x="4498" y="0"/>
                </a:lnTo>
                <a:arcTo wR="4498" hR="4498" stAng="-5400000" swAng="-5400000"/>
                <a:lnTo>
                  <a:pt x="0" y="22489"/>
                </a:lnTo>
                <a:lnTo>
                  <a:pt x="0" y="22489"/>
                </a:lnTo>
                <a:arcTo wR="4498" hR="4498" stAng="10800000" swAng="-5400000"/>
                <a:lnTo>
                  <a:pt x="3057790" y="26987"/>
                </a:lnTo>
                <a:lnTo>
                  <a:pt x="3057790" y="26987"/>
                </a:lnTo>
                <a:arcTo wR="4498" hR="4498" stAng="5400000" swAng="-5400000"/>
                <a:lnTo>
                  <a:pt x="3062288" y="4498"/>
                </a:lnTo>
                <a:lnTo>
                  <a:pt x="3062288" y="4498"/>
                </a:lnTo>
                <a:arcTo wR="4498" hR="4498" stAng="0" swAng="-5400000"/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2">
                <a:moveTo>
                  <a:pt x="6085" y="0"/>
                </a:moveTo>
                <a:lnTo>
                  <a:pt x="6085" y="0"/>
                </a:lnTo>
                <a:arcTo wR="6085" hR="6085" stAng="-5400000" swAng="-5400000"/>
                <a:lnTo>
                  <a:pt x="0" y="30427"/>
                </a:lnTo>
                <a:lnTo>
                  <a:pt x="0" y="30427"/>
                </a:lnTo>
                <a:arcTo wR="6085" hR="6085" stAng="10800000" swAng="-5400000"/>
                <a:lnTo>
                  <a:pt x="1594115" y="36512"/>
                </a:lnTo>
                <a:lnTo>
                  <a:pt x="1594115" y="36512"/>
                </a:lnTo>
                <a:arcTo wR="6085" hR="6085" stAng="5400000" swAng="-5400000"/>
                <a:lnTo>
                  <a:pt x="1600200" y="6085"/>
                </a:lnTo>
                <a:lnTo>
                  <a:pt x="1600200" y="6085"/>
                </a:lnTo>
                <a:arcTo wR="6085" hR="6085" stAng="0" swAng="-5400000"/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700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4000" cy="58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Прямоугольник 22"/>
          <p:cNvSpPr/>
          <p:nvPr/>
        </p:nvSpPr>
        <p:spPr>
          <a:xfrm>
            <a:off x="5410080" y="3809880"/>
            <a:ext cx="3733920" cy="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Прямоугольник 23"/>
          <p:cNvSpPr/>
          <p:nvPr/>
        </p:nvSpPr>
        <p:spPr>
          <a:xfrm>
            <a:off x="5410080" y="3897360"/>
            <a:ext cx="3733920" cy="19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Прямоугольник 24"/>
          <p:cNvSpPr/>
          <p:nvPr/>
        </p:nvSpPr>
        <p:spPr>
          <a:xfrm>
            <a:off x="5410080" y="4114800"/>
            <a:ext cx="3733920" cy="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Прямоугольник 25"/>
          <p:cNvSpPr/>
          <p:nvPr/>
        </p:nvSpPr>
        <p:spPr>
          <a:xfrm>
            <a:off x="5410080" y="4164120"/>
            <a:ext cx="1965600" cy="1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Прямоугольник 26"/>
          <p:cNvSpPr/>
          <p:nvPr/>
        </p:nvSpPr>
        <p:spPr>
          <a:xfrm>
            <a:off x="5410080" y="4199040"/>
            <a:ext cx="1965600" cy="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520" cy="27000"/>
          </a:xfrm>
          <a:custGeom>
            <a:avLst/>
            <a:gdLst>
              <a:gd name="textAreaLeft" fmla="*/ 1080 w 3062520"/>
              <a:gd name="textAreaRight" fmla="*/ 3061440 w 3062520"/>
              <a:gd name="textAreaTop" fmla="*/ 1080 h 27000"/>
              <a:gd name="textAreaBottom" fmla="*/ 25920 h 27000"/>
            </a:gdLst>
            <a:ahLst/>
            <a:rect l="textAreaLeft" t="textAreaTop" r="textAreaRight" b="textAreaBottom"/>
            <a:pathLst>
              <a:path w="3062288" h="26988">
                <a:moveTo>
                  <a:pt x="4498" y="0"/>
                </a:moveTo>
                <a:lnTo>
                  <a:pt x="4498" y="0"/>
                </a:lnTo>
                <a:arcTo wR="4498" hR="4498" stAng="-5400000" swAng="-5400000"/>
                <a:lnTo>
                  <a:pt x="0" y="22490"/>
                </a:lnTo>
                <a:lnTo>
                  <a:pt x="0" y="22490"/>
                </a:lnTo>
                <a:arcTo wR="4498" hR="4498" stAng="10800000" swAng="-5400000"/>
                <a:lnTo>
                  <a:pt x="3057790" y="26988"/>
                </a:lnTo>
                <a:lnTo>
                  <a:pt x="3057790" y="26988"/>
                </a:lnTo>
                <a:arcTo wR="4498" hR="4498" stAng="5400000" swAng="-5400000"/>
                <a:lnTo>
                  <a:pt x="3062288" y="4498"/>
                </a:lnTo>
                <a:lnTo>
                  <a:pt x="3062288" y="4498"/>
                </a:lnTo>
                <a:arcTo wR="4498" hR="4498" stAng="0" swAng="-5400000"/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Скругленный прямоугольник 30"/>
          <p:cNvSpPr/>
          <p:nvPr/>
        </p:nvSpPr>
        <p:spPr>
          <a:xfrm>
            <a:off x="7377120" y="4060800"/>
            <a:ext cx="1598760" cy="36360"/>
          </a:xfrm>
          <a:custGeom>
            <a:avLst/>
            <a:gdLst>
              <a:gd name="textAreaLeft" fmla="*/ 1440 w 1598760"/>
              <a:gd name="textAreaRight" fmla="*/ 1597320 w 159876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598612" h="36513">
                <a:moveTo>
                  <a:pt x="6085" y="0"/>
                </a:moveTo>
                <a:lnTo>
                  <a:pt x="6085" y="0"/>
                </a:lnTo>
                <a:arcTo wR="6085" hR="6085" stAng="-5400000" swAng="-5400000"/>
                <a:lnTo>
                  <a:pt x="0" y="30428"/>
                </a:lnTo>
                <a:lnTo>
                  <a:pt x="0" y="30428"/>
                </a:lnTo>
                <a:arcTo wR="6085" hR="6085" stAng="10800000" swAng="-5400000"/>
                <a:lnTo>
                  <a:pt x="1592527" y="36513"/>
                </a:lnTo>
                <a:lnTo>
                  <a:pt x="1592527" y="36513"/>
                </a:lnTo>
                <a:arcTo wR="6085" hR="6085" stAng="5400000" swAng="-5400000"/>
                <a:lnTo>
                  <a:pt x="1598612" y="6085"/>
                </a:lnTo>
                <a:lnTo>
                  <a:pt x="1598612" y="6085"/>
                </a:lnTo>
                <a:arcTo wR="6085" hR="6085" stAng="0" swAng="-5400000"/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4000" cy="244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240"/>
            <a:ext cx="9144000" cy="14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Прямоугольник 10"/>
          <p:cNvSpPr/>
          <p:nvPr/>
        </p:nvSpPr>
        <p:spPr>
          <a:xfrm>
            <a:off x="6413400" y="3643200"/>
            <a:ext cx="273060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4000" cy="370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600"/>
            <a:ext cx="9604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9DD1-EED8-4D0C-A4A6-753D1A1C04DB}" type="datetime"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31.07.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6E5C-A867-4FCF-8749-8EB6287DDA47}" type="slidenum">
              <a:rPr b="0" lang="ru-RU" sz="1800" spc="-1" strike="noStrike">
                <a:solidFill>
                  <a:srgbClr val="ffffff"/>
                </a:solidFill>
                <a:latin typeface="Georgi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4000" cy="8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40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7800"/>
            <a:ext cx="9144000" cy="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0"/>
          <p:cNvSpPr/>
          <p:nvPr/>
        </p:nvSpPr>
        <p:spPr>
          <a:xfrm>
            <a:off x="5410080" y="360360"/>
            <a:ext cx="3733920" cy="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1"/>
          <p:cNvSpPr/>
          <p:nvPr/>
        </p:nvSpPr>
        <p:spPr>
          <a:xfrm>
            <a:off x="5410080" y="439560"/>
            <a:ext cx="373392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32"/>
          <p:cNvSpPr/>
          <p:nvPr/>
        </p:nvSpPr>
        <p:spPr>
          <a:xfrm>
            <a:off x="5407200" y="496800"/>
            <a:ext cx="3062160" cy="27000"/>
          </a:xfrm>
          <a:custGeom>
            <a:avLst/>
            <a:gdLst>
              <a:gd name="textAreaLeft" fmla="*/ 1080 w 3062160"/>
              <a:gd name="textAreaRight" fmla="*/ 3061080 w 3062160"/>
              <a:gd name="textAreaTop" fmla="*/ 1080 h 27000"/>
              <a:gd name="textAreaBottom" fmla="*/ 25920 h 27000"/>
            </a:gdLst>
            <a:ahLst/>
            <a:rect l="textAreaLeft" t="textAreaTop" r="textAreaRight" b="textAreaBottom"/>
            <a:pathLst>
              <a:path w="3062288" h="26987">
                <a:moveTo>
                  <a:pt x="4498" y="0"/>
                </a:moveTo>
                <a:lnTo>
                  <a:pt x="4498" y="0"/>
                </a:lnTo>
                <a:arcTo wR="4498" hR="4498" stAng="-5400000" swAng="-5400000"/>
                <a:lnTo>
                  <a:pt x="0" y="22489"/>
                </a:lnTo>
                <a:lnTo>
                  <a:pt x="0" y="22489"/>
                </a:lnTo>
                <a:arcTo wR="4498" hR="4498" stAng="10800000" swAng="-5400000"/>
                <a:lnTo>
                  <a:pt x="3057790" y="26987"/>
                </a:lnTo>
                <a:lnTo>
                  <a:pt x="3057790" y="26987"/>
                </a:lnTo>
                <a:arcTo wR="4498" hR="4498" stAng="5400000" swAng="-5400000"/>
                <a:lnTo>
                  <a:pt x="3062288" y="4498"/>
                </a:lnTo>
                <a:lnTo>
                  <a:pt x="3062288" y="4498"/>
                </a:lnTo>
                <a:arcTo wR="4498" hR="4498" stAng="0" swAng="-5400000"/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2">
                <a:moveTo>
                  <a:pt x="6085" y="0"/>
                </a:moveTo>
                <a:lnTo>
                  <a:pt x="6085" y="0"/>
                </a:lnTo>
                <a:arcTo wR="6085" hR="6085" stAng="-5400000" swAng="-5400000"/>
                <a:lnTo>
                  <a:pt x="0" y="30427"/>
                </a:lnTo>
                <a:lnTo>
                  <a:pt x="0" y="30427"/>
                </a:lnTo>
                <a:arcTo wR="6085" hR="6085" stAng="10800000" swAng="-5400000"/>
                <a:lnTo>
                  <a:pt x="1594115" y="36512"/>
                </a:lnTo>
                <a:lnTo>
                  <a:pt x="1594115" y="36512"/>
                </a:lnTo>
                <a:arcTo wR="6085" hR="6085" stAng="5400000" swAng="-5400000"/>
                <a:lnTo>
                  <a:pt x="1600200" y="6085"/>
                </a:lnTo>
                <a:lnTo>
                  <a:pt x="1600200" y="6085"/>
                </a:lnTo>
                <a:arcTo wR="6085" hR="6085" stAng="0" swAng="-5400000"/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5320" y="-1440"/>
            <a:ext cx="5724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3920" y="-1440"/>
            <a:ext cx="2700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4840" y="-1440"/>
            <a:ext cx="972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880" y="-1440"/>
            <a:ext cx="2700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400" y="0"/>
            <a:ext cx="54000" cy="58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4000" y="0"/>
            <a:ext cx="7920" cy="58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47E0-BDE2-4A13-8BC6-CD9A31B7F3A3}" type="datetime"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31.07.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175600" y="1080"/>
            <a:ext cx="760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D779-AB90-4524-BD06-43255961EB94}" type="slidenum"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2155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rebuchet MS"/>
              </a:rPr>
              <a:t>Географические путешествия и открыти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203280" y="3644640"/>
            <a:ext cx="57862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                                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Работу выполнила                              ученица 5 класс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                                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Шишкина  Анн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ервое кругосветное путешествие совершил Фернан Магелла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52" name="Рисунок 2" descr=""/>
          <p:cNvPicPr/>
          <p:nvPr/>
        </p:nvPicPr>
        <p:blipFill>
          <a:blip r:embed="rId1"/>
          <a:stretch/>
        </p:blipFill>
        <p:spPr>
          <a:xfrm>
            <a:off x="2519280" y="3024360"/>
            <a:ext cx="3097440" cy="32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Австралию открыл в 1606г. Голландец Виллем Янсзо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54" name="Рисунок 2" descr=""/>
          <p:cNvPicPr/>
          <p:nvPr/>
        </p:nvPicPr>
        <p:blipFill>
          <a:blip r:embed="rId1"/>
          <a:stretch/>
        </p:blipFill>
        <p:spPr>
          <a:xfrm>
            <a:off x="2952720" y="3168720"/>
            <a:ext cx="2735280" cy="33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Анткарктиду в 1820г. открыли русские мореплаватели Фаддей Фаддеевич Беллинзгаузен и Михаил Петрович Лазарев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56" name="Рисунок 2" descr=""/>
          <p:cNvPicPr/>
          <p:nvPr/>
        </p:nvPicPr>
        <p:blipFill>
          <a:blip r:embed="rId1"/>
          <a:stretch/>
        </p:blipFill>
        <p:spPr>
          <a:xfrm>
            <a:off x="6048360" y="2119320"/>
            <a:ext cx="2774880" cy="37846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"/>
          <p:cNvPicPr/>
          <p:nvPr/>
        </p:nvPicPr>
        <p:blipFill>
          <a:blip r:embed="rId2"/>
          <a:stretch/>
        </p:blipFill>
        <p:spPr>
          <a:xfrm>
            <a:off x="166680" y="2160720"/>
            <a:ext cx="2857680" cy="38084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"/>
          <p:cNvPicPr/>
          <p:nvPr/>
        </p:nvPicPr>
        <p:blipFill>
          <a:blip r:embed="rId3"/>
          <a:stretch/>
        </p:blipFill>
        <p:spPr>
          <a:xfrm>
            <a:off x="2808360" y="3408480"/>
            <a:ext cx="3382920" cy="300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8632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Первыми исследователями севера Европы и Азии были новгородц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60" name="Рисунок 2" descr=""/>
          <p:cNvPicPr/>
          <p:nvPr/>
        </p:nvPicPr>
        <p:blipFill>
          <a:blip r:embed="rId1"/>
          <a:stretch/>
        </p:blipFill>
        <p:spPr>
          <a:xfrm>
            <a:off x="2016000" y="2087640"/>
            <a:ext cx="446400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Тверской купец Афанасий Никитин совершил путешествие в Индию, которое продолжалось три года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62" name="Рисунок 2" descr=""/>
          <p:cNvPicPr/>
          <p:nvPr/>
        </p:nvPicPr>
        <p:blipFill>
          <a:blip r:embed="rId1"/>
          <a:stretch/>
        </p:blipFill>
        <p:spPr>
          <a:xfrm>
            <a:off x="2583000" y="2664000"/>
            <a:ext cx="3825720" cy="403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емен Иванович Дежнев открыл пролив между Азией и Америко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64" name="Рисунок 2" descr=""/>
          <p:cNvPicPr/>
          <p:nvPr/>
        </p:nvPicPr>
        <p:blipFill>
          <a:blip r:embed="rId1"/>
          <a:stretch/>
        </p:blipFill>
        <p:spPr>
          <a:xfrm>
            <a:off x="2475000" y="2664000"/>
            <a:ext cx="3860640" cy="39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итус Беринг и Алексей Ильич Чириков  открыли северо-западные берега Америк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66" name="Рисунок 2" descr=""/>
          <p:cNvPicPr/>
          <p:nvPr/>
        </p:nvPicPr>
        <p:blipFill>
          <a:blip r:embed="rId1"/>
          <a:stretch/>
        </p:blipFill>
        <p:spPr>
          <a:xfrm>
            <a:off x="2016000" y="2303640"/>
            <a:ext cx="5472360" cy="445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35728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Финикийцы первыми обогнули       Африку и доказали, что это остр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29" name="Рисунок 2" descr=""/>
          <p:cNvPicPr/>
          <p:nvPr/>
        </p:nvPicPr>
        <p:blipFill>
          <a:blip r:embed="rId1"/>
          <a:stretch/>
        </p:blipFill>
        <p:spPr>
          <a:xfrm>
            <a:off x="3714840" y="214200"/>
            <a:ext cx="5219640" cy="27003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"/>
          <p:cNvPicPr/>
          <p:nvPr/>
        </p:nvPicPr>
        <p:blipFill>
          <a:blip r:embed="rId2"/>
          <a:stretch/>
        </p:blipFill>
        <p:spPr>
          <a:xfrm>
            <a:off x="428760" y="4286160"/>
            <a:ext cx="2928960" cy="236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44416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ahoma"/>
              </a:rPr>
              <a:t>Геродот составил описание многих                                              истории и быта нородов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49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ahoma"/>
              </a:rPr>
              <a:t>Пифей нашел путь к Британским островам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ahoma"/>
              </a:rPr>
              <a:t>Совершил плавание вдоль западных и     северных берегов Европы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34" name="Рисунок 2" descr=""/>
          <p:cNvPicPr/>
          <p:nvPr/>
        </p:nvPicPr>
        <p:blipFill>
          <a:blip r:embed="rId1"/>
          <a:stretch/>
        </p:blipFill>
        <p:spPr>
          <a:xfrm>
            <a:off x="2571840" y="2000160"/>
            <a:ext cx="3357360" cy="459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6160" y="0"/>
            <a:ext cx="48578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Эратосфен впервые употребил термин «География»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4785840"/>
            <a:ext cx="46148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1412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И измерил окружность                                  Зем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3162240" cy="3060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" descr=""/>
          <p:cNvPicPr/>
          <p:nvPr/>
        </p:nvPicPr>
        <p:blipFill>
          <a:blip r:embed="rId2"/>
          <a:stretch/>
        </p:blipFill>
        <p:spPr>
          <a:xfrm>
            <a:off x="5722920" y="3798720"/>
            <a:ext cx="3421080" cy="30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  <a:ea typeface="Tahoma"/>
              </a:rPr>
              <a:t>Арабские мореплаватели освоили    воды Индийского океан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550044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1412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ff23"/>
                </a:solidFill>
                <a:latin typeface="Arial"/>
                <a:ea typeface="Microsoft YaHei"/>
              </a:rPr>
              <a:t>Посещали Индию и Кита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8143560" cy="371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14720" y="2143080"/>
            <a:ext cx="4643280" cy="35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1412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420e"/>
                </a:solidFill>
                <a:latin typeface="Arial"/>
                <a:ea typeface="Microsoft YaHei"/>
              </a:rPr>
              <a:t>Удивительное путешествие совершил Марко Поло-</a:t>
            </a:r>
            <a:br>
              <a:rPr sz="2800"/>
            </a:br>
            <a:r>
              <a:rPr b="1" lang="ru-RU" sz="2800" spc="-1" strike="noStrike">
                <a:solidFill>
                  <a:srgbClr val="ff420e"/>
                </a:solidFill>
                <a:latin typeface="Arial"/>
                <a:ea typeface="Microsoft YaHei"/>
              </a:rPr>
              <a:t>венецианский купец.</a:t>
            </a:r>
            <a:br>
              <a:rPr sz="2800"/>
            </a:br>
            <a:r>
              <a:rPr b="1" lang="ru-RU" sz="2800" spc="-1" strike="noStrike">
                <a:solidFill>
                  <a:srgbClr val="ff420e"/>
                </a:solidFill>
                <a:latin typeface="Arial"/>
                <a:ea typeface="Microsoft YaHei"/>
              </a:rPr>
              <a:t>Провел странствие по Востоку более 20 ле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700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"/>
          <p:cNvPicPr/>
          <p:nvPr/>
        </p:nvPicPr>
        <p:blipFill>
          <a:blip r:embed="rId2"/>
          <a:stretch/>
        </p:blipFill>
        <p:spPr>
          <a:xfrm>
            <a:off x="6622920" y="4157640"/>
            <a:ext cx="2521080" cy="27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4643280"/>
            <a:ext cx="4143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ртоломеу Диаш достиг самой южной точки Африк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0" y="785520"/>
            <a:ext cx="4114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1412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Васко да Гам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доплыл до Инд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2624040" cy="30607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" descr=""/>
          <p:cNvPicPr/>
          <p:nvPr/>
        </p:nvPicPr>
        <p:blipFill>
          <a:blip r:embed="rId2"/>
          <a:stretch/>
        </p:blipFill>
        <p:spPr>
          <a:xfrm>
            <a:off x="6635880" y="3618000"/>
            <a:ext cx="250812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Америка была открыта в 1492г. Христофором Колумбо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50" name="Рисунок 2" descr=""/>
          <p:cNvPicPr/>
          <p:nvPr/>
        </p:nvPicPr>
        <p:blipFill>
          <a:blip r:embed="rId1"/>
          <a:stretch/>
        </p:blipFill>
        <p:spPr>
          <a:xfrm>
            <a:off x="2808360" y="2519280"/>
            <a:ext cx="3166920" cy="427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9-10-09T15:19:55Z</dcterms:modified>
  <cp:revision>2</cp:revision>
  <dc:subject/>
  <dc:title>Географические путешествия и открытия</dc:title>
</cp:coreProperties>
</file>