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58D-442B-4B68-BED0-4536C372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7AC-611A-4909-917E-CDBF203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9D0-05AC-4B1E-A488-8DA532EB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C13-E03B-40A2-9201-9F8CAEEE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1CF-26EC-47FC-96A3-66D36A0F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DBA-91D6-4BDE-94BC-ADF2931F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414-DDFC-4098-A894-3078650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ACD-8FB8-4551-8F9A-D3041B96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E74-7D19-44A6-ACA6-07F10E6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420-E1A2-4ECA-9AF6-EA10652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0E1-2C3A-40F8-9685-46BD1BC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21F-FE75-481D-A869-C89C6586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C3EC-15CF-4472-AA24-BD7ED1742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407280" y="571680"/>
            <a:ext cx="273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ми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5" descr="&amp;Fcy;&amp;lcy;&amp;acy;&amp;gcy; &amp;Rcy;&amp;ocy;&amp;scy;&amp;scy;&amp;icy;&amp;icy;"/>
          <p:cNvPicPr/>
          <p:nvPr/>
        </p:nvPicPr>
        <p:blipFill>
          <a:blip r:embed="rId1"/>
          <a:stretch/>
        </p:blipFill>
        <p:spPr>
          <a:xfrm>
            <a:off x="0" y="-285840"/>
            <a:ext cx="3400560" cy="501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putin9-rz%20"/>
          <p:cNvPicPr/>
          <p:nvPr/>
        </p:nvPicPr>
        <p:blipFill>
          <a:blip r:embed="rId2"/>
          <a:srcRect l="6915" t="5052" r="9441" b="4220"/>
          <a:stretch/>
        </p:blipFill>
        <p:spPr>
          <a:xfrm>
            <a:off x="3500280" y="135000"/>
            <a:ext cx="2786400" cy="4179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8"/>
          <p:cNvSpPr/>
          <p:nvPr/>
        </p:nvSpPr>
        <p:spPr>
          <a:xfrm>
            <a:off x="900000" y="4437000"/>
            <a:ext cx="712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9"/>
          <p:cNvSpPr txBox="1"/>
          <p:nvPr/>
        </p:nvSpPr>
        <p:spPr>
          <a:xfrm>
            <a:off x="285840" y="4572000"/>
            <a:ext cx="8642160" cy="25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014 год -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од культуры  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8929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" …У нас  во владении самый богатый, меткий, могучий и поистине волшебный русский язык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нстантин Пауст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attach"/>
          <p:cNvPicPr/>
          <p:nvPr/>
        </p:nvPicPr>
        <p:blipFill>
          <a:blip r:embed="rId1"/>
          <a:stretch/>
        </p:blipFill>
        <p:spPr>
          <a:xfrm>
            <a:off x="285840" y="214200"/>
            <a:ext cx="24271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071720"/>
            <a:ext cx="9144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ежит, работали, запишет, сидели, чит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09:52:19Z</dcterms:created>
  <dc:creator>ВИКТОР</dc:creator>
  <dc:description/>
  <dc:language>en-US</dc:language>
  <cp:lastModifiedBy>Виктор</cp:lastModifiedBy>
  <dcterms:modified xsi:type="dcterms:W3CDTF">2014-03-09T05:03:42Z</dcterms:modified>
  <cp:revision>11</cp:revision>
  <dc:subject/>
  <dc:title>Слайд 1</dc:title>
</cp:coreProperties>
</file>