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3EA-3270-4D6C-90E0-6BF4EC05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51A-EA37-4355-8D48-1ABF2DAB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308-2202-4543-B687-492B2337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1AD-DCA0-41A3-9B2C-C50C95CF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A27-EFED-4977-A36E-8519777E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BE0F-590F-4293-AA3D-AD33BD73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0B0D-2624-4860-8EC0-9B29722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416C-9618-481B-9008-A9C256C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862-0433-42CB-B2EC-E512206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1948-EA00-429B-906C-37FABEB6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01B-099C-418A-9EEE-D265647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B0-FE7E-491B-B7A2-5878498A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41AB-8806-4F3A-9E99-4853377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4598-60CB-4568-9501-27916E87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426D-201F-41F0-9ACB-83ED69F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E527-5C62-4F10-A59B-13A07A26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8097-715B-45E2-8EA5-83FBE5DF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6C274-34A1-4266-9882-BE5492A3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7E938-9AEF-424A-993A-9C7BFCF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EDA0C-73F6-4CE1-95AF-BE83E85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1445C-CF23-405B-9026-9D05407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73447-F921-45DC-83A8-7ED3C63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703-AC70-495D-A7FC-A0C362FF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0E656-EA15-422C-A50C-0C13452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21CD6-48EC-4C6F-B324-AB1C61B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18C6D-0336-49B3-BEE7-B0555D3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7AA77-2FAA-414F-B223-4C966CA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94688-D97F-4EFB-A1BF-3D16CC6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6793C-7C54-4E65-B01C-F8DF4689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7E1A0-5ABE-4104-B9FE-CC9B7BA9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639ED-C879-4447-AD57-DA987066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6F066-52AB-45D1-A791-73D0925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041FF-4700-4E3C-88BC-86B4871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642-A2CB-49D7-B408-5E762A2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B8B27-C81B-42D5-9FD0-384EB0A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30B46-797C-4DF1-91C6-0E4D5C4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0B34C-5559-4536-B495-275FEF5A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0DD6B-F1CF-4EA3-9ED4-EDF4A6A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A84FD-76F2-46E0-A014-5D99996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D7CF7-0D74-4427-82CD-2513E71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A3151-F891-4598-983C-3A70AF11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2D7DA-788D-42AD-9D57-6B052F68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E3E4E-158B-41B1-BD4B-CE5C55BF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9F395-DE75-4402-9424-D18FED4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55D-6108-4F7D-B3B3-9261D17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CEC29-60DD-4C83-9BAC-C039781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CB90F-4EC2-4D34-B1E5-A784EA38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96E05-6ACE-450A-8EA0-8F57A37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1161E-18DD-45A6-BCC6-AA5A70C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5E070-1BC4-4742-87BD-08CBBF53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DDBF9-8173-45C7-BC2C-11E22F2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423B3-26A7-4AEF-B5A0-08276F5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3A16E-7448-4E64-A3B3-2F08F17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4413D-1AAB-45A9-8C7D-1211001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7994E-2BEE-4FAC-A252-ACD615F0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560-15AA-4BDD-ADEF-A6578F2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9B582-065E-4EFD-A655-6BE17F5C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3A13-9E0C-432E-9984-8350C9B4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F321-FDEA-4F45-A295-484F97A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1CB4-F767-484C-B0F2-AF5966B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1132-181B-4140-A197-A4859E1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2635D-D715-4016-9841-AA8D67A5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B971-3AD8-4863-A26B-09123D4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79CC-5DB8-4783-BE2B-06D1368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DC26-B107-4C0C-ABD0-FC9D92B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D95F-F508-4B96-9FFA-8D1C0A7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1F6-21F5-4216-9E7C-9DDB9062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774C-0BD8-4F18-B6FD-863A0F7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4891A-2903-43D1-9653-E2BD349F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4E07-8A30-490B-90CD-01F8D800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A28E6-779F-4B0D-84E1-37C96174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5F6AC-C95B-49B1-B59A-AD00E2D7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E5919-0B8F-46A6-9519-A94B6D19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8C8BA-0081-4148-AC9D-12EA2A6A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41782-7488-4199-9E54-9AB0F9F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57D81-DB2E-4F5F-A49C-9D98A9C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CD212-D19D-4C9E-950C-9618CC7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28D-B9CA-46AF-9C75-C73C39C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4DE89-A72B-4F63-918E-45D7419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16776-27F1-49F4-A0A0-1802177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EB041-E2ED-4F0E-A3C2-1375072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4E8DD-E518-4BA1-8DD5-64A289B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3442E-3DCC-4E81-AE2D-AE859704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A6247-E0F8-49BA-887A-6FC4940B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6C58-B6E1-4D65-8D70-671371B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1437B-657F-42DD-AF1B-A69B5DD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8977-46ED-42FA-AB7C-E9C7721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65686-8CDA-4474-87B0-211931EC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4C4-21DE-4C28-9938-7DD0C32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0F46-D80D-46DE-A671-9550D9B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3459-66D8-4330-A13E-07633C0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D46C-32BB-4084-B267-21C1344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C68A2-06AA-425B-9918-DDEC888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1308-42CB-426C-BCB7-16EBCBE6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9C4AE-66EF-4BCF-8B9B-063CA39C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EC01D-0292-4090-9283-B811F44A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8C3-3B97-42AC-AD8E-09845D1594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F234-A91C-4D84-939B-43C6755462CB}" type="slidenum">
              <a:rPr b="1" lang="en-US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862-5AB0-4B2C-8FA2-DA6A61F1FB66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058-4135-4A63-A34D-02F38AC3320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6C4-2502-42FA-A1D3-B69069CFA43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C10-B774-488C-9F92-56A5B39826A2}" type="slidenum">
              <a:rPr b="1" lang="en-US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4EB2-1459-46BE-8A87-E1F91B70ED32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1B9-2EB2-4B2C-A1FC-A71FC4933C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do-mel.ru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202"/>
                </a:solidFill>
                <a:latin typeface="Arial"/>
                <a:ea typeface="Arial"/>
              </a:rPr>
              <a:t>Муниципальное казённое общеобразовательное учреждение Скнаровская основная общеобразовательная школа</a:t>
            </a:r>
            <a:endParaRPr b="0" lang="en-US" sz="1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9440" y="1600200"/>
            <a:ext cx="82962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202"/>
                </a:solidFill>
                <a:latin typeface="Arial"/>
                <a:ea typeface="Arial"/>
              </a:rPr>
              <a:t>Приёмы создания  проблемных ситуаций на  уроках в начальной школе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Гладких Светлана Викторовна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202"/>
                </a:solidFill>
                <a:latin typeface="Arial"/>
                <a:ea typeface="Arial"/>
              </a:rPr>
              <a:t>2018 г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6" name="Picture 7" descr="086"/>
          <p:cNvPicPr/>
          <p:nvPr/>
        </p:nvPicPr>
        <p:blipFill>
          <a:blip r:embed="rId2"/>
          <a:stretch/>
        </p:blipFill>
        <p:spPr>
          <a:xfrm>
            <a:off x="195120" y="3716280"/>
            <a:ext cx="3540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9840" y="423720"/>
            <a:ext cx="8348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5. Дать практическое задание, не сходное с предыдущим.</a:t>
            </a:r>
            <a:br>
              <a:rPr sz="3200"/>
            </a:b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8760" y="10000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74"/>
                </a:solidFill>
                <a:latin typeface="Times New Roman"/>
                <a:ea typeface="Times New Roman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Математика 2 класс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 «Сложение  двузначных чисел с переходом через десяток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71600" y="3235320"/>
          <a:ext cx="8183520" cy="2867040"/>
        </p:xfrm>
        <a:graphic>
          <a:graphicData uri="http://schemas.openxmlformats.org/drawingml/2006/table">
            <a:tbl>
              <a:tblPr/>
              <a:tblGrid>
                <a:gridCol w="3597120"/>
                <a:gridCol w="45864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0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значение данных выражений объясните, как вычисля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+32                 61+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+16                 73 + 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+19 – не смогли най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, т.к. еще не умее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 такие прим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6. Дать практическое задание, сходное с предыдущим, а потом доказать, что задание не выполнено.</a:t>
            </a:r>
            <a:br>
              <a:rPr sz="3200"/>
            </a:b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320" y="1736640"/>
            <a:ext cx="855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«Русский язык» 4 класс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 «Спряжение глаголов».</a:t>
            </a:r>
            <a:r>
              <a:rPr b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уч-ся легко справляются с заданием).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упражняемся в определении спряжения глаголов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учитель аргументировано доказывает, что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всё-таки не выполнено)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теперь определите спряжение глаголов «смотреть» и  «стелить».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74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90160" indent="-290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6960" y="228600"/>
            <a:ext cx="8608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Распознавание  приёмов создания проблемных ситуаций из фрагментов  уроков.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69920" y="1241280"/>
            <a:ext cx="897408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100000"/>
              </a:lnSpc>
              <a:spcBef>
                <a:spcPts val="700"/>
              </a:spcBef>
              <a:buClr>
                <a:srgbClr val="00173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Урок русского языка в 4 классе  по теме «Склонение имён существительных»       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1080" indent="-27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читайте предложение: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1080" indent="-27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я женщина волновалась о сестре и дочер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-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м волновалась женщина?(о сестре , о дочери).         - К какой части речи относятся эти слова? (имя сущ.)       - Определите их род и падеж. (ж.р., П.п)                             - Выделите окончания. (-е, -и)                                                 - Что вас удивило?(слова одной части речи, одного рода и падежа, но с разными окончаниями)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1080" indent="-27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1080" indent="-27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1080" indent="-27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Прямоугольник 4"/>
          <p:cNvSpPr/>
          <p:nvPr/>
        </p:nvSpPr>
        <p:spPr>
          <a:xfrm>
            <a:off x="5927760" y="5904000"/>
            <a:ext cx="2730600" cy="547560"/>
          </a:xfrm>
          <a:prstGeom prst="rect">
            <a:avLst/>
          </a:prstGeom>
          <a:solidFill>
            <a:srgbClr val="bfd3e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18880" y="635040"/>
            <a:ext cx="866772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173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173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по теме «Правописание парных согласных на конце слова»    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предлагается 2 картинки: лук и луг.                 - Что изображено?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те эти слова в тетрадь.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те под каждой картиной слово на доске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никает спор, т.к. дети по-разному написали слово «луг»).Кто из ребят прав?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5705640" y="5348160"/>
            <a:ext cx="2730240" cy="549360"/>
          </a:xfrm>
          <a:prstGeom prst="rect">
            <a:avLst/>
          </a:prstGeom>
          <a:solidFill>
            <a:srgbClr val="bfd3e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09520" y="209520"/>
            <a:ext cx="8672400" cy="63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173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Урок окружающего мира в 4 классе  по теме «Природные зоны России. Пустыня»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много ли растений в пустыне?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: Очень мало, почти  н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лушайте, я прочитаю вам отрывок из научно-популярной стать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итывается фрагмент текста о цветении растений пустыни в апреле.  Обучающиеся испытывают удивл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вы сначала сказали? Как мы привыкли представлять себе пустыню? А как на самом деле? Что узнали из текста? Какая же возникает проблема? В чем мы должны разобраться? Как растения приспосабливаются (выживают) в пустыне?     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6067440" y="5923080"/>
            <a:ext cx="2730600" cy="549000"/>
          </a:xfrm>
          <a:prstGeom prst="rect">
            <a:avLst/>
          </a:prstGeom>
          <a:solidFill>
            <a:srgbClr val="bfd3e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18680" y="77616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173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Урок русского языка в 4 классе  по теме «Неопределенная форма глагола»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слова: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ют, мечтает, хотели, колет, рубить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ите число и лицо глаголов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слово вызывает недоумение учеников, так как задание невыполнимо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5691240" y="5514840"/>
            <a:ext cx="2730600" cy="547920"/>
          </a:xfrm>
          <a:prstGeom prst="rect">
            <a:avLst/>
          </a:prstGeom>
          <a:solidFill>
            <a:srgbClr val="bfd3e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82520" y="0"/>
            <a:ext cx="860904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202"/>
                </a:solidFill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96280" indent="-296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02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2202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Без сомнения, технология проблемно</a:t>
            </a:r>
            <a:r>
              <a:rPr b="0" lang="en-US" sz="2400" spc="-1" strike="noStrike">
                <a:solidFill>
                  <a:srgbClr val="002202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диалогического обучения – современная, отвечающая требованиям ФГОС, здоровьесберегающая, уникальная и  детально разработанная. Результативная, поскольку обеспечивает высокое качество знаний, эффективное развитие интеллекта и творческих способностей, воспитание активной личности.  Эта технология общепедагогическая, так как она может использоваться в любой образовательной системе, на занятиях по любому предмету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96280" indent="-2962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9" name="Picture 2" descr="087 - копия"/>
          <p:cNvPicPr/>
          <p:nvPr/>
        </p:nvPicPr>
        <p:blipFill>
          <a:blip r:embed="rId1"/>
          <a:stretch/>
        </p:blipFill>
        <p:spPr>
          <a:xfrm>
            <a:off x="1463760" y="4394160"/>
            <a:ext cx="3213000" cy="2268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IMG7877"/>
          <p:cNvPicPr/>
          <p:nvPr/>
        </p:nvPicPr>
        <p:blipFill>
          <a:blip r:embed="rId2"/>
          <a:stretch/>
        </p:blipFill>
        <p:spPr>
          <a:xfrm>
            <a:off x="6440400" y="4114800"/>
            <a:ext cx="193212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39840" y="-360"/>
            <a:ext cx="85564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2"/>
                </a:solidFill>
                <a:latin typeface="Arial"/>
                <a:ea typeface="Arial"/>
              </a:rPr>
              <a:t>Достоинства проблемных уроков: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480" y="966960"/>
            <a:ext cx="864396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“</a:t>
            </a: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Учение с увлечением”, которое обеспечивает более глубокое усвоение знаний, развитие интеллекта и творчества, не вызывая при этом перегрузок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Ребенок не боится проблем, а стремится их разрешить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Учебные проблемы оказывают положительное воздействие на эмоциональную сферу ребят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Дети получают возможность сравнивать, наблюдать, делать выводы. Убеждаются, что каждый из них имеет полное право искать и находить свой ответ, отстаивать свое мнение.  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Нижний колонтитул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463680" y="2651040"/>
            <a:ext cx="2805120" cy="385920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3435480" y="561960"/>
            <a:ext cx="570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Мельникова Е.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Проблемный урок, или Как открывать знания с ученик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Пособие для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М., 2002. 168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02"/>
                </a:solidFill>
                <a:latin typeface="Arial"/>
              </a:rPr>
              <a:t>..В данном пособии в популярной форме рассматриваются вопросы технологии и подготовки проблемного урока – урока «открытия» знаний. Книга адресована школьному учите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02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4073400" y="531648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http://pdo-mel.ru</a:t>
            </a: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8" name="Нижний колонтитул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Объект 4" descr="Осенний лист, Разные цветные картинки для ваших дете, распечатать бесплатно, без регистрации - МАМА ПАПА - Развивающий материал"/>
          <p:cNvPicPr/>
          <p:nvPr/>
        </p:nvPicPr>
        <p:blipFill>
          <a:blip r:embed="rId1"/>
          <a:stretch/>
        </p:blipFill>
        <p:spPr>
          <a:xfrm>
            <a:off x="477720" y="2997360"/>
            <a:ext cx="1019160" cy="1428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SilverRain."/>
          <p:cNvPicPr/>
          <p:nvPr/>
        </p:nvPicPr>
        <p:blipFill>
          <a:blip r:embed="rId2"/>
          <a:stretch/>
        </p:blipFill>
        <p:spPr>
          <a:xfrm>
            <a:off x="649440" y="1735200"/>
            <a:ext cx="676080" cy="663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6" descr="http://www.coloringmates.com/wp-content/uploads/leaf.gif"/>
          <p:cNvPicPr/>
          <p:nvPr/>
        </p:nvPicPr>
        <p:blipFill>
          <a:blip r:embed="rId3"/>
          <a:stretch/>
        </p:blipFill>
        <p:spPr>
          <a:xfrm rot="18998400">
            <a:off x="477720" y="5285880"/>
            <a:ext cx="1017720" cy="6447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7"/>
          <p:cNvSpPr/>
          <p:nvPr/>
        </p:nvSpPr>
        <p:spPr>
          <a:xfrm>
            <a:off x="2050920" y="18813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изованы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2050920" y="3527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чно реализов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2125440" y="54230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пользы (бел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Рисунок 10" descr="Деревья из листиков поделка для детей"/>
          <p:cNvPicPr/>
          <p:nvPr/>
        </p:nvPicPr>
        <p:blipFill>
          <a:blip r:embed="rId4"/>
          <a:stretch/>
        </p:blipFill>
        <p:spPr>
          <a:xfrm>
            <a:off x="5435640" y="1916280"/>
            <a:ext cx="3457440" cy="48654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1"/>
          <p:cNvSpPr/>
          <p:nvPr/>
        </p:nvSpPr>
        <p:spPr>
          <a:xfrm>
            <a:off x="923040" y="125100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едлагаю Вам совместно подобрать к осеннему дереву лист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228760" y="38955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жёлт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4"/>
          <p:cNvSpPr/>
          <p:nvPr/>
        </p:nvSpPr>
        <p:spPr>
          <a:xfrm>
            <a:off x="2236320" y="2276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рас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26880" y="601560"/>
            <a:ext cx="8531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«Ребенок не хочет брать готовые знания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и будет избегать того, кто силой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вдалбливает их ему в голову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Но зато он охотно пойдет за своим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наставником искать эти же самые знания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и овладевать ими»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Шалва Амонашвили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8" name="Picture 4" descr="CIMG7879"/>
          <p:cNvPicPr/>
          <p:nvPr/>
        </p:nvPicPr>
        <p:blipFill>
          <a:blip r:embed="rId1"/>
          <a:stretch/>
        </p:blipFill>
        <p:spPr>
          <a:xfrm>
            <a:off x="404640" y="3160800"/>
            <a:ext cx="428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8280" y="287280"/>
            <a:ext cx="815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Е.Л. Мельникова. Проблемный урок, или Как открывать знания вместе с учениками. М: 2006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 М. Матюшкин. Проблемные ситуации в мышлении и обучении. М.: Педагогика, 1972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. Оконь. Основы проблемного обучения. М.: Просвещение, 1968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рявцев Т.В. Проблемное обучение: истоки, сущность, перспективы. - М.:3нание, 1991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ернер И.Я. Вопросы проблемного обучения на Всесоюзных педагогических чтениях.//      Советская педагогика.-1968.-№ 7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хмутов М.И. Организация проблемного обучения в школе. Книга для учителей.- М.: Просвещение, 1977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ахмутов М.И. Проблемное обучение. Основные вопросы теории.- М.: Педагогика, 1975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чалова Н.М. Методы проблемного обучения и границы их применения.- Казань, 1978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6880" y="261720"/>
            <a:ext cx="8647200" cy="62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Сергей Леонидович Рубинштейн утверждал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"Начальным моментом мыслительного процесса обычно является проблемная ситуация. Мышление начинается с проблемы, с удивления или недоумения, с противоречия"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знаки проблемной ситуации: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необходимость выполнения такого действия, при котором возникает потребность в новом, неизвестном отношении, способе или условии действия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наличие неизвестного для учащихся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02"/>
                </a:solidFill>
                <a:latin typeface="Arial"/>
                <a:ea typeface="Arial"/>
              </a:rPr>
              <a:t>возможности учащихся должны быть достаточными для самостоятельного понимания поставленного задания и условий выполнения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202"/>
                </a:solidFill>
                <a:latin typeface="Arial"/>
                <a:ea typeface="Arial"/>
              </a:rPr>
              <a:t>Цели мастер-класса:</a:t>
            </a:r>
            <a:br>
              <a:rPr sz="36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47200" y="947520"/>
            <a:ext cx="815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Узнать приёмы создания проблемной ситуации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Расширить свои знания о технологии проблемного обучения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202"/>
                </a:solidFill>
                <a:latin typeface="Arial"/>
                <a:ea typeface="Arial"/>
              </a:rPr>
              <a:t>Поучиться применять на практике приёмы (создавать проблемную ситуацию)</a:t>
            </a:r>
            <a:br>
              <a:rPr sz="1900"/>
            </a:br>
            <a:r>
              <a:rPr b="0" lang="ru-RU" sz="1900" spc="-1" strike="noStrike">
                <a:solidFill>
                  <a:srgbClr val="002202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82" name="Picture 2" descr="IMG_2568"/>
          <p:cNvPicPr/>
          <p:nvPr/>
        </p:nvPicPr>
        <p:blipFill>
          <a:blip r:embed="rId1"/>
          <a:stretch/>
        </p:blipFill>
        <p:spPr>
          <a:xfrm>
            <a:off x="4676760" y="3814920"/>
            <a:ext cx="39448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2"/>
                </a:solidFill>
                <a:latin typeface="Calibri"/>
              </a:rPr>
              <a:t>Основные приемы создания проблемной ситуации.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2202"/>
                </a:solidFill>
                <a:latin typeface="Calibri"/>
              </a:rPr>
              <a:t>(по Е.Л.Мельниковой)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12840" y="1332000"/>
          <a:ext cx="8661240" cy="5262480"/>
        </p:xfrm>
        <a:graphic>
          <a:graphicData uri="http://schemas.openxmlformats.org/drawingml/2006/table">
            <a:tbl>
              <a:tblPr/>
              <a:tblGrid>
                <a:gridCol w="4330440"/>
                <a:gridCol w="4330800"/>
              </a:tblGrid>
              <a:tr h="35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Приемы создания проблем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Побуждение к осознанию противореч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С удивл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1. Одновременно предъявить противоречивые факты, теории, мн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Что Вас удивило? Что интересного заметили? Какие факты налиц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2. Столкнуть мнения учеников вопросом или практическим заданием на новый материа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Вопрос (задание) был один? А сколько в классе мнений? Почему так получилос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Шаг 1.</a:t>
                      </a: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 Обнажить житейское представление учащихся вопросом или практическим заданием "на ошибку"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Шаг 2.</a:t>
                      </a: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 Предъявить научный факт сообщением, экспериментом, нагляд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Вы сначала как думали? А как на самом дел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С затрудн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4. Дать практическое задание, не выполнимое вообщ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Вы смогли выполнить задание? В чем затруднени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5. Дать практическое задание, не сходное с предыдущ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Вы смогли выполнить задание? В чем затруднение? Чем это задание не похоже на предыдуще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i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Шаг 1.</a:t>
                      </a: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 Дать практическое задание, сходное с предыдущ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Шаг 2.</a:t>
                      </a: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 Доказать, что задание учениками не выполнен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202"/>
                          </a:solidFill>
                          <a:latin typeface="Times New Roman"/>
                          <a:ea typeface="Times New Roman"/>
                        </a:rPr>
                        <a:t>Что вы хотели сделать? Какие знания применили? Задание выполнено? Почему так получилос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160" y="228600"/>
            <a:ext cx="896148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облемные ситуации с удивлением</a:t>
            </a:r>
            <a:r>
              <a:rPr b="1" lang="ru-RU" sz="3600" spc="-1" strike="noStrike">
                <a:solidFill>
                  <a:srgbClr val="002202"/>
                </a:solidFill>
                <a:latin typeface="Arial"/>
                <a:ea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99880" y="926640"/>
            <a:ext cx="8622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1. Предъявление противоречивых фактов, теорий, мнений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Математика, 2 класс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«Порядок действий»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равните равенства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8 – 3 + 4 = 9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8 – 3 + 4 = 1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Побуждение к осознанию противоречия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2040" y="182160"/>
            <a:ext cx="841392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2. Столкнуть мнения учеников вопросом или практическим заданием на новый материал.</a:t>
            </a:r>
            <a:br>
              <a:rPr sz="3200"/>
            </a:b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8360" y="168408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Математика, 2 класс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«Смысл действия умножения»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3*5 =15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: 3+3+3+3+3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5+5+5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6520" y="194760"/>
            <a:ext cx="8385480" cy="21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3. Обнажить житейское представление учащихся вопросом или практическим заданием "на ошибку", предъявить научный факт сообщением, экспериментом, наглядностью</a:t>
            </a:r>
            <a:r>
              <a:rPr b="1" lang="ru-RU" sz="2800" spc="-1" strike="noStrike" u="sng">
                <a:solidFill>
                  <a:srgbClr val="ebddc3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07720" y="1704960"/>
            <a:ext cx="87915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74"/>
                </a:solidFill>
                <a:latin typeface="Times New Roman"/>
                <a:ea typeface="Times New Roman"/>
              </a:rPr>
              <a:t>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Окружающий мир, 4  класс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 «Природные зоны России»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3680" y="3425760"/>
          <a:ext cx="8834400" cy="3181320"/>
        </p:xfrm>
        <a:graphic>
          <a:graphicData uri="http://schemas.openxmlformats.org/drawingml/2006/table">
            <a:tbl>
              <a:tblPr/>
              <a:tblGrid>
                <a:gridCol w="5614920"/>
                <a:gridCol w="3219480"/>
              </a:tblGrid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слушайте и скажите: бывает ли так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Ехали мы ночью на санях по густому березовому лесу. Иногда березы заступались,  и тогда под полозьями саней мелькали разноцветные мх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очки, поросшие цветами и спелыми ягодами. И вдруг видим: над березами торчат шляпки грибов. Остановились мы, сорвали грибы и принялись искать еще. Раздвинешь 2-3 березки и найдешь хороший грибок. Набрали мы грибов целую корзинку. Смотрим на часы – время за полночь зашло, пора спать ложиться. А солнце вовсю светит и не думает заходить. Положили мы свои спальные мешки на березы, забрались в них с головой, чтобы солнце не светило и комары не кусали, и крепко заснул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ъявляет факты: фотографии, сообщения о тундре, видеоматериа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т, не может быть, что на санях едешь, а на земле вместо снега – мох, цветы, ягод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Еще не бывают грибы выше бере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чью солнце не свети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ление (возникновение проблемной ситуации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облемные ситуации с затруднением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35080" y="1006560"/>
            <a:ext cx="860904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202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 u="sng">
                <a:solidFill>
                  <a:srgbClr val="002202"/>
                </a:solidFill>
                <a:uFillTx/>
                <a:latin typeface="Arial"/>
                <a:ea typeface="Arial"/>
              </a:rPr>
              <a:t>ПРИЁМ 4. Дать практическое задание, не выполнимое вообще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Урок математики 2 класс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736"/>
                </a:solidFill>
                <a:latin typeface="Times New Roman"/>
                <a:ea typeface="Times New Roman"/>
              </a:rPr>
              <a:t>Тема: «Арифметическое действие – умножение»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20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В банку входит 2 литра воды. Сколько литров воды входит в 4 такие банки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=8 литров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На одну рубашку пришивают 9 пуговиц. Сколько пуговиц надо пришить на 890 рубашек?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Windows User</cp:lastModifiedBy>
  <dcterms:modified xsi:type="dcterms:W3CDTF">2019-10-09T16:48:11Z</dcterms:modified>
  <cp:revision>152</cp:revision>
  <dc:subject/>
  <dc:title>Name of presentation</dc:title>
</cp:coreProperties>
</file>