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BE3-54AC-44C5-9C1C-CBB8D606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E31-EDA3-4AF4-8770-5DE53FC2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5DF-C68B-4FB0-82B6-4EA5775E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8A5-206E-4DEF-8887-7C7808CD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451-3EE8-4F74-96DD-B8911F80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37A-648D-43F4-A88F-A5BD223A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7CC-BCFB-4A70-A9C3-D94A26DE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262-A7CB-4E39-9B83-499CF3F0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3D1-E251-4700-904A-4D9C2BCB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CFA-ECE0-488B-BC1A-19B4F6A2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F66-B079-405F-BAB8-0C847086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0D9-66EB-48C4-86F9-54BF558C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241B-0E39-41D1-A4BB-D13211144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rono.ru/etnosy/moksha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http://img-fotki.yandex.ru/get/5804/changmai.1b/0_511bf_1cd72c6b_XL.jpg"/>
          <p:cNvPicPr/>
          <p:nvPr/>
        </p:nvPicPr>
        <p:blipFill>
          <a:blip r:embed="rId1"/>
          <a:stretch/>
        </p:blipFill>
        <p:spPr>
          <a:xfrm>
            <a:off x="755640" y="476280"/>
            <a:ext cx="7500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Предтеченская церковь"/>
          <p:cNvPicPr/>
          <p:nvPr/>
        </p:nvPicPr>
        <p:blipFill>
          <a:blip r:embed="rId1"/>
          <a:stretch/>
        </p:blipFill>
        <p:spPr>
          <a:xfrm>
            <a:off x="1143000" y="2286000"/>
            <a:ext cx="7072200" cy="4357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571680" y="293400"/>
            <a:ext cx="785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Традиционные ве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все верующие у мордвы – православные. Крещение ее началось в процессе вхождения в состав Русского государства и завершилось в основном к середине 18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428760" y="1000080"/>
            <a:ext cx="371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Обычаи и обря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обряды связанные с хозяйственной деятельностью, с рождением детей, свадебные и т. 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ttp://detsad114.ucoz.ru/_pu/1/s93325203.jpg"/>
          <p:cNvPicPr/>
          <p:nvPr/>
        </p:nvPicPr>
        <p:blipFill>
          <a:blip r:embed="rId1"/>
          <a:stretch/>
        </p:blipFill>
        <p:spPr>
          <a:xfrm>
            <a:off x="4286160" y="428760"/>
            <a:ext cx="4334040" cy="2714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785880" y="214200"/>
            <a:ext cx="339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ультур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428760" y="3105000"/>
            <a:ext cx="33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4857840" y="342900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Мордва, не имевшая официальной письменности до 1917 года, все свои знания воплощала в фольклоре. Устное народное творчество мордвы богато, своеобразно, высокохудожеств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285840" y="55720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стное народное творчество мордвы богато, своеобразно, высокохудожественно (песни, игры, поговорки, пословицы, загадки, шутки, небылицы, заклички, частушки, скомороши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Ответы@Mail.Ru: Помогите найти картинки....Помогите найти ка…"/>
          <p:cNvPicPr/>
          <p:nvPr/>
        </p:nvPicPr>
        <p:blipFill>
          <a:blip r:embed="rId2"/>
          <a:stretch/>
        </p:blipFill>
        <p:spPr>
          <a:xfrm>
            <a:off x="500040" y="2500200"/>
            <a:ext cx="4357800" cy="3071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Файл:108701 7.jpg"/>
          <p:cNvPicPr/>
          <p:nvPr/>
        </p:nvPicPr>
        <p:blipFill>
          <a:blip r:embed="rId1"/>
          <a:stretch/>
        </p:blipFill>
        <p:spPr>
          <a:xfrm>
            <a:off x="1928880" y="1643040"/>
            <a:ext cx="2238480" cy="2543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Файл:108601 1.jpg"/>
          <p:cNvPicPr/>
          <p:nvPr/>
        </p:nvPicPr>
        <p:blipFill>
          <a:blip r:embed="rId2"/>
          <a:stretch/>
        </p:blipFill>
        <p:spPr>
          <a:xfrm>
            <a:off x="5214960" y="1857240"/>
            <a:ext cx="1400040" cy="2028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MESOEURASIA песни"/>
          <p:cNvPicPr/>
          <p:nvPr/>
        </p:nvPicPr>
        <p:blipFill>
          <a:blip r:embed="rId3"/>
          <a:stretch/>
        </p:blipFill>
        <p:spPr>
          <a:xfrm>
            <a:off x="6715080" y="4429080"/>
            <a:ext cx="1928880" cy="20718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428760" y="4764240"/>
            <a:ext cx="38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делия из шерсти и льна отделывали простейшей вышивкой шерстяными нитями и бисер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://www.mordovia.info/enc/images/e/e4/108701_4.jpg"/>
          <p:cNvPicPr/>
          <p:nvPr/>
        </p:nvPicPr>
        <p:blipFill>
          <a:blip r:embed="rId4"/>
          <a:stretch/>
        </p:blipFill>
        <p:spPr>
          <a:xfrm>
            <a:off x="4357800" y="4500720"/>
            <a:ext cx="1881000" cy="20001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"/>
          <p:cNvSpPr/>
          <p:nvPr/>
        </p:nvSpPr>
        <p:spPr>
          <a:xfrm>
            <a:off x="285840" y="3571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соким художественным уровнем отличались изделия древних ювелиров, разнообразием форм — лепная керамика. В 19 —20 вв. широкое распространение получили утварь, выдолбленная из дерева, плетённая из лозы, соломы, лыка; гончарные издел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428760" y="64296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танцах и хороводах изображали общение с покровителями, свадебные пантомимы с участием символических фигур природы, карнавальные пляски в дни свя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Жанр романа не определяем. . Присутствует слишком много , чт…"/>
          <p:cNvPicPr/>
          <p:nvPr/>
        </p:nvPicPr>
        <p:blipFill>
          <a:blip r:embed="rId1"/>
          <a:stretch/>
        </p:blipFill>
        <p:spPr>
          <a:xfrm>
            <a:off x="285840" y="2071800"/>
            <a:ext cx="3500280" cy="4429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Почему в древности люди считали осину, ель и боярышник &quot;нечистыми&quot; деревьями? . - Аргументы Недели"/>
          <p:cNvPicPr/>
          <p:nvPr/>
        </p:nvPicPr>
        <p:blipFill>
          <a:blip r:embed="rId2"/>
          <a:stretch/>
        </p:blipFill>
        <p:spPr>
          <a:xfrm>
            <a:off x="4500720" y="2071800"/>
            <a:ext cx="4000320" cy="43574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785880" y="21420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Мордовская танцевальная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4" descr="Кухня"/>
          <p:cNvPicPr/>
          <p:nvPr/>
        </p:nvPicPr>
        <p:blipFill>
          <a:blip r:embed="rId1"/>
          <a:stretch/>
        </p:blipFill>
        <p:spPr>
          <a:xfrm>
            <a:off x="4929120" y="3429000"/>
            <a:ext cx="3929040" cy="31910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4"/>
          <p:cNvSpPr/>
          <p:nvPr/>
        </p:nvSpPr>
        <p:spPr>
          <a:xfrm>
            <a:off x="428760" y="214200"/>
            <a:ext cx="84294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циональная кухня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у питания мордвы, как и других земледельческих народов, составляли продукты земледел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слый хле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кши)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пёш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п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мокши,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юкор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эрз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ряк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мокши,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як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эрзи)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л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крутое тесто раскатывали полосками, затем отрезали кусочки и бросали в кипящий буль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седневным и обрядовым блюдом бы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ные каш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2 Апреля 2014 - Персональный сайт"/>
          <p:cNvPicPr/>
          <p:nvPr/>
        </p:nvPicPr>
        <p:blipFill>
          <a:blip r:embed="rId2"/>
          <a:stretch/>
        </p:blipFill>
        <p:spPr>
          <a:xfrm>
            <a:off x="428760" y="3357720"/>
            <a:ext cx="4357440" cy="3357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214200" y="357120"/>
            <a:ext cx="4429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Б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пачат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— у мокш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пачалксеть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— у эрз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Новости: главные, российские, политики, последние, сегодня, скандальные, деловые, горячие, онлайн, в россии"/>
          <p:cNvPicPr/>
          <p:nvPr/>
        </p:nvPicPr>
        <p:blipFill>
          <a:blip r:embed="rId1"/>
          <a:stretch/>
        </p:blipFill>
        <p:spPr>
          <a:xfrm>
            <a:off x="285840" y="2643120"/>
            <a:ext cx="5143320" cy="4000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Рецепты национальной мордовской кухни"/>
          <p:cNvPicPr/>
          <p:nvPr/>
        </p:nvPicPr>
        <p:blipFill>
          <a:blip r:embed="rId2"/>
          <a:stretch/>
        </p:blipFill>
        <p:spPr>
          <a:xfrm>
            <a:off x="4286160" y="928800"/>
            <a:ext cx="4572000" cy="314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Мордовская национальная одежда история - 4 Марта 2015 - Blog - Port"/>
          <p:cNvPicPr/>
          <p:nvPr/>
        </p:nvPicPr>
        <p:blipFill>
          <a:blip r:embed="rId1"/>
          <a:stretch/>
        </p:blipFill>
        <p:spPr>
          <a:xfrm>
            <a:off x="4143240" y="1285920"/>
            <a:ext cx="4786560" cy="52149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143000" y="285840"/>
            <a:ext cx="728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селялась мордва в Зауралье и Сибирь по столыпинской аграрной ре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Мордовская музыка"/>
          <p:cNvPicPr/>
          <p:nvPr/>
        </p:nvPicPr>
        <p:blipFill>
          <a:blip r:embed="rId2"/>
          <a:stretch/>
        </p:blipFill>
        <p:spPr>
          <a:xfrm>
            <a:off x="142920" y="2143080"/>
            <a:ext cx="3929040" cy="4143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8 - Природа Мордовии - Природа photoshare.ru"/>
          <p:cNvPicPr/>
          <p:nvPr/>
        </p:nvPicPr>
        <p:blipFill>
          <a:blip r:embed="rId1"/>
          <a:stretch/>
        </p:blipFill>
        <p:spPr>
          <a:xfrm>
            <a:off x="357120" y="981000"/>
            <a:ext cx="8467920" cy="5877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285840" y="2142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Иван\Desktop\o_34cc676ed533394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500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428760" y="0"/>
            <a:ext cx="70009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Arial"/>
              </a:rPr>
              <a:t>Мордовия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часть нашей славной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642960" y="35712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красный, чудесный её уг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сами, полями, народом крас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ив её рек говорливый по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объектив в путешествие :: Форум :: Клуб Foto.ru"/>
          <p:cNvPicPr/>
          <p:nvPr/>
        </p:nvPicPr>
        <p:blipFill>
          <a:blip r:embed="rId1"/>
          <a:stretch/>
        </p:blipFill>
        <p:spPr>
          <a:xfrm>
            <a:off x="785880" y="2071800"/>
            <a:ext cx="7715160" cy="464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Мордовия на карте России"/>
          <p:cNvPicPr/>
          <p:nvPr/>
        </p:nvPicPr>
        <p:blipFill>
          <a:blip r:embed="rId1"/>
          <a:stretch/>
        </p:blipFill>
        <p:spPr>
          <a:xfrm>
            <a:off x="428760" y="357120"/>
            <a:ext cx="8143920" cy="592956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714240" y="428760"/>
            <a:ext cx="771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спублика Мордовия расположена в цент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вропейской части России, в  бассейне реки Вол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ритория составляет 26.1 тыс. кв. к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Иван\Desktop\img2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Столица - г.Саранск, находится в 600 километрах от Москвы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C:\Users\Иван\Desktop\saransk_878731.jpg"/>
          <p:cNvPicPr/>
          <p:nvPr/>
        </p:nvPicPr>
        <p:blipFill>
          <a:blip r:embed="rId1"/>
          <a:stretch/>
        </p:blipFill>
        <p:spPr>
          <a:xfrm>
            <a:off x="714240" y="1500120"/>
            <a:ext cx="742968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142920" y="4643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142920" y="142920"/>
            <a:ext cx="40719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Мордв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угро-финская народность,   делится на две группы: западную группу, живущую в районе реки  Мокши, которую и называют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окш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восточную в долине реки Суры 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эрз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Реферат: Поясное украшение &quot;Пулай&quot;"/>
          <p:cNvPicPr/>
          <p:nvPr/>
        </p:nvPicPr>
        <p:blipFill>
          <a:blip r:embed="rId2"/>
          <a:stretch/>
        </p:blipFill>
        <p:spPr>
          <a:xfrm>
            <a:off x="4286160" y="500040"/>
            <a:ext cx="4214880" cy="585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мордовский костюм фото Фотоархив"/>
          <p:cNvPicPr/>
          <p:nvPr/>
        </p:nvPicPr>
        <p:blipFill>
          <a:blip r:embed="rId1"/>
          <a:stretch/>
        </p:blipFill>
        <p:spPr>
          <a:xfrm>
            <a:off x="3286080" y="357120"/>
            <a:ext cx="5000760" cy="60692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42920" y="428760"/>
            <a:ext cx="2928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окшанский  и эрзянский  языки, относятся  к мордовской подгруп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4webmaster.ru/wp-content/uploads/old_parchment_parchment.jpg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357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1643040" y="928800"/>
            <a:ext cx="44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바탕"/>
                <a:ea typeface="바탕"/>
              </a:rPr>
              <a:t>Из истории</a:t>
            </a:r>
            <a:r>
              <a:rPr b="1" i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  <a:ea typeface="바탕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1714680" y="1571760"/>
            <a:ext cx="564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братиться к истории, мордва – очень древний народ. Ученые до сих пор спорят по вопросам его происхождения. Большинство считают, что древние финны – угры появились в 4-3 тысячелетии до н.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1928880" y="378612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звание "мордва" - иранское по происхождению, означает "человек", "мужчи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7:20:30Z</dcterms:created>
  <dc:creator>Мама</dc:creator>
  <dc:description/>
  <dc:language>en-US</dc:language>
  <cp:lastModifiedBy>1</cp:lastModifiedBy>
  <dcterms:modified xsi:type="dcterms:W3CDTF">2019-10-01T16:19:09Z</dcterms:modified>
  <cp:revision>81</cp:revision>
  <dc:subject/>
  <dc:title>История Московского Кремля  (Из серии «100 великих замков»)</dc:title>
</cp:coreProperties>
</file>