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04B0-C070-4C6F-B7DE-84CCEEFE5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2AA2-75D2-4DCA-9E89-165550F7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DF4A-9B48-47CF-8959-29E8F1A04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BCC9-2FA7-4FBF-8DBD-9DBABFDE1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6D4D-3DF5-4D10-AA0C-337F10326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0CB7-DA8D-4AF6-9841-75FA52F9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9DA5-3508-4D38-BCB7-9F0DC4F0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166A-088D-4F37-B82F-0FCBEA7A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55C7-4A5D-46EE-B2E1-5173E407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9850-AB3C-456A-BDC5-F1910F48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2817-3DFC-4966-AB6D-45596295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D330-ACE4-42C8-8891-0CAC1672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ACBC-72DD-4EC8-81C0-D85EA4C5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10D0-311B-47B3-A8C4-D4A950C7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45B1-106E-4B58-98F8-6A385ECE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AB0A-F5BD-43BA-ACE6-44BFC05AB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DA74-53CE-4D23-BA1D-289532B09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8A71-3B34-4F4A-A55A-B2E8BE1B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9E71-E2D8-4084-8A70-A7F179C9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E026-ECDE-4D5B-92A3-0B8E0567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70C5-EFBF-4901-93A3-306AE3E3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3D3E-A4F6-4715-88E8-6C844A5E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4938-95B4-4779-86F0-C70BB104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E3C4-266F-4E8A-A470-8FC0AF26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F921-8186-424D-AC55-2BDD1E9FE3D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9696-5F63-4B6A-82C0-4B765C7C667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72;&#1084;&#1103;&#1090;&#1100;" TargetMode="External"/><Relationship Id="rId2" Type="http://schemas.openxmlformats.org/officeDocument/2006/relationships/hyperlink" Target="http://ru.wikipedia.org/wiki/&#1042;&#1085;&#1080;&#1084;&#1072;&#1085;&#1080;&#1077;" TargetMode="External"/><Relationship Id="rId3" Type="http://schemas.openxmlformats.org/officeDocument/2006/relationships/hyperlink" Target="http://ru.wikipedia.org/wiki/&#1052;&#1099;&#1096;&#1083;&#1077;&#1085;&#1080;&#1077;" TargetMode="External"/><Relationship Id="rId4" Type="http://schemas.openxmlformats.org/officeDocument/2006/relationships/hyperlink" Target="http://ru.wikipedia.org/wiki/&#1069;&#1084;&#1086;&#1094;&#1080;&#1080;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-2903040"/>
            <a:ext cx="8015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09480" y="-360"/>
            <a:ext cx="792504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изация содержания познавательной сферы дошкольников с проблемами интеллектуального развития в иг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ерская диссер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шметова В.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 магист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ультета педагогики и псих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ы методик дошкольного и начального образовани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878688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омпоненты познавательной сфер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знавательные (психические) процесс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юда относятся: восприятие, внимание, память, воображение, мышление (разные вида мышления и мыслительные операц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нформаци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на включает в себя опыт и достижения, накопленные человечеством на пути познания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ношени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ссматривается как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увственно-эмоциональный опыт человека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торый складывается из отдельных эмоциональных реакций на отдельный объект, предмет, явление и событие нашего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91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Заде́ржка психи́ческого разви́тия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ушение нормального темпа психического развития, когда отдельные психические функции (</a:t>
            </a:r>
            <a:r>
              <a:rPr b="0" lang="ru-RU" sz="28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памя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28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вним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2800" spc="-1" strike="noStrike" u="sng">
                <a:solidFill>
                  <a:srgbClr val="996666"/>
                </a:solidFill>
                <a:uFillTx/>
                <a:latin typeface="Arial"/>
                <a:hlinkClick r:id="rId3"/>
              </a:rPr>
              <a:t>мышл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6666"/>
                </a:solidFill>
                <a:uFillTx/>
                <a:latin typeface="Arial"/>
                <a:hlinkClick r:id="rId4"/>
              </a:rPr>
              <a:t>эмоционально-волевая сфе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отстают в своём развитии от принятых психологических норм для данного возраста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210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Характерными особенностями детей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анного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типа являютс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5840" y="1428840"/>
            <a:ext cx="85010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ение работоспособ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ная истощаемос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устойчивое внима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остаточность произвольной памя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тавание в развитии мышл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фекты звукопроизнош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еобразное повед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дный словарный запас с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кий навык самоконтрол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релость эмоционально-волевой сфе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раниченный запас общих сведений и представлений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собенности игровой деятельности детей с ЗПР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6760" y="1357200"/>
            <a:ext cx="817740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метно-действенный способ построения иг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удности принятия ро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доразвитие партнерских отнош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ижение потребности в общении со сверстник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ение игровых действий без сопровождения реч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едность игровых сюже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дачи констатирующего эксперимен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Выявить уровень сформированности содержания познавательной сферы у старших дошкольников ЗП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Определить степень освоения сюжетно-ролевой игры у старших дошкольников ЗП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Изучить состояние работы в практике дошкольного образовательного учреж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Методика диагности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1428480"/>
            <a:ext cx="79250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то нужно для профессии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Выбор картинки»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Анализ сюжетно-ролевой игры дошкольника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кетный опрос воспитателей ДОУ и родителей, анализ календарных планов воспитательно-образовательной работы педагогов, обследование игровых уголков в группа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мпоненты познавательного развития, его показатели и крите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00040" y="1428840"/>
          <a:ext cx="8034480" cy="4365360"/>
        </p:xfrm>
        <a:graphic>
          <a:graphicData uri="http://schemas.openxmlformats.org/drawingml/2006/table">
            <a:tbl>
              <a:tblPr/>
              <a:tblGrid>
                <a:gridCol w="1770120"/>
                <a:gridCol w="1982880"/>
                <a:gridCol w="42814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он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нитив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ния о профессиях взрослых, предметах труда для каждой професс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112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оцион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оции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ес и отнош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явление интереса к профессиям. Характер глубина переживаний (стремление действовать  в соответствии с имеющими представлениями о профессиях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2092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игровых действиях отражать имеющиеся представления о профессиях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ое содержание игр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 игровой рол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 игровых действ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атрибутики и предметов-замести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09480" y="1428840"/>
          <a:ext cx="7925040" cy="4572000"/>
        </p:xfrm>
        <a:graphic>
          <a:graphicData uri="http://schemas.openxmlformats.org/drawingml/2006/table">
            <a:tbl>
              <a:tblPr/>
              <a:tblGrid>
                <a:gridCol w="1131840"/>
                <a:gridCol w="1132200"/>
                <a:gridCol w="1131840"/>
                <a:gridCol w="1133280"/>
                <a:gridCol w="1131840"/>
                <a:gridCol w="1132200"/>
                <a:gridCol w="1131840"/>
              </a:tblGrid>
              <a:tr h="77796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ите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 груп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 груп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ше средн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из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ше средн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из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947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гнитив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949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моциона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947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ктиче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571680" y="1500120"/>
          <a:ext cx="7924680" cy="4572000"/>
        </p:xfrm>
        <a:graphic>
          <a:graphicData uri="http://schemas.openxmlformats.org/drawingml/2006/table">
            <a:tbl>
              <a:tblPr/>
              <a:tblGrid>
                <a:gridCol w="1131840"/>
                <a:gridCol w="1131840"/>
                <a:gridCol w="1131840"/>
                <a:gridCol w="1133280"/>
                <a:gridCol w="1132200"/>
                <a:gridCol w="1131840"/>
                <a:gridCol w="1131840"/>
              </a:tblGrid>
              <a:tr h="77796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ите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 груп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 груп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ше средн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из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ше средн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из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947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гнитив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949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моциона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947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ктиче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  <p:sp>
        <p:nvSpPr>
          <p:cNvPr id="126" name="Заголовок 1"/>
          <p:cNvSpPr/>
          <p:nvPr/>
        </p:nvSpPr>
        <p:spPr>
          <a:xfrm>
            <a:off x="0" y="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"/>
          <p:cNvSpPr/>
          <p:nvPr/>
        </p:nvSpPr>
        <p:spPr>
          <a:xfrm>
            <a:off x="-357120" y="100440"/>
            <a:ext cx="950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Calibri"/>
              </a:rPr>
              <a:t>Уровни сформированности компонентов познавательного разви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Calibri"/>
              </a:rPr>
              <a:t>старших дошкольников с ЗП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Calibri"/>
              </a:rPr>
              <a:t>на этапе констатирующего иссле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5120" y="571320"/>
            <a:ext cx="85917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зультаты констатирующего эксперимента ЭГ и КГ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Объект 7" descr=""/>
          <p:cNvPicPr/>
          <p:nvPr/>
        </p:nvPicPr>
        <p:blipFill>
          <a:blip r:embed="rId1"/>
          <a:stretch/>
        </p:blipFill>
        <p:spPr>
          <a:xfrm>
            <a:off x="571680" y="1357200"/>
            <a:ext cx="7924680" cy="5500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5120" y="285480"/>
            <a:ext cx="89488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хнология актуализации содержания познавательной сферы детей старшего дошкольного возраста с ЗП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71320" y="1428480"/>
            <a:ext cx="792468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ев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тельны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цессуально-деятельностны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агностико-результативны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Цель исследования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79246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основе теоретико-экспериментального исследования проверить эффективность технологии, обеспечивающей актуализацию содержания познавательной сферы детей старшего дошкольного возраста с интеллектуальной недостаточностью посредством иг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Целевой  модул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: актуализация содержания познавательной сферы детей дошкольного возраста с задержкой психического развития в иг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познавательной сферы (психических процессов), формирование представлений о профессиях, орудиях труда, трудовых действ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познавательного интереса к професс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гащение игрового опы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Содержательный модул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1499760"/>
            <a:ext cx="792504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лок – «Моя семья»«Больница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лок – «Супермаркет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блок «Детский сад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лок «Поликлин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лок «Мир животных. Ферм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блок «Мой город-город нефтяник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блок «Столова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лок «Строй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блок «Дорожное движе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роцессуально-деятельностный модуль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ервый этап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богащение социального (жизненного) опыта  де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торой этап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обогащение игрового опыта (обучение игровым умениям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ретий этап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изменение предметно-игровой среды в групповой комна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етвертый этап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обучение способам построения сюжетно-ролевой игры, обучение ролевому поведени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Диагностико-результативны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ультат: актуализация содержания познавательной сферы  детей старшего дошкольного возраста с ЗПР в  сюжетно-ролевой иг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агностические методы: беседа, наблюдение, задания, 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357120"/>
            <a:ext cx="80154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ровни сформированности компонентов познавательного развития старших дошкольников с ЗПР в  контрольном эксперименте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71680" y="1428840"/>
          <a:ext cx="7929360" cy="4500360"/>
        </p:xfrm>
        <a:graphic>
          <a:graphicData uri="http://schemas.openxmlformats.org/drawingml/2006/table">
            <a:tbl>
              <a:tblPr/>
              <a:tblGrid>
                <a:gridCol w="1133280"/>
                <a:gridCol w="1131840"/>
                <a:gridCol w="1133640"/>
                <a:gridCol w="1131840"/>
                <a:gridCol w="1133280"/>
                <a:gridCol w="1132200"/>
                <a:gridCol w="1133280"/>
              </a:tblGrid>
              <a:tr h="766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 груп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 груп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ше средн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н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изк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ше средн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н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изк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933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гнитивны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93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моциональны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93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ктическ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6439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ff"/>
                </a:solidFill>
                <a:latin typeface="Arial"/>
              </a:rPr>
              <a:t>Результаты контрольного эксперимента ЭГ и КГ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Содержимое 3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925040" cy="4543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равнительный анализ сформированности познавательной сферы старших дошкольников с ЗПР  Э.Г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Содержимое 3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925040" cy="4419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1285920"/>
            <a:ext cx="850104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им образом, в процессе исследования подтвердилась заявленная во введении гипотеза, о том, что технология, направленная на устранение рассогласования между формируемыми у детей знаниями и возможностями их применения в той или иной форме в собственной деятельности (прежде всего в игре), ведет к преодолению формализации знаний, связанной с их невостребованностью и способствует их актуал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 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760" y="228600"/>
            <a:ext cx="7781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бъект исследов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цесс развития содержания познавательной сферы детей дошкольного возраста с проблемами интеллектуального 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228600"/>
            <a:ext cx="7781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едмет исследования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ология, обеспечивающая актуализацию содержания познавательной сферы детей старшего дошкольного возраста с проблемами интеллектуального развития через иг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228600"/>
            <a:ext cx="8464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дачи исследова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5480" y="928800"/>
            <a:ext cx="86439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. Проанализировать психолого-педагогическую литературу по проблеме актуализации содержания познавательной сферы детей дошкольного возраста с задержкой психического развития в иг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Определить критериально-уровневую характеристику содержания познавательной сферы старших дошкольников с задержкой психического развития для выявления ее исходного уров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Разработать и реализовать технологию актуализации содержания познавательной сферы детей с задержкой психического развития  в иг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894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новные этапы исследов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400" y="1285920"/>
            <a:ext cx="835812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26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 этап - (ноябрь-декабрь 2010г.)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ходе которого изучалось состояние проблемы в психолого-педагогической научной литературе, анализировались научные принципы, содержание, а также были подготовлены базы для проведения исслед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26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I этап – (январь 2011г. – февраль 2012г.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ходе которого в г. Нижневартовск был выявлен исходный уровень развития содержания познавательной сферы старших дошкольников с задержкой психического развит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26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II этап –  (март – май 2012г.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ходе которого была реализована технология развития познавательной сферы детей с задержкой психического развития в соответствии с Федеральными Государственными Требова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26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015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ения, выносимые на защиту: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следовани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28760" y="1599840"/>
            <a:ext cx="81057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ноценное развитие содержания познавательной сферы дошкольника с задержкой психического развития вероятно при обеспечении для него возможности практически применять свои знания в самодеятельных и самостоятельных играх, осуществляемых по собственной инициати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деятельные игры в современном дошкольном образовательном учреждении требуют педагогической поддержки на программно-методическом уровне при условии активного использования всех специфических дошкольных игр в педагогическом проце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7586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828216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игре происходит актуализация содержания познавательной сферы ребенка-дошкольника. Содержание познавательной сферы актуализируется в игре в виде обогащения тематики игр, усложнения сюжетов, обогащения ролевого поведения, в форме содержания игровой речи детей, повышения уровня обобщенности ролевых и предметных способов решения игровых зад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уализации содержания познавательной сферы ребенка-дошкольника способствует познавательная игротека – территория, на которой происходит разностороннее развитие ребенка. Цель игротеки – активизировать на разнообразном содержании самостоятельную познавательную активность детей; закреплять, конкретизировать и расширять имеющиеся и получаемые детьми сведения о мире; организовывать взаимодействие педагогов, родителей и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6760" y="28584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знавательная сфер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00040" y="1357200"/>
            <a:ext cx="803448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ное образование, обеспечивающее человеку нормальное и полноценное интеллектуальное и эмоциональное существование в ми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0:21:36Z</dcterms:created>
  <dc:creator>user</dc:creator>
  <dc:description/>
  <dc:language>en-US</dc:language>
  <cp:lastModifiedBy>*</cp:lastModifiedBy>
  <dcterms:modified xsi:type="dcterms:W3CDTF">2012-06-14T01:50:44Z</dcterms:modified>
  <cp:revision>75</cp:revision>
  <dc:subject/>
  <dc:title>Что такое метод проектов?</dc:title>
</cp:coreProperties>
</file>