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FC5E-1573-43EB-8EA2-89DEE376D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0671-1B7E-44EC-BD98-B304513D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9075-9304-4906-BCD9-66C1A1119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5CEE-CDF8-4A07-A3D9-B205884C5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4B8D-300F-4D7B-9489-6F3AEDA1B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1BEE-A8E2-48DD-931B-0F54CFB3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3CAC5-2323-42D7-B31A-EDAF50D3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8E0E-EF24-4D53-954A-5853A9AD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4946-A3E1-48EE-A9A5-77083D1D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49B8B-6031-4E77-81C9-041E4C0D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FCF2-02F4-49C7-85AF-FCCAB6F0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A971-3AE6-4B23-9320-B852AD6D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9F29-3443-498B-A8FE-26943F8B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6F26-B115-4D57-8B88-0349DA7A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B19F-4864-4F3E-BEC3-4FF23F2E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2D27-E709-4B66-8956-6D1244943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A28E-65FA-44D4-9540-F712B2B02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1FA8-32D4-4DA8-8B0E-FC457150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C03F-109E-427B-946F-508E6841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750E-DDBF-4FEE-8E2B-EBCAAAB1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616C-B193-40EF-9EB8-18A3CCA4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C0AB-D461-4952-8001-9EF2A121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5752-D050-4284-B60A-4D099868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472A-9D5F-4422-B82F-AC98FEE9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7148-B59D-4437-A5C4-B28B90A0B8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34E0-A4CC-4A3B-97A4-99EDC874F5B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memegenerator.net/img/images/14553840.jpg" TargetMode="External"/><Relationship Id="rId2" Type="http://schemas.openxmlformats.org/officeDocument/2006/relationships/hyperlink" Target="http://www.razumov.biz/foto/manor/pavlovs_museum/faces/pavlovs_museum_face_5_deadokey.livejournal.com.jpg" TargetMode="External"/><Relationship Id="rId3" Type="http://schemas.openxmlformats.org/officeDocument/2006/relationships/hyperlink" Target="https://24smi.org/public/media/2017/4/24/07_Oi8pPSF.jpg" TargetMode="External"/><Relationship Id="rId4" Type="http://schemas.openxmlformats.org/officeDocument/2006/relationships/hyperlink" Target="http://sgoroscop.ru/upload/iblock/a52/pavlov.jpg" TargetMode="External"/><Relationship Id="rId5" Type="http://schemas.openxmlformats.org/officeDocument/2006/relationships/hyperlink" Target="http://www.ras.ru/FStorage/download.aspx?id=32acb4e4-375e-4754-a359-1c3051c713bd" TargetMode="External"/><Relationship Id="rId6" Type="http://schemas.openxmlformats.org/officeDocument/2006/relationships/hyperlink" Target="https://auction.conros.ru/img/358/1158.jpg" TargetMode="External"/><Relationship Id="rId7" Type="http://schemas.openxmlformats.org/officeDocument/2006/relationships/hyperlink" Target="https://images.fineartamerica.com/images-medium-large-5/ivan-petrovich-pavlov-granger.jpg" TargetMode="External"/><Relationship Id="rId8" Type="http://schemas.openxmlformats.org/officeDocument/2006/relationships/hyperlink" Target="https://24smi.org/public/media/resize/660x-/2017/4/24/08_BUEwhOO.jpg" TargetMode="Externa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«Павлов Иван  Петрович»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5714640" y="3962520"/>
            <a:ext cx="289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аботу выполнила ученица 7 «Г» класса,  Маркова Мария Анатольевна. Руководитель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Борисова А.Н. . Школа имени А.П.Чехо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" descr="ÐÐ²Ð°Ð½ ÐÐ°Ð²Ð»Ð¾Ð²"/>
          <p:cNvPicPr/>
          <p:nvPr/>
        </p:nvPicPr>
        <p:blipFill>
          <a:blip r:embed="rId1"/>
          <a:stretch/>
        </p:blipFill>
        <p:spPr>
          <a:xfrm>
            <a:off x="228600" y="228600"/>
            <a:ext cx="1457280" cy="19810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2057400" y="45720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КОНКУРС ПРЕЗНТАЦИЙ  на тему«УЧЕНЫЕ - БИОЛОГ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Условный рефлекс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0520" y="2133360"/>
            <a:ext cx="4343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2670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Павлов формировал условные рефлексы с помощью ассоциаци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На самом деле все гениально просто. Сами можете в этом убедиться. Когда раздается неожиданный резкий звук, человек непроизвольно вздрагивает. Это его безусловный рефлекс (автоматический, врожденный) на безусловный раздражитель. Если же мы многократно столкнемся с ситуацией, когда подобный резкий звук возникает после сильного удара кулаком по столу, то вполне логично, что мы свяжем звук (безусловный раздражитель) с движением кулака (уже условный раздражитель), начнем вздрагивать еще до того, как кулак опустился на стол. Эта новая реакция организма и будет называться условным рефлексо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2" name="" descr="ÐÐ²Ð°Ð½ ÐÐ°Ð²Ð»Ð¾Ð² - Ð°Ð²ÑÐ¾Ñ Ð¿ÑÐ¾ÐµÐºÑÐ° &quot;Ð¡Ð¾Ð±Ð°ÐºÐ° ÐÐ°Ð²Ð»Ð¾Ð²Ð°&quot;"/>
          <p:cNvPicPr/>
          <p:nvPr/>
        </p:nvPicPr>
        <p:blipFill>
          <a:blip r:embed="rId1"/>
          <a:stretch/>
        </p:blipFill>
        <p:spPr>
          <a:xfrm>
            <a:off x="228600" y="1676520"/>
            <a:ext cx="4572000" cy="3352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Выработка условного рефлекса у собак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ервоначально ученый занимался исследованием пищеварительной функции собак. Но наблюдая за тем, как работают слюнные железы животных, обнаружил интересный факт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люна у собак выделяется при виде съедобного продукта. И это безусловный рефлекс. Но слюнообразование собак Павлова начиналось уже тогда, когда входил ассистент в белом халате, несущей еду для опытов. Исследователь справедливо отметил, что причиной рефлекса стал не запах еды, а появление белого халата (условный раздражитель). Он также успешно доказал это проведенными эксперимента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43336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мерть Ивана Павлов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533160" y="2209320"/>
            <a:ext cx="4647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714640" y="1904760"/>
            <a:ext cx="312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Ученый жил в непростое время, его отношения с советской властью складывались весьма неровно. После посещения Америки (1923 год) он усилил критику коммунистического режима, начал открыто выступать против насилия, произвола власти. Когда в 1924 году из его академии исключили всех студентов, которые имели отцов-священников, он и сам демонстративно покинул свой пост профессора. Умер Павлов в Ленинграде в 1936 году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4647960" cy="3581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762120" y="304560"/>
            <a:ext cx="7238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Конечно, Павлов прославился своими опытами с собаками, которые оценили и признали еще при его жизни. Замечательно, что он был удостоен почетным званием «старейшины физиологов мира», а это огромная честь для ученого. Специалисты также ценят его огромный вклад в понимание работы нервной системы человека (ведь понятия «сильная нервная система» и «слабая нервная система» тоже его достижение). Именно открытия исследователя позволили найти новые способы лечения тревожных расстройств (фобий, панических атак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Благодаря И.П. Павлову российская физиологическая школа является старейшей и крупнейшей в мировой наук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1295280" y="2819520"/>
            <a:ext cx="647712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Источники информации 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 Ю.П. Фролов. Иван Петрович Павлов, Воспоминания, Издательство Академии медицинских наук СССР, Москва 1949 го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П.К. Анохин. Иван Петрович Павлов. Жизнь, деятельность и научная школа. Издательство Академии Наук СССР, Москва 1949 го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Э.А. Асратян. Иван Петрович Павлов. Жизнь, творчество, современное состояние учения. Издательство "Наука", Москва, 1981 го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 И.П. Павлов в воспоминаниях современников. Л.: Наука, 1967 го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Источники изображени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https://memegenerator.net/img/images/14553840.jp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6fa9b7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http://www.razumov.biz/foto/manor/pavlovs_museum/faces/pavlovs_museum_face_5_deadokey.livejournal.com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6fa9b7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https://24smi.org/public/media/2017/4/24/07_Oi8pPSF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6fa9b7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http://sgoroscop.ru/upload/iblock/a52/pavlov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6fa9b7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a3c145"/>
                </a:solidFill>
                <a:uFillTx/>
                <a:latin typeface="Tahoma"/>
                <a:hlinkClick r:id="rId5"/>
              </a:rPr>
              <a:t>http://www.ras.ru/FStorage/download.aspx?id=32acb4e4-375e-4754-a359-1c3051c713b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6fa9b7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a3c145"/>
                </a:solidFill>
                <a:uFillTx/>
                <a:latin typeface="Tahoma"/>
                <a:hlinkClick r:id="rId6"/>
              </a:rPr>
              <a:t>https://auction.conros.ru/img/358/1158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6fa9b7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a3c145"/>
                </a:solidFill>
                <a:uFillTx/>
                <a:latin typeface="Tahoma"/>
                <a:hlinkClick r:id="rId7"/>
              </a:rPr>
              <a:t>https://images.fineartamerica.com/images-medium-large-5/ivan-petrovich-pavlov-granger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6fa9b7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a3c145"/>
                </a:solidFill>
                <a:uFillTx/>
                <a:latin typeface="Tahoma"/>
                <a:hlinkClick r:id="rId8"/>
              </a:rPr>
              <a:t>https://24smi.org/public/media/resize/660x-/2017/4/24/08_BUEwhOO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6fa9b7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a3c145"/>
                </a:solidFill>
                <a:uFillTx/>
                <a:latin typeface="Tahoma"/>
              </a:rPr>
              <a:t>https://схемо.рф/upload/000/u1/346/0200a5ce.jpe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6fa9b7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https://valentinagurarie.files.wordpress.com/2015/09/ivan-pavlov-grave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https://ru-static.z-dn.net/files/df4/01ff085fbda2e430d69e6d81a6b3d4c6.jp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6fa9b7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http://visualrian.ru/images/old_preview/9/02/90294_preview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6fa9b7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http://infonarod.ru/sites/default/files/users/14/maimage43000091_74f3_455b_bd45_01192e4310c6_slide_c93ca80f-0a5a-4c64-8210-c85a4d7841fc_0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Иван Павлов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876920" y="1752120"/>
            <a:ext cx="36604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ван Павлов – знаменитый российский ученый, труды которого высоко оценены и признаны научным мировым сообществом. Ученому принадлежат важные открытия в области физиологии и психологии. Павлов является создателем науки о высшей нервной деятельности человека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3733560" cy="4114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Биография биолог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4648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ван Павлов является уроженцем города Рязани, родился он  26 сентября 1849 г .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о 21 года занимался богословием планировал продолжить карьеру отца (приходского священника), но резко поменял направление деятельности, пошел учиться в Санкт-Петербургский университет, где начал изучать физиологию, химию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бы не этот поворот в судьбе замечательного ученого, мы бы не смогли познакомиться с его теорией безусловных и условных рефлексов, а темпераменты продолжали бы различать по преобладающей в организме жидкости, как завещал Гиппокра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"/>
          <p:cNvSpPr/>
          <p:nvPr/>
        </p:nvSpPr>
        <p:spPr>
          <a:xfrm>
            <a:off x="4495680" y="1676520"/>
            <a:ext cx="3505320" cy="42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80060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4724280" y="1523880"/>
            <a:ext cx="4191120" cy="4496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емья Павлов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3520" y="5181120"/>
            <a:ext cx="81532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вую любовь, будущего педагога Серафиму Карчевскую, талантливый юноша встречает в конце семидесятых. Молодых людей объединяют общие интересы и идеалы. В 1881 году они поженились. В семье Ивана и Серафимы родилось две дочери и четверо сыновей.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9" name="" descr="Ð¡ÐµÐ¼ÑÑ ÐÐ²Ð°Ð½Ð° ÐÐ°Ð²Ð»Ð¾Ð²Ð°"/>
          <p:cNvPicPr/>
          <p:nvPr/>
        </p:nvPicPr>
        <p:blipFill>
          <a:blip r:embed="rId1"/>
          <a:stretch/>
        </p:blipFill>
        <p:spPr>
          <a:xfrm>
            <a:off x="1600200" y="1219320"/>
            <a:ext cx="5943600" cy="3835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емейная жизнь Павлов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Первые годы семейной жизни оказались тяжелыми: не было собственного жилья, не хватало средств на необходимое. Трагические события, связанные с гибелью первенца и еще одного малолетнего ребенка, подорвали здоровье жены. Это выбивало из колеи и приводило в отчаяние. Подбадривая и утешая, Серафима вывела мужа из тяжелейшей меланхолии. 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В дальнейшем личная жизнь пары наладилась и не мешала молодому ученому строить карьеру. Этому содействовала и постоянная поддержка жены. В научных кругах Иван Петрович пользовался уважением, а его сердечность и энтузиазм притягивали к нему друзей. 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3759120" cy="4498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ачало великих открыти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914040" y="1599840"/>
            <a:ext cx="3429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нтересы молодого ученого сложились под влиянием выдающихся специалистов: Карла Людвига и Рудольфа Гейденгайна. Он серьезно интересовался проблемами артериального давления, а когда ему исполнился 41 год стал настоящим профессором Императорской медицинской академи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ти стены дали ему возможность заниматься связью пищеварения и слюноотделения, а также проводить эксперименты на собаках. К слову, Павлов был замечательным хирургом, что помогало ему в постановке опыт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505320" cy="4419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обелевская премия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 1890-ом году, несмотря на многие препятствия, Иван Петрович занял должность профессора фармакологии в Военно-медицинской академии. Именно здесь он провел свои самые главные научные исследования. Работы в области изучения физиологии пищеварительных желез принесли ему мировую известность. Его работы в области исследования условных рефлексов очень быстро стали настоящим прорывом в медицине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 1904 году была основана Нобелевская премия в области медицины, и ее первым лауреатом стал именно Павло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533520" y="2057040"/>
            <a:ext cx="3581280" cy="342900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228600" y="1473120"/>
            <a:ext cx="419112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09480" y="4191120"/>
            <a:ext cx="85345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1901-ом он стал членом-корреспондентом, а в 1907-ом действительным членом академии нау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аучное признание за рубежом вылилось в то, что он стал почетным членом сразу нескольких иностранных академий нау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конце 1920-х годов он стал общепризнанным лидером мировой физиолог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800600" cy="2919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5029200" y="1371600"/>
            <a:ext cx="3809880" cy="2376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14" name=""/>
          <p:cNvSpPr/>
          <p:nvPr/>
        </p:nvSpPr>
        <p:spPr>
          <a:xfrm>
            <a:off x="5410080" y="38088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Открытие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XV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Международного конгресса физиологов в Ленингра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Открытие Павлов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228240" y="2742840"/>
            <a:ext cx="3965400" cy="26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4640" y="1600200"/>
            <a:ext cx="320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менно в ходе исследований, где подопытными были собаки, Иван Петрович пришел к теории условного рефлекса, а к 1930 году смог перенести свои знания на людей, страдающих от психоз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чему это открытие стало таким знаменательным, а само понятие «условный рефлекс» - венцом научной деятельности Павлова? Да потому, что процесс научения стал управляем и научно обоснован. А впоследствии его идеи стали основой для развития поведенческой психологии (или бихевиоризма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5334120" cy="4038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5T20:40:45Z</dcterms:created>
  <dc:creator>Анатолий</dc:creator>
  <dc:description/>
  <dc:language>en-US</dc:language>
  <cp:lastModifiedBy>User</cp:lastModifiedBy>
  <dcterms:modified xsi:type="dcterms:W3CDTF">2019-04-23T20:06:34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