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chimes.wav" ContentType="audio/x-wav"/>
  <Override PartName="/ppt/media/image6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17736-0085-47C0-B397-7A1001AB13D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C041A-14E9-4293-9050-347759F3CC57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1C9E-1E48-47F7-9BE5-4228017EB66C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2A5E-554F-49EF-A69A-5978B76B8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5A0E-7879-415C-90E0-3F579D858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405B-3723-40D2-A1FE-8BE0A2A7B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A0DE-007E-4A84-98B1-8B403BC07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9418A-4170-440D-8CF5-AC8FBA289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96856-D528-4A07-A431-4BC533A8A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67F68-7C7A-41DA-8301-7FF898F51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D17E3-A2E4-4329-8421-20313A9B8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D9C40-FEE1-4F34-B5E0-77A0B12CD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C7EC8-F917-4F89-B834-7C99BE68F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4A7E7-1DB8-49F2-B577-99851AB5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B549-397E-4DEA-B8C2-C3B41D46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6C7E8-7BF1-46C0-88BC-A711AE42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F6184-9352-42DB-A337-53B621D1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24B0E-B05A-4F9B-8079-F459F5B84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978EB-DC77-41E3-B8B1-F5AF797A9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1F303-772A-4712-A3F8-FEC830523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DB72D2-5897-4E7F-9775-7CA61B6B5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CC3967-855D-4603-B7FE-6A50BA1CE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73F758-0956-43E8-841C-B1689038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43AC06-00C7-4817-8703-3FFE466FE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44F783-2B51-44E3-8F2D-F165976BD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DFC4-D683-4656-8F9A-8B5498B13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2741A0-942D-41B2-8A71-70D4E5A35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AA6A44-0933-4D8E-AB50-22045A80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FEC200-CE39-4BE3-A02B-7DC6D8C3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590B92-F3A1-4237-85A5-7CD56CB6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4B02E5-6483-484A-85EC-FC22E162E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706DB0-3153-4E93-BD2D-E98E86F58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EA0650-B3A3-4566-8FA6-28AC55BEA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25F92-AC76-4935-AFD4-443A474C7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27A40-4E32-497E-B39C-A1F8B21F8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C4D28-B45A-49E6-A683-F30B29ED6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F595-EC68-47A8-9033-410A83F2A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1C8F7-8430-4DAF-AA1B-551292784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8A0A0-994A-4AB4-9D90-3FF411287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5210D-01E8-4D08-BB55-7B86F4C4B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FA508-A60C-442A-9AF5-C198689F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D2B07-33F1-4E04-A058-AB56AC43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C389D-8658-48C7-A549-A3CA7AAD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E4235-0D70-42EC-9D35-57DF4C5A4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C59E9-C109-4844-96C4-ECA5DD30D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4ADA4-BC34-4D73-B321-947D24E65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5BB56E-B479-4770-AAF8-160423E7B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2A47-E42C-4FA2-8E9B-DB741E9F3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F396AD-CC64-4F9A-8899-D88D3DBC9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28E72F-060A-4EFD-9A82-D27A0F994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0C31D0-C232-4CEB-B7F6-EECD0AC8E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976254-4C9A-40A8-81CC-EC0AD7DC9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233574-C806-49F9-A9AD-6A0446CF1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E6F685-28FC-4471-8E76-1BF453C3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EFA054-F25C-47C0-AE37-7ABF5D2C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A5F110-DACD-49A8-B75A-01C5BFB8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E9437A-DC01-4CEF-8178-9E03D7894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59E0A6-FAA2-4D2A-9503-7CEDDC174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A0CA-F186-4D77-874F-F43E69D4C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EF1A29-7F0D-40D4-B4A6-FAFEF0B9B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634D54-90E0-4205-8744-5D9BD0D1C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904886-C287-4A02-94BC-597FE1F84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6654C1-100A-42F3-8870-FCD98A682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B2B8C6-BE96-48AB-B63A-E88CB060A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0DC8E1-3AEA-4CA6-A2BA-78BEB43C4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F98DC1-0DA8-4B97-A997-5068A5F8E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755766-9A5D-4219-840D-43992CC9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C26901-E7E8-40EF-BF01-81303F17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A08046-46AE-499D-9BE0-81DFE146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FE40-7EE1-4BA3-A1E8-90B2F839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1F8215-9270-444A-A473-4C37D91B9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4A7310-1843-4510-8609-D3407ABBA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E12797-FEC1-43E7-8372-7A98A5A1D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3854BC-D684-4D99-BF3F-1A02C7106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467CD6-F351-4991-89D1-581570A5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619776-D173-4714-A392-178854D2C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E76850-5420-42D8-92EA-65CB2741A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CF0F81-8737-4036-A261-283E846B8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6B13D7-A1B6-4A50-9CC9-94A85A32D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27A69A-0062-4A95-8D44-FD67FDEE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3CD1-8228-4AEB-875C-3627D04D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1C33CB-A839-4D99-A890-E85127D4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0A5F07-675B-4C55-9181-086F8F47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79B73F-DF28-4BE2-A618-E5C915C7A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AB3112-D5D5-40F2-A134-91E5D337F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5AD63F-27C3-4200-B25B-AD09995B8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9B2D-EBA7-4A3D-AF2B-72E43CF6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FEB1E-8B4C-483B-8AF7-63D6365ED53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F69BB-C884-415E-AFBA-3DFD9F116B7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A95F-8E7E-41F8-833B-142F2048845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ABE3E-715B-40A6-9339-55C02EEBA61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1B3D9-7C5B-4A55-8BE3-513F6024412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8302F-BB6A-44C6-B27F-42C86D9F260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6D44E-1A91-46E0-9351-E838163D532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24000" y="1484280"/>
            <a:ext cx="84960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8000"/>
                </a:solidFill>
                <a:latin typeface="Blackadder ITC"/>
              </a:rPr>
              <a:t>               </a:t>
            </a:r>
            <a:r>
              <a:rPr b="1" i="1" lang="ru-RU" sz="7200" spc="-1" strike="noStrike">
                <a:solidFill>
                  <a:srgbClr val="008000"/>
                </a:solidFill>
                <a:latin typeface="Blackadder ITC"/>
              </a:rPr>
              <a:t>ПРЕЗЕНТАЦИЯ НА ТЕМУ : «ПЕРЕЛЕТНЫЕ ПТИЦЫ»</a:t>
            </a:r>
            <a:endParaRPr b="0" lang="en-US" sz="7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1042920" y="713880"/>
            <a:ext cx="760104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entury Schoolbook"/>
              </a:rPr>
              <a:t>МБДОУ №1 «Нальмес»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3924360" y="5373720"/>
            <a:ext cx="4751280" cy="10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Bookman Old Style"/>
              </a:rPr>
              <a:t>Работу выполнила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Bookman Old Style"/>
              </a:rPr>
              <a:t>Воспитатель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Bookman Old Style"/>
              </a:rPr>
              <a:t>Духу Шамсет Кимовн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23640" y="1980720"/>
            <a:ext cx="8134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8000"/>
                </a:solidFill>
                <a:latin typeface="Blackadder ITC"/>
              </a:rPr>
              <a:t>               </a:t>
            </a:r>
            <a:endParaRPr b="0" lang="en-US" sz="8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1042920" y="714240"/>
            <a:ext cx="7601040" cy="25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70c0"/>
                </a:solidFill>
                <a:latin typeface="Century Schoolbook"/>
              </a:rPr>
              <a:t>Перелетные птицы.</a:t>
            </a:r>
            <a:endParaRPr b="0" lang="en-US" sz="8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Text Box 6"/>
          <p:cNvSpPr/>
          <p:nvPr/>
        </p:nvSpPr>
        <p:spPr>
          <a:xfrm>
            <a:off x="571680" y="5214960"/>
            <a:ext cx="61927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42600" y="7138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70e1a"/>
                </a:solidFill>
                <a:latin typeface="Century Schoolbook"/>
              </a:rPr>
              <a:t>УВИДЕЛ ГРАЧА – </a:t>
            </a:r>
            <a:br>
              <a:rPr sz="5000"/>
            </a:br>
            <a:r>
              <a:rPr b="1" lang="ru-RU" sz="5000" spc="-1" strike="noStrike">
                <a:solidFill>
                  <a:srgbClr val="070e1a"/>
                </a:solidFill>
                <a:latin typeface="Century Schoolbook"/>
              </a:rPr>
              <a:t>ВЕСНУ  ВСТРЕЧАЙ</a:t>
            </a:r>
            <a:endParaRPr b="0" lang="en-US" sz="5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5" name="Picture 4" descr="D:\ИРИНА\Перелетные птицы\Рисунок3.jpg"/>
          <p:cNvPicPr/>
          <p:nvPr/>
        </p:nvPicPr>
        <p:blipFill>
          <a:blip r:embed="rId1"/>
          <a:stretch/>
        </p:blipFill>
        <p:spPr>
          <a:xfrm>
            <a:off x="2786040" y="2071800"/>
            <a:ext cx="3173400" cy="43574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70e1a"/>
                </a:solidFill>
                <a:latin typeface="Century Schoolbook"/>
              </a:rPr>
              <a:t>УВИДАЛ СКВОРЦА – ЗНАЙ: ВЕСНА У КРЫЛЬЦА.</a:t>
            </a:r>
            <a:r>
              <a:rPr b="0" lang="ru-RU" sz="2700" spc="-1" strike="noStrike">
                <a:solidFill>
                  <a:srgbClr val="070e1a"/>
                </a:solidFill>
                <a:latin typeface="Century Schoolbook"/>
              </a:rPr>
              <a:t> 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7" name="Picture 4" descr="D:\ИРИНА\Перелетные птицы\Рисунок4.jpg"/>
          <p:cNvPicPr/>
          <p:nvPr/>
        </p:nvPicPr>
        <p:blipFill>
          <a:blip r:embed="rId1"/>
          <a:stretch/>
        </p:blipFill>
        <p:spPr>
          <a:xfrm>
            <a:off x="2571840" y="2000160"/>
            <a:ext cx="3166920" cy="42228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  <p:sndAc>
      <p:stSnd>
        <p:snd r:embed="rId2" name="chimes.wav"/>
      </p:stSnd>
    </p:sndAc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70e1a"/>
                </a:solidFill>
                <a:latin typeface="Century Schoolbook"/>
              </a:rPr>
              <a:t>ВСЛЕД ЗА СКВОРЦАМИ ПРИЛЕТАЮТ ЖАВОРОНК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9" name="Picture 4" descr="D:\ИРИНА\Перелетные птицы\Рисунок5.jpg"/>
          <p:cNvPicPr/>
          <p:nvPr/>
        </p:nvPicPr>
        <p:blipFill>
          <a:blip r:embed="rId1"/>
          <a:stretch/>
        </p:blipFill>
        <p:spPr>
          <a:xfrm>
            <a:off x="1571760" y="2357280"/>
            <a:ext cx="5508360" cy="3222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  <p:sndAc>
      <p:stSnd>
        <p:snd r:embed="rId2" name="chimes.wav"/>
      </p:stSnd>
    </p:sndAc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600" spc="-1" strike="noStrike">
                <a:solidFill>
                  <a:srgbClr val="002060"/>
                </a:solidFill>
                <a:latin typeface="Century Schoolbook"/>
              </a:rPr>
              <a:t>ЗЯБЛИК</a:t>
            </a:r>
            <a:endParaRPr b="0" lang="en-US" sz="5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1" name="Picture 4" descr="D:\ИРИНА\Перелетные птицы\Рисунок6.jpg"/>
          <p:cNvPicPr/>
          <p:nvPr/>
        </p:nvPicPr>
        <p:blipFill>
          <a:blip r:embed="rId1"/>
          <a:stretch/>
        </p:blipFill>
        <p:spPr>
          <a:xfrm>
            <a:off x="2211480" y="1733400"/>
            <a:ext cx="3960720" cy="41958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  <p:sndAc>
      <p:stSnd>
        <p:snd r:embed="rId2" name="chimes.wav"/>
      </p:stSnd>
    </p:sndAc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600" spc="-1" strike="noStrike">
                <a:solidFill>
                  <a:srgbClr val="002060"/>
                </a:solidFill>
                <a:latin typeface="Century Schoolbook"/>
              </a:rPr>
              <a:t>СОЛОВЕЙ</a:t>
            </a:r>
            <a:endParaRPr b="0" lang="en-US" sz="5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3" name="Picture 4" descr="D:\ИРИНА\Перелетные птицы\Рисунок7.jpg"/>
          <p:cNvPicPr/>
          <p:nvPr/>
        </p:nvPicPr>
        <p:blipFill>
          <a:blip r:embed="rId1"/>
          <a:stretch/>
        </p:blipFill>
        <p:spPr>
          <a:xfrm>
            <a:off x="3014640" y="2063880"/>
            <a:ext cx="2486160" cy="36511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  <p:sndAc>
      <p:stSnd>
        <p:snd r:embed="rId2" name="chimes.wav"/>
      </p:stSnd>
    </p:sndAc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600" spc="-1" strike="noStrike">
                <a:solidFill>
                  <a:srgbClr val="002060"/>
                </a:solidFill>
                <a:latin typeface="Century Schoolbook"/>
              </a:rPr>
              <a:t>ИВОЛГА</a:t>
            </a:r>
            <a:endParaRPr b="0" lang="en-US" sz="5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5" name="Picture 4" descr="D:\ИРИНА\Перелетные птицы\Рисунок10.jpg"/>
          <p:cNvPicPr/>
          <p:nvPr/>
        </p:nvPicPr>
        <p:blipFill>
          <a:blip r:embed="rId1"/>
          <a:stretch/>
        </p:blipFill>
        <p:spPr>
          <a:xfrm>
            <a:off x="2730600" y="1647720"/>
            <a:ext cx="3192480" cy="42102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  <p:sndAc>
      <p:stSnd>
        <p:snd r:embed="rId2" name="chimes.wav"/>
      </p:stSnd>
    </p:sndAc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600" spc="-1" strike="noStrike">
                <a:solidFill>
                  <a:srgbClr val="070e1a"/>
                </a:solidFill>
                <a:latin typeface="Century Schoolbook"/>
              </a:rPr>
              <a:t>БЕРЕГИТЕ ПТИЦ!</a:t>
            </a:r>
            <a:endParaRPr b="0" lang="en-US" sz="5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7" name="Picture 4" descr="D:\ИРИНА\Перелетные птицы\Рисунок9.jpg"/>
          <p:cNvPicPr/>
          <p:nvPr/>
        </p:nvPicPr>
        <p:blipFill>
          <a:blip r:embed="rId1"/>
          <a:stretch/>
        </p:blipFill>
        <p:spPr>
          <a:xfrm>
            <a:off x="2857680" y="2143080"/>
            <a:ext cx="2830320" cy="34704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  <p:sndAc>
      <p:stSnd>
        <p:snd r:embed="rId2" name="chimes.wav"/>
      </p:stSnd>
    </p:sndAc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5T15:28:34Z</dcterms:created>
  <dc:creator>Bill</dc:creator>
  <dc:description/>
  <dc:language>en-US</dc:language>
  <cp:lastModifiedBy>Нальмэс</cp:lastModifiedBy>
  <dcterms:modified xsi:type="dcterms:W3CDTF">2019-10-09T12:36:29Z</dcterms:modified>
  <cp:revision>15</cp:revision>
  <dc:subject/>
  <dc:title>               </dc:title>
</cp:coreProperties>
</file>