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14.jpeg" ContentType="image/jpeg"/>
  <Override PartName="/ppt/media/image12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498-ED35-4246-B17D-A0AD005F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5F7-D483-46DB-AE47-83F648AA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BDE-7686-4B3F-828B-FDC60E58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8C0-9FAE-4F47-A12B-0E0BD341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6DC4B-1786-4542-8594-D49ED1F0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E7E6C-4DCE-47AC-A78A-5EB34456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E1F1B-BB83-4E81-A9FC-028E83B7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10140-300F-4C53-B265-504A5325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8B974-3B16-45B2-83D2-2955E00D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B5F68-91ED-4979-85A4-A418A654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67221-05A3-441B-884D-31CB64A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DBE-B0B3-4AF9-8559-60120ADD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4E0C3-99B1-4AED-89D6-188AF3F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31E84-C2E3-41EB-B7AE-E00414E0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B5901-83E9-435A-8801-A274A891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00EB9-2DAC-4184-B35B-448F0982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A73F6-4ABD-4C0A-A1B5-8220D5D4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25F-8B54-4DD7-BC2C-1F1C783F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260-C328-43C9-8DB5-0EED62F3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96E-78FE-45A3-9613-C7281CAA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7FF-D427-4675-B7C8-3922089D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3B3-486E-44B7-8A51-75A5C059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32F-6013-44B1-9C15-6629E3A1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907-E840-465F-A43E-8BC8A15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D6D1-4D5B-415E-A246-EBC03AB4B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75D8-49CE-436B-BC91-3E9A2AF5ED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jonnis.ru/index.php?option=com_datsogallery&amp;Itemid=59&amp;func=detail&amp;catid=198&amp;id=4065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-38736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Times New Roman"/>
              </a:rPr>
              <a:t>Профилактика синдрома эмоционального выгорания (СЭВ)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6979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600"/>
                </a:solidFill>
                <a:latin typeface="Times New Roman"/>
                <a:ea typeface="Times New Roman"/>
              </a:rPr>
              <a:t>поведенческие симптомы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574560" y="1844640"/>
            <a:ext cx="8569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дение интереса к новым теориям и идеям в работе, к альтернативным подходам в решении пробл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патия, падение вкуса и интереса к жизни; большее предпочтение стандартным шаблонам, рутине, нежели творческому подходу; безразличие к новшества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лое участие или отказ от участия в развивающих экспериментах, образовании; формальное выполнение работ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600"/>
                </a:solidFill>
                <a:latin typeface="Times New Roman"/>
                <a:ea typeface="Times New Roman"/>
              </a:rPr>
              <a:t>эмоциональные симптом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достаток эмоций; безразличие 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талость; ощущение беспомощност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дражительность; тревог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способность сосредоточиться; чув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ны; душевные страдания; потер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деалов, надежд или профессиональ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спекти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164360" y="126828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В целях направленной профилактики СЭВ следует</a:t>
            </a:r>
            <a:r>
              <a:rPr b="0" i="1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араться рассчитывать и обдуманно распределять свои нагрузки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ься переключаться с одного вида деятельности на друго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ще относиться к конфликтам на работ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 пытаться быть лучшим всегда и во все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604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рофессиональное развитие 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амосовершенствование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мен профессиональной информацией 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ставителями других служб, что дает ощущение более широкого мира, нежели тот, который существует внутри отдельного коллектива, для это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ествуют различные способы – курсы повышения квалификации, конференции и пр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50716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600"/>
                </a:solidFill>
                <a:latin typeface="Times New Roman"/>
                <a:ea typeface="Times New Roman"/>
              </a:rPr>
              <a:t>Уход от ненужной конкурен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ывают ситуации, когда ее нельзя избежать, но чрезмерное стремление к выигрышу порождает тревог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3635280" y="4508640"/>
            <a:ext cx="12178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эмоциональное общен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гда человек анализирует свои чув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делится ими с другими, вероят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горания значительно снижается и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цесс этот оказывается не сто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раженны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8" descr="смайли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436572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екомендации по профилактике СЭ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ределение краткосрочных 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лгосрочных це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зятие «тайм-аутов» (отдых от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ладение умениями и навыками саморегуляции (релаксация, положительная внутренняя реч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Times New Roman"/>
              </a:rPr>
              <a:t>Упражнение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Times New Roman"/>
              </a:rPr>
              <a:t>«Главное - второстепенное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7680" y="404280"/>
            <a:ext cx="8805960" cy="17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Релаксация по Джекобсону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739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а 1-2 секунды напрягите и отпустите 2-3 раза подряд соответствующие мышцы: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1. Пальцы ног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2. Стопы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3. Икроножные мышцы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4. Мышцы бедра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5. Ягодичные мышцы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6. Живот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7. Мышцы спины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8. Кисти рук (сжать в кулак, разжать)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9. Предплечье напрячь, расслабить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10. Трицепсы, бицепсы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11. Мышцы груди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12. Мышцы ше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ска удивления: поднять высоко брови;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ска гнева: нахмурить брови;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ска поцелуя: сомкнуть губы как для поцелуя;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ска смеха: улыбка «Буратино»;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ска недовольства: сжать губы, поджать подбородок и опустить уголки рта;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ильно зажмурьтесь и откройте глаза;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апрягите и расслабьте н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еперь посидите несколько минут, насладитесь покоем. Когда вам покажется, что медленно плывете, вы полностью расслабились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500120" y="500040"/>
            <a:ext cx="60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Упражнения</a:t>
            </a:r>
            <a:r>
              <a:rPr b="0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для лиц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8996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индром эмоционального выгорания (СЭВ)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 реакция организма, возникающая вследствие продолжительного воздействия профессиональных стрессов средней интенсивност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ЭВ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это процесс постепенной утраты эмоциональной, когнитивной (познавательной) и физической энергии, проявляющийся в симптомах эмоционального, умственного истощения, физического утомления, личной отстраненности и снижения удовлетворения исполнением работы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СРЕДСТВА ВОССТАНО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) Психологические средства: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утогенная тренировка, мышечная релаксация, музыка и светомузыка, психорегуляция 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) Психогигиенические средства: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интересный досуг, позитивные кинофильмы, общение с природой, комфортабельные условия жизни, хорошее общение.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3) Организационные средства: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сбалансированная активность, правильный режим дня, планирование деятель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) Медико-биологические средства: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ассаж, водные процедуры, бани, рациональное питание, полноценный отдых и сон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5) Фармакологические средства: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препараты женьшеня, золотого корня, витамины и минеральные вещества, биоактивные добавки, аромамасла. Особое место занимает хороший зеленый чай. Правильно организованная чайная процедура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, связанные с воздействием 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063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ормулировки самовнушений строятся в виде простых и кратких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тверждений, с позитивной направленностью (без частицы «не»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451"/>
              </a:spcBef>
              <a:spcAft>
                <a:spcPts val="106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моприказ — это короткое, отрывистое распоряжение, сделанное самому себе. Применяйте самоприказ, когда убеждены в том, что надо вести себя определенным образом, но испытываете трудности с выполнени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451"/>
              </a:spcBef>
              <a:spcAft>
                <a:spcPts val="106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моодобрение (самопоощрение). Люди часто не получают положительной оценки своего поведения со стороны. Особенно в ситуациях повышенных нервно-психических нагрузок — это одна из причин увеличения нервозности, раздражения. Поэтому важно поощрять себя самому. </a:t>
            </a: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аходите возможность хвалить себя в течение рабочего дня не менее 3–5 раз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358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c00"/>
                </a:solidFill>
                <a:latin typeface="Arial"/>
              </a:rPr>
              <a:t>Релаксац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6813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0" y="1800360"/>
            <a:ext cx="914400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87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 профессиональным факторам риска относят «помогающие», альтруистические профессии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врачи, медицинские сестры, педагоги, социальные работники, психолог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6572160" y="2500200"/>
            <a:ext cx="2014560" cy="1719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3857760" y="4000680"/>
            <a:ext cx="2303280" cy="2155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j0186348"/>
          <p:cNvPicPr/>
          <p:nvPr/>
        </p:nvPicPr>
        <p:blipFill>
          <a:blip r:embed="rId3"/>
          <a:stretch/>
        </p:blipFill>
        <p:spPr>
          <a:xfrm>
            <a:off x="1071720" y="2643120"/>
            <a:ext cx="195552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8524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рофессиональные стрессоры,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пособствующие развитию СЭВ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916452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101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обязательность работы в строго установленном режиме дн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101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большая эмоциональная насыщенность актов взаимодейств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лавная причина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сихологическое, душевное переутомление. Когда требования (внутренние и внешние) длительное время преобладают над ресурсами (внешними и внутренним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732720" y="386064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43588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 основным организационным факторам, способствующим выгоранию, относятся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сокая рабочая нагруз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сутствие или недостаток социальной поддержки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сокая степень неопределенности в оценке выполняемой работ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возможность влиять на принятие решений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обходимость внешне проявлять эмоции, не соответствующие реалия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сутствие выходных, отпусков и интересов вне рабо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Личностные особенности, способствующие развитию СЭ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сокий уровень эмоциональной лабильности (неустойчивост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сокий самоконтроль (особенно при волевом подавлении отрицательных эмоци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клонность к повышенной тревог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гидная (негибкая) личностная</a:t>
            </a:r>
            <a:r>
              <a:rPr b="0" lang="ru-RU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струк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8600" y="317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имптомы, характерные для СЭВ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348000" y="2708280"/>
            <a:ext cx="30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1305000" y="3141720"/>
            <a:ext cx="2085840" cy="208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6877080" y="2133720"/>
            <a:ext cx="1495440" cy="166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6084720" y="33577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усталость, физическое утомлени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истощение; изменение веса; бессонниц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лохое общее состояние здоровь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овышение артериального давле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болезни сердечно-сосудистой сис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600"/>
                </a:solidFill>
                <a:latin typeface="Arial"/>
              </a:rPr>
              <a:t>физические симпт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6:19:48Z</dcterms:created>
  <dc:creator>007</dc:creator>
  <dc:description/>
  <dc:language>en-US</dc:language>
  <cp:lastModifiedBy>3 июля</cp:lastModifiedBy>
  <dcterms:modified xsi:type="dcterms:W3CDTF">2018-02-19T14:05:37Z</dcterms:modified>
  <cp:revision>22</cp:revision>
  <dc:subject/>
  <dc:title>Профилактика синдрома эмоционального выгорания (СЭВ) </dc:title>
</cp:coreProperties>
</file>