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6.xml.rels" ContentType="application/vnd.openxmlformats-package.relationships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13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1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4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6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5728B-7CEC-47AE-B734-A0C33A14D08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504E4-D6C4-4714-ABD8-32ED8A9EC42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3FB64-C521-42A2-8ABA-7D6DC8C63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67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3964320"/>
            <a:ext cx="67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0B524-2044-4D21-AD8A-F7C289053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30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780000" y="1600200"/>
            <a:ext cx="330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3964320"/>
            <a:ext cx="330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780000" y="3964320"/>
            <a:ext cx="330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D3DE3-515E-4D8B-B453-94B6E1767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8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597760" y="1600200"/>
            <a:ext cx="218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90960" y="1600200"/>
            <a:ext cx="218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3964320"/>
            <a:ext cx="218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597760" y="3964320"/>
            <a:ext cx="218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890960" y="3964320"/>
            <a:ext cx="218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ED481-E76C-4649-B362-D5C903716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C8356-0017-4DE2-B61E-633459B9F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4920" y="1600200"/>
            <a:ext cx="67816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61538-AE54-44A1-ABCD-A9117D831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6781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48ABD-5B5C-441F-9C3A-1529B61F0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309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780000" y="1600200"/>
            <a:ext cx="3309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8818D-DC51-4FD8-8FD9-B79855A12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72247-987C-46B9-8E45-762006FC0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371600" y="151920"/>
            <a:ext cx="6019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DBEAC-A191-408B-BDFF-7CA3DF6FE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30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780000" y="1600200"/>
            <a:ext cx="3309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4920" y="3964320"/>
            <a:ext cx="330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7BD17-9163-41AC-9092-8F87C1888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1600200"/>
            <a:ext cx="67816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D7F18-C4A1-42A0-8056-90527B665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309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780000" y="1600200"/>
            <a:ext cx="330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780000" y="3964320"/>
            <a:ext cx="330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93821-499D-4EC0-B74D-737B63785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30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780000" y="1600200"/>
            <a:ext cx="330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4920" y="3964320"/>
            <a:ext cx="67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323AC-EA8C-4884-9063-FAD93218A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67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4920" y="3964320"/>
            <a:ext cx="67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B2E74-CACE-4527-ADFA-72D70169F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30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80000" y="1600200"/>
            <a:ext cx="330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4920" y="3964320"/>
            <a:ext cx="330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3780000" y="3964320"/>
            <a:ext cx="330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F2BA9-4830-413D-9FD8-026C125B4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8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597760" y="1600200"/>
            <a:ext cx="218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890960" y="1600200"/>
            <a:ext cx="218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4920" y="3964320"/>
            <a:ext cx="218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597760" y="3964320"/>
            <a:ext cx="218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4890960" y="3964320"/>
            <a:ext cx="218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F049E-C5C9-43D2-B087-9CC48328F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664EC4-11C1-4028-A7E1-3AB579B36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04920" y="1600200"/>
            <a:ext cx="67816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799B6F-D5AB-4456-97EC-5F6DDA2EA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6781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1E3F61-1A82-43B6-9DAF-3FCABD8DB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309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780000" y="1600200"/>
            <a:ext cx="3309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DD8728-CD99-4752-91BE-9DBEF5571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27C599-E8B5-4539-A91D-2B9697A4C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6781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7C065-ABFB-46D4-AB57-E01245BF5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371600" y="151920"/>
            <a:ext cx="6019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057B94-01ED-44E4-8910-5424BF0F6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30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780000" y="1600200"/>
            <a:ext cx="3309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304920" y="3964320"/>
            <a:ext cx="330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03DBAA-DF23-4637-9E17-78BCAB090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309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780000" y="1600200"/>
            <a:ext cx="330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3780000" y="3964320"/>
            <a:ext cx="330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06B91E-8262-486E-B54D-2351328A9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30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780000" y="1600200"/>
            <a:ext cx="330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304920" y="3964320"/>
            <a:ext cx="67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B9ECC1-DD5B-46AF-B1FA-8C2182A82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67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04920" y="3964320"/>
            <a:ext cx="67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F9ECA0-1C22-4B7A-A190-5B4CFEB13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30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780000" y="1600200"/>
            <a:ext cx="330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04920" y="3964320"/>
            <a:ext cx="330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3780000" y="3964320"/>
            <a:ext cx="330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CD7E3B-ADCA-4935-8478-170794EF4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8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2597760" y="1600200"/>
            <a:ext cx="218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890960" y="1600200"/>
            <a:ext cx="218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304920" y="3964320"/>
            <a:ext cx="218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2597760" y="3964320"/>
            <a:ext cx="218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4890960" y="3964320"/>
            <a:ext cx="218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A20218-3C26-4BF5-86D4-91138DD50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309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780000" y="1600200"/>
            <a:ext cx="3309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19FBB-D92F-4B96-A6E5-03B619049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65F26-BCA4-4BB7-B93B-48771479E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71600" y="151920"/>
            <a:ext cx="6019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D676F-0D74-474E-B3E7-A9D9BB894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30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780000" y="1600200"/>
            <a:ext cx="3309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3964320"/>
            <a:ext cx="330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590E4-05BF-4043-9DE3-CD47E379C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309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780000" y="1600200"/>
            <a:ext cx="330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780000" y="3964320"/>
            <a:ext cx="330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19D1A-FDD2-40C0-A9A1-7F699FD96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30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780000" y="1600200"/>
            <a:ext cx="330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3964320"/>
            <a:ext cx="67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2BCAA-C018-4147-9F3E-76E523F73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600200"/>
            <a:ext cx="6781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5424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EC7EC-DFA8-4FB4-99F5-F9285D5BB62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274680"/>
            <a:ext cx="601992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4920" y="1600200"/>
            <a:ext cx="6705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SzPct val="15424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43F68-9537-4D93-AA2A-F454522B38A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04920" y="1600200"/>
            <a:ext cx="6781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5424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FE2AF-6341-4897-9C8B-0911DF8432D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23.jpeg"/><Relationship Id="rId3" Type="http://schemas.openxmlformats.org/officeDocument/2006/relationships/image" Target="../media/image20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4.xml"/><Relationship Id="rId3" Type="http://schemas.openxmlformats.org/officeDocument/2006/relationships/image" Target="../media/image13.jpe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" Target="slide5.xml"/><Relationship Id="rId3" Type="http://schemas.openxmlformats.org/officeDocument/2006/relationships/image" Target="../media/image15.jpe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752480" y="1752480"/>
            <a:ext cx="59436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«Путешествие в Африку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3"/>
          <p:cNvSpPr/>
          <p:nvPr/>
        </p:nvSpPr>
        <p:spPr>
          <a:xfrm>
            <a:off x="1981080" y="4191120"/>
            <a:ext cx="54104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дготовила: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спитател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епатрова Олеся Николаевна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Rectangle 4" descr=""/>
          <p:cNvPicPr/>
          <p:nvPr/>
        </p:nvPicPr>
        <p:blipFill>
          <a:blip r:embed="rId1"/>
          <a:stretch/>
        </p:blipFill>
        <p:spPr>
          <a:xfrm>
            <a:off x="-30240" y="195120"/>
            <a:ext cx="9144000" cy="841680"/>
          </a:xfrm>
          <a:prstGeom prst="rect">
            <a:avLst/>
          </a:prstGeom>
          <a:ln w="0">
            <a:noFill/>
          </a:ln>
        </p:spPr>
      </p:pic>
    </p:spTree>
  </p:cSld>
  <p:transition advTm="3000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6781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Рисунок 5" descr="леопард.jpe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5000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Содержимое 3" descr="gepard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5000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Содержимое 3" descr="AfricanElephant_b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1" name="24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5000">
    <p:zoom dir="out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0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" dur="3120" fill="hold"/>
                                        <p:tgtEl>
                                          <p:spTgt spid="1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Содержимое 3" descr="04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5000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Содержимое 3" descr="krokodi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6" name="crocodile_205.mp3" descr=""/>
          <p:cNvPicPr/>
          <p:nvPr/>
        </p:nvPicPr>
        <p:blipFill>
          <a:blip r:embed="rId2"/>
          <a:stretch/>
        </p:blipFill>
        <p:spPr>
          <a:xfrm>
            <a:off x="8534520" y="60958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advTm="5000">
    <p:zoom dir="out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" dur="9200" fill="hold"/>
                                        <p:tgtEl>
                                          <p:spTgt spid="1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Содержимое 3" descr="savannaya-zebr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5000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Рисунок 5" descr="лев-5.jpg"/>
          <p:cNvPicPr/>
          <p:nvPr/>
        </p:nvPicPr>
        <p:blipFill>
          <a:blip r:embed="rId1"/>
          <a:stretch/>
        </p:blipFill>
        <p:spPr>
          <a:xfrm>
            <a:off x="0" y="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171" name="Рисунок 6" descr="givotnye_avstralii_kenguru_foto_01.jpg"/>
          <p:cNvPicPr/>
          <p:nvPr/>
        </p:nvPicPr>
        <p:blipFill>
          <a:blip r:embed="rId2"/>
          <a:stretch/>
        </p:blipFill>
        <p:spPr>
          <a:xfrm>
            <a:off x="4572000" y="3429000"/>
            <a:ext cx="4568760" cy="3429000"/>
          </a:xfrm>
          <a:prstGeom prst="rect">
            <a:avLst/>
          </a:prstGeom>
          <a:ln w="0">
            <a:noFill/>
          </a:ln>
        </p:spPr>
      </p:pic>
      <p:grpSp>
        <p:nvGrpSpPr>
          <p:cNvPr id="172" name="Группа 7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73" name="Содержимое 3" descr="049.jpg"/>
            <p:cNvPicPr/>
            <p:nvPr/>
          </p:nvPicPr>
          <p:blipFill>
            <a:blip r:embed="rId3"/>
            <a:stretch/>
          </p:blipFill>
          <p:spPr>
            <a:xfrm>
              <a:off x="4572000" y="0"/>
              <a:ext cx="4572000" cy="342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4" name="Содержимое 3" descr="savannaya-zebra.jpg"/>
            <p:cNvPicPr/>
            <p:nvPr/>
          </p:nvPicPr>
          <p:blipFill>
            <a:blip r:embed="rId4"/>
            <a:stretch/>
          </p:blipFill>
          <p:spPr>
            <a:xfrm>
              <a:off x="0" y="3429000"/>
              <a:ext cx="4572000" cy="34290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advTm="5000">
    <p:zoom dir="out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Содержимое 3" descr="Sistema-E`nergiya-Buran-na-startovom-komplekse-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10000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_2014_online-video-cutter_com_mp4.avi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80000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88840" fill="hold"/>
                                        <p:tgtEl>
                                          <p:spTgt spid="1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136"/>
                    </p:tgtEl>
                  </p:cond>
                </p:stCondLst>
                <p:childTnLst>
                  <p:par>
                    <p:cTn id="8" nodeType="clickEffect" fill="hold">
                      <p:stCondLst>
                        <p:cond evt="onClick">
                          <p:tgtEl>
                            <p:spTgt spid="136"/>
                          </p:tgtEl>
                        </p:cond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1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Содержимое 3" descr="afrik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9" name="Pesnya_krasnoy_shapochki-minus (mp3cut.ru).mp3" descr=""/>
          <p:cNvPicPr/>
          <p:nvPr/>
        </p:nvPicPr>
        <p:blipFill>
          <a:blip r:embed="rId2"/>
          <a:stretch/>
        </p:blipFill>
        <p:spPr>
          <a:xfrm>
            <a:off x="304920" y="63244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advTm="10000">
    <p:zoom dir="out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0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18376" fill="hold"/>
                                        <p:tgtEl>
                                          <p:spTgt spid="1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Содержимое 3" descr="94_DromedaryCamel-On_desert-620x484.jpg"/>
          <p:cNvPicPr/>
          <p:nvPr/>
        </p:nvPicPr>
        <p:blipFill>
          <a:blip r:embed="rId1"/>
          <a:stretch/>
        </p:blipFill>
        <p:spPr>
          <a:xfrm>
            <a:off x="0" y="27000"/>
            <a:ext cx="9144000" cy="6831000"/>
          </a:xfrm>
          <a:prstGeom prst="rect">
            <a:avLst/>
          </a:prstGeom>
          <a:ln w="0">
            <a:noFill/>
          </a:ln>
        </p:spPr>
      </p:pic>
    </p:spTree>
  </p:cSld>
  <p:transition advTm="10000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Содержимое 3" descr="Sahar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10000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Содержимое 3" descr="afrik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5000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6781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Рисунок 5" descr="лев-5.jp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9" name="LeoGym-Ryk_lva.mp3" descr=""/>
          <p:cNvPicPr/>
          <p:nvPr/>
        </p:nvPicPr>
        <p:blipFill>
          <a:blip r:embed="rId4"/>
          <a:stretch/>
        </p:blipFill>
        <p:spPr>
          <a:xfrm>
            <a:off x="8458200" y="6248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advTm="10000">
    <p:zoom dir="out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0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9020" fill="hold"/>
                                        <p:tgtEl>
                                          <p:spTgt spid="1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752480" y="1519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209680" y="1294920"/>
            <a:ext cx="601992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Рисунок 5" descr="rabstol_net_tiger_18.jp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3" name="Ryk-Tigra.mp3" descr=""/>
          <p:cNvPicPr/>
          <p:nvPr/>
        </p:nvPicPr>
        <p:blipFill>
          <a:blip r:embed="rId4"/>
          <a:stretch/>
        </p:blipFill>
        <p:spPr>
          <a:xfrm>
            <a:off x="86104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6000">
    <p:zoom dir="out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0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" dur="6952" fill="hold"/>
                                        <p:tgtEl>
                                          <p:spTgt spid="1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Лесена</dc:creator>
  <dc:description/>
  <dc:language>en-US</dc:language>
  <cp:lastModifiedBy>Admin</cp:lastModifiedBy>
  <dcterms:modified xsi:type="dcterms:W3CDTF">2019-04-23T18:08:03Z</dcterms:modified>
  <cp:revision>5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00210000000000010282310207f7000400038000</vt:lpwstr>
  </property>
  <property fmtid="{D5CDD505-2E9C-101B-9397-08002B2CF9AE}" pid="3" name="Version">
    <vt:r8>1</vt:r8>
  </property>
</Properties>
</file>