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F1F-D706-4FEC-8C22-9668FB3B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872-060B-4789-8CD2-3DB86D0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BD5-2989-4423-AC8D-6C9096C6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6B5-2AF9-4945-8644-C38E7C8E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F86-89C8-4D2E-B0D2-1236017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5D5-71C7-4B3C-AB6A-BA90E4E8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AAE-BCF5-43D0-ADAE-A6DB4E8D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7F9-B503-4DB1-BBFC-815DC155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ACD-60EC-4738-BBCE-DE2850EA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11E-F8EF-43F0-8BA9-10D53EB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6D6-FCC0-4210-B5AE-428AEEF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6A8-A474-425F-A7CD-32E3856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5e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58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FA5B-081F-4324-8BAD-DCE103E7EC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3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25eba"/>
                </a:solidFill>
                <a:latin typeface="Times New Roman"/>
              </a:rPr>
              <a:t>Любопытные истории </a:t>
            </a:r>
            <a:br>
              <a:rPr sz="4400"/>
            </a:br>
            <a:r>
              <a:rPr b="1" i="1" lang="ru-RU" sz="4400" spc="-1" strike="noStrike">
                <a:solidFill>
                  <a:srgbClr val="125eba"/>
                </a:solidFill>
                <a:latin typeface="Times New Roman"/>
              </a:rPr>
              <a:t>о путешествиях, приключениях и превращениях растений</a:t>
            </a:r>
            <a:endParaRPr b="0" lang="en-US" sz="4400" spc="-1" strike="noStrike">
              <a:solidFill>
                <a:srgbClr val="125eba"/>
              </a:solidFill>
              <a:latin typeface="Times New Roman"/>
            </a:endParaRPr>
          </a:p>
        </p:txBody>
      </p:sp>
      <p:pic>
        <p:nvPicPr>
          <p:cNvPr id="42" name="Picture 1028" descr="A:\App0001.jpg"/>
          <p:cNvPicPr/>
          <p:nvPr/>
        </p:nvPicPr>
        <p:blipFill>
          <a:blip r:embed="rId2"/>
          <a:stretch/>
        </p:blipFill>
        <p:spPr>
          <a:xfrm>
            <a:off x="1219320" y="3429000"/>
            <a:ext cx="2913120" cy="31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1030"/>
          <p:cNvGraphicFramePr/>
          <p:nvPr/>
        </p:nvGraphicFramePr>
        <p:xfrm>
          <a:off x="5105520" y="3429000"/>
          <a:ext cx="280656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29000"/>
                    <a:ext cx="28065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Греческая легенда гласит, что жили на Земле кентавры – полулошади-полулюди. Мудрейшим среди них был Хирон, прославившийся большими познаниями в медицине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В жестокой битве он был тяжело ранен отравленной стрелой. Но мудрый кентавр не погиб. Ему удалось отыскать растение, которое помогло залечить рану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Кентавры – существа вымышленные. А вот растение, выручившее Хирона, существует. Ботаники  так его и назвали – кентавр. Но нам привычнее другое имя – василёк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В народной медицине употребляют краевые воронковидные цветки без цветочных корзинок, которые заготавливают сразу после распускания и сушат тонким слоем в затемнённом, хорошо проветриваемом помещении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Голубые соцветия василька помогают вылечивать простуду и глазные болезни. Препараты из цветков василька используют как мочегонное желчегонное средства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А ещё из васильков люди научились делать голубую краску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83" name="AutoShape 1028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029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30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6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10"/>
          <p:cNvGraphicFramePr/>
          <p:nvPr/>
        </p:nvGraphicFramePr>
        <p:xfrm>
          <a:off x="1139760" y="1700280"/>
          <a:ext cx="7015320" cy="30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9760" y="1700280"/>
                    <a:ext cx="70153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WordArt 11"/>
          <p:cNvSpPr txBox="1"/>
          <p:nvPr/>
        </p:nvSpPr>
        <p:spPr>
          <a:xfrm>
            <a:off x="2700360" y="549360"/>
            <a:ext cx="3672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оро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В горошинах, как и в мясе, много полезных белков и аминокислот.  Содержатся в горохе и соли калия, кальция, фосфора, железа, а также витамины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Горох – по латыни «цицеро».  По-русски фамилия знаменитого римского оратора звучала  бы Горохов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При раскопках в Швейцарии археологи нашли горошины в поселениях, относящихся к каменному веку.  Когда  говорят: «Это было при царе Горохе», то имеют в виду события старины глубокой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Любят горох в Германии, Франции, Испании, России. Наши предки готовили из гороха не только суп да кашу, но и гороховый сыр и гороховую лапшу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93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5"/>
          <p:cNvGraphicFramePr/>
          <p:nvPr/>
        </p:nvGraphicFramePr>
        <p:xfrm>
          <a:off x="2050920" y="1424160"/>
          <a:ext cx="4838760" cy="517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424160"/>
                    <a:ext cx="483876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7">
            <a:hlinkClick r:id="rId4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2124000" y="40464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орч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Если ты сильно простудился, мама ставит тебе горчичники. Жгучие, мало приятные, но полезные.Жгучая и столовая горчица, которую подают к обеду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А вот горчичное масло вовсе не горькое. Оно сладковатое и ароматное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Ещё в 1810 году  в России построен небольшой завод на окраине Волгограда, который сохранился и по сей день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Семена горчицы кладутся под пресс, из тёмно-золотистой жидкости получают масло, применяемое пекарями, кондитерами, парфюмерами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Остатки семян – жмых – размалывают в порошок. Вот из него и делают горчицу и горчичники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App0011"/>
          <p:cNvPicPr/>
          <p:nvPr/>
        </p:nvPicPr>
        <p:blipFill>
          <a:blip r:embed="rId2"/>
          <a:srcRect l="0" t="13028" r="0" b="2708"/>
          <a:stretch/>
        </p:blipFill>
        <p:spPr>
          <a:xfrm>
            <a:off x="2968560" y="1125360"/>
            <a:ext cx="3052800" cy="53294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2124000" y="476280"/>
            <a:ext cx="4753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речих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71680">
              <a:lnSpc>
                <a:spcPct val="90000"/>
              </a:lnSpc>
              <a:spcBef>
                <a:spcPts val="601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Щи да каша – пища наша. Щей в походе не варили: тяжелую капусту в поход не возьмёшь. А картошку в ту пору в России ещё не сажали. Выручала гречневая каша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lnSpc>
                <a:spcPct val="90000"/>
              </a:lnSpc>
              <a:spcBef>
                <a:spcPts val="601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Суворов ел вместе со всеми. Ел и нахваливал: «Помилуй бог, хороша каша! Настоящая пища для чудо-богатырей»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lnSpc>
                <a:spcPct val="90000"/>
              </a:lnSpc>
              <a:spcBef>
                <a:spcPts val="601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Великий русский полководец не зря её ценил. Она не только вкусна, но и питательна. В ней много белков, углеводов, жиров, органических кислот, витаминов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lnSpc>
                <a:spcPct val="90000"/>
              </a:lnSpc>
              <a:spcBef>
                <a:spcPts val="601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Из неё делают лекарственное вещество – рутин, которое врачи назначают при атеросклерозе и гипертонии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lnSpc>
                <a:spcPct val="90000"/>
              </a:lnSpc>
              <a:spcBef>
                <a:spcPts val="601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Впервые гречиху стали выращивать в Индии 4000 лет назад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lnSpc>
                <a:spcPct val="90000"/>
              </a:lnSpc>
              <a:spcBef>
                <a:spcPts val="601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Полезен и гречишный мёд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12" name="AutoShape 5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App0012"/>
          <p:cNvPicPr/>
          <p:nvPr/>
        </p:nvPicPr>
        <p:blipFill>
          <a:blip r:embed="rId2"/>
          <a:srcRect l="0" t="18047" r="0" b="0"/>
          <a:stretch/>
        </p:blipFill>
        <p:spPr>
          <a:xfrm>
            <a:off x="2622600" y="1557360"/>
            <a:ext cx="3803760" cy="49957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2195640" y="476280"/>
            <a:ext cx="4537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женьше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У народов Дальнего Востока бытует пословица: «Царь зверей – тигр, царь растений – женьшень». Но совсем невзрачный женьшень. Тоненький стебель, немногочисленные листья да плоды – небольшие невкусные ягодки. Только корень, напоминающий фигурку человека, плотный и крупный. Этот корень и прославил человека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Лекарство из женьшеня  обладает большой целебной силой: помогает поправиться ослабевшим людям, излечивает многие нервные заболевания, улучшает работу сердца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App0013"/>
          <p:cNvPicPr/>
          <p:nvPr/>
        </p:nvPicPr>
        <p:blipFill>
          <a:blip r:embed="rId2"/>
          <a:srcRect l="0" t="15406" r="0" b="0"/>
          <a:stretch/>
        </p:blipFill>
        <p:spPr>
          <a:xfrm>
            <a:off x="2754360" y="1197000"/>
            <a:ext cx="3946320" cy="48988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звероб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:\App0025.jpg"/>
          <p:cNvPicPr/>
          <p:nvPr/>
        </p:nvPicPr>
        <p:blipFill>
          <a:blip r:embed="rId2"/>
          <a:stretch/>
        </p:blipFill>
        <p:spPr>
          <a:xfrm>
            <a:off x="609480" y="304920"/>
            <a:ext cx="7772400" cy="58165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12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В больницу привезли пострадавшего. Лицо и руки сильно обожжены. Врачи вылечили больного, от шрамов не осталось даже следа. Заживить их помог чудесный порошок – иманин. Изготовили его из зверобоя – травянистого растения с жёлтыми цветками и пятнистыми листьями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Название у него грозное, но не совсем верное. Зверобой не убивает съевших его животных, а лишь вызывает у них зуд. Зато по-настоящему губительно действует на вредных микробов. Поэтому из него приготовляют лекарства, помогающие при самых разных заболеваниях. Недаром в старину это растение называли «травой от 99 недугов». 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Настоем, приготовленным из цветков и стеблей, промывают ожоги, пользуются для полоскания рта при кровотечениях дёсен. Компрессы из зверобоя накладывают на раны и язвы.  Важнейшие свойства зверобоя – снижение воспалений и кровотечений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В старину верхние части растения перетирали в порошок и присыпали им раны, чтобы быстрее заживали. Долгое время им лечили лишь избранных – царя да бояр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Люди верят, что настой зверобоя помогает при всяких недомоганиях. Путешественники заваривают его цветки и листья вместо чая. Получается приятный напиток. Листья зверобоя содержат эфирные масла, витамины Е и С. Препараты, которые готовят из зверобоя, лечат желудочные и кишечные заболевания. Зверобой используют против глистов и как мочегонное средство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30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App0014"/>
          <p:cNvPicPr/>
          <p:nvPr/>
        </p:nvPicPr>
        <p:blipFill>
          <a:blip r:embed="rId2"/>
          <a:srcRect l="0" t="14111" r="0" b="0"/>
          <a:stretch/>
        </p:blipFill>
        <p:spPr>
          <a:xfrm>
            <a:off x="380880" y="1268280"/>
            <a:ext cx="3152880" cy="51706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App0059"/>
          <p:cNvPicPr/>
          <p:nvPr/>
        </p:nvPicPr>
        <p:blipFill>
          <a:blip r:embed="rId4"/>
          <a:stretch/>
        </p:blipFill>
        <p:spPr>
          <a:xfrm>
            <a:off x="4267080" y="457200"/>
            <a:ext cx="442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9"/>
          <p:cNvSpPr txBox="1"/>
          <p:nvPr/>
        </p:nvSpPr>
        <p:spPr>
          <a:xfrm>
            <a:off x="324000" y="404640"/>
            <a:ext cx="3743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артоф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500 лет назад никто в Европе не знал, что есть такое растение –картофель. Родина картофеля – Южная Америка. Отважный мореплаватель Христофор Колумб  привёз в Испанию  семена, клубни, зёрна новых, не известных Европе растений. Сейчас эти растения считаются кормильцами человечества – пшеница, рис, кукуруза, картошка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Сначала картошка разъезжала в карете. Бархатную сумочку с клубнями дарили как драгоценность богатым вельможам. Когда же картошка перестала быть редкостью, карету сменила крестьянская телега, а бархатную сумочку – холщовый мешок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В Европе не сразу поняли, что главное у картошки – клубни. У придворных дам картофель был в почёте: им понравились цветки нового растения – и дамы стали украшать ими свои причёски. В России картофель был завезён при Петре1. В России тоже не сразу оценили картофель.Теперь  же « Картофель – хлебу подспорье»,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« Картошка – хлебу присошка»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Картофель – источник витамина С.  Есть в нём и другие витамины – В, РР. Он является важнейшим источником минеральных веществ в питании человека. Около 70% всех минеральных веществ приходится на соли калия, которые способствуют выведению воды и поваренной соли из организма и тем самым регулируют обменные процессы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Питательность картофелю придают углеводы в виде крахмала. Расщепляясь в кишечнике, крахмал превращается в глюкозу. Белки картофеля – самые ценные из всех растительных белков. В клубнях картофеля имеется железо, фосфор, йод, натрий, магний, кальций, марганец, медь, цинк, никель, кобальт, бор…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40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App0019"/>
          <p:cNvPicPr/>
          <p:nvPr/>
        </p:nvPicPr>
        <p:blipFill>
          <a:blip r:embed="rId2"/>
          <a:srcRect l="9621" t="20736" r="0" b="2718"/>
          <a:stretch/>
        </p:blipFill>
        <p:spPr>
          <a:xfrm>
            <a:off x="2195640" y="1628640"/>
            <a:ext cx="4359240" cy="46087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2987640" y="476280"/>
            <a:ext cx="29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ё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Богатые жители Древнего Египта гордились тем, что носили одежду, сшитую из удивительной ткани: она быстро впитывала влагу и так же легко её испаряла. Прохладной ночью она согревала, а в палящий полдень охлаждала разгорячённое тело. Одежду из этой ткани носили и в Древней Руси. Была она обычной крестьянской одеждой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В русских деревнях умели изготовлять и более нарядное полотно – батист. Своей мягкостью, тонкостью и блеском он напоминал дорогой заморский шёлк, за это его и прозвали северным шёлком. Издавна славились и русские кружева – лёгкие, воздушные, словно сплетённые из паутинок. Всё это изготавливалось из одного и того же растения – льна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Из льна делают льняное масло и употребляют в пищу. 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Растёт на поле он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Называют его лён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Как голубой глазок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У льна цветок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Растили лён, ткань ткали, одежду шили,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Трудолюбивые крестьяне богато раньше жили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Никишин Женя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49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pp0061"/>
          <p:cNvPicPr/>
          <p:nvPr/>
        </p:nvPicPr>
        <p:blipFill>
          <a:blip r:embed="rId2"/>
          <a:stretch/>
        </p:blipFill>
        <p:spPr>
          <a:xfrm>
            <a:off x="1344600" y="852480"/>
            <a:ext cx="1859040" cy="5745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App0062"/>
          <p:cNvPicPr/>
          <p:nvPr/>
        </p:nvPicPr>
        <p:blipFill>
          <a:blip r:embed="rId3"/>
          <a:srcRect l="0" t="2515" r="0" b="4770"/>
          <a:stretch/>
        </p:blipFill>
        <p:spPr>
          <a:xfrm>
            <a:off x="5867280" y="836640"/>
            <a:ext cx="1557360" cy="56167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4">
            <a:hlinkClick r:id="rId4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3203640" y="333360"/>
            <a:ext cx="28083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у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Употребление лука повышает сопротивляемость организма к различным инфекционным заболеваниям, задерживает развитие атеросклероза и гипертонии, помогает при насморке. В луке содержится более 30 видов минеральных элементов: кальций, фосфор, железо, йод, калий, натрий, магний. Зелёный лук в 10 раз богаче витамином С, по сравнению с репчатым. Лук улучшает деятельность пищеварительных желёз, способствует лучшему перевариванию и усвоению пищи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Луков около 30 родов и 650 видов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59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pp0021"/>
          <p:cNvPicPr/>
          <p:nvPr/>
        </p:nvPicPr>
        <p:blipFill>
          <a:blip r:embed="rId2"/>
          <a:srcRect l="3465" t="16393" r="3797" b="0"/>
          <a:stretch/>
        </p:blipFill>
        <p:spPr>
          <a:xfrm>
            <a:off x="2627280" y="1341360"/>
            <a:ext cx="3960720" cy="52880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2843280" y="404640"/>
            <a:ext cx="331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ма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71680">
              <a:spcBef>
                <a:spcPts val="499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Лекарственные свойства мака известны давно. Из семени мака выжимали масло. Из него делают лекарство, которое понижают давление, снимают боль. Опиум входит в состав 500 лекарств – это самое ценное, что даёт людям мак. «Опос» по-гречески означает «сок»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spcBef>
                <a:spcPts val="499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Древние греки рассказывали легенду про бога сновидений Морфея. Вокруг его жилища  росли маки, в цветках которых покоились приятные сны. Когда наступала ночь, Морфей срывал один из цветков и облетал землю, усыпляя им утомившихся за день людей. Легенда не случайно упоминает именно мак, а не другое растение. Позже учёные подтвердили: мак действительно обладает способностью усыплять. Люди назвали лекарство в честь бога сновидений – морфином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571680">
              <a:spcBef>
                <a:spcPts val="499"/>
              </a:spcBef>
              <a:buClr>
                <a:srgbClr val="2c58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Морфин помогает людям, страдающим бессонницей, успокаивает боль, улучшает работу сердца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68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App0023"/>
          <p:cNvPicPr/>
          <p:nvPr/>
        </p:nvPicPr>
        <p:blipFill>
          <a:blip r:embed="rId2"/>
          <a:srcRect l="0" t="1653" r="0" b="10724"/>
          <a:stretch/>
        </p:blipFill>
        <p:spPr>
          <a:xfrm>
            <a:off x="2843280" y="1200240"/>
            <a:ext cx="3498840" cy="55418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WordArt 8"/>
          <p:cNvSpPr txBox="1"/>
          <p:nvPr/>
        </p:nvSpPr>
        <p:spPr>
          <a:xfrm>
            <a:off x="2984400" y="336600"/>
            <a:ext cx="3100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мя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pp0003"/>
          <p:cNvPicPr/>
          <p:nvPr/>
        </p:nvPicPr>
        <p:blipFill>
          <a:blip r:embed="rId2"/>
          <a:srcRect l="0" t="16995" r="0" b="1057"/>
          <a:stretch/>
        </p:blipFill>
        <p:spPr>
          <a:xfrm>
            <a:off x="2286000" y="1341360"/>
            <a:ext cx="4025880" cy="5183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481640" y="308916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Слайд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rId4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2340000" y="620640"/>
            <a:ext cx="4248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ни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С давних пор человек ценил пахучие травы. Их аромат отбивал запах гниющих отбросов, оздоровляли воздух в помещениях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В Древний Рим из разных стран стекались дорогие благовония. На пирах родовитых патрициев гостей осыпали лепестками роз, источающими нежный аромат. Но были в чести и более скромные запахи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Обычно к приходу гостей столы натирали свежесорванной мятой, а стены и полы обрызгивали водой, настоянной на мятных листьях. Римляне считали, что мятный запах поднимает настроение и способствует приятной застольной беседе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Древние учёные уверяли, что растение благотворно влияет и на работу мозга. Поэтому знаменитый римский историк Плиний Старший постоянно носил на голове венок, сплетённый из свежей мяты и советовал то же самое своим ученикам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В русских деревнях ничего не знали про обычаи древних римлян. Но и здесь ценили мяту. Листья клали в щи – еда становилась «духовитой». А тот, у кого не было аппетита, пил перед едой отвар из мятных листьев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Не забыли про них и сегодня: аппетитные капли, желудочные таблетки, мази от насморка, средство от головной боли, сердечные капли – целый набор мятных лекарств найдём мы в современной аптеке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В конфетах «Холодок», мятных леденцах и пряниках тоже присутствует наша добрая знакомая! Мы ощущаем знакомый аромат и приятный холодящий привкус, когда чистим зубы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"/>
          <p:cNvPicPr/>
          <p:nvPr/>
        </p:nvPicPr>
        <p:blipFill>
          <a:blip r:embed="rId2"/>
          <a:stretch/>
        </p:blipFill>
        <p:spPr>
          <a:xfrm>
            <a:off x="2076480" y="1125360"/>
            <a:ext cx="483876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2124000" y="404640"/>
            <a:ext cx="468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анды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5884"/>
                </a:solidFill>
                <a:latin typeface="Times New Roman"/>
              </a:rPr>
              <a:t>Всё растение ландыша ядовито. Но препараты из его листьев, цветков и семян – лекарственные средства, которые укрепляют и улучшают работу сердца. В народной медицине издавна применяют ландыш против водянки, эпилепсии, глазных болезней, от боли в животе, от лихорадки.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588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c5884"/>
                </a:solidFill>
                <a:latin typeface="Times New Roman"/>
              </a:rPr>
              <a:t>Это растение используют и парфюмеры – ведь аромат ландыша незабываем.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pp0030"/>
          <p:cNvPicPr/>
          <p:nvPr/>
        </p:nvPicPr>
        <p:blipFill>
          <a:blip r:embed="rId2"/>
          <a:srcRect l="0" t="14256" r="0" b="0"/>
          <a:stretch/>
        </p:blipFill>
        <p:spPr>
          <a:xfrm>
            <a:off x="2666880" y="1268280"/>
            <a:ext cx="3434040" cy="4878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2340000" y="404640"/>
            <a:ext cx="43196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ногот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300 лет назад при Петре1 русская армия вела тяжёлые бои со шведскими войсками. В битве под Полтавой русские полки одолели неприятеля. Но потери были велики. Раненые нуждались в лекарствах. И тогда Пётр1 велел устроить в Лубнах «аптечный огород» (в Украине, отсюда и ведёт свою родословную опытная станция)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В ярко-оранжевых цветках открыли целебные вещества. И чем ярче они окрашены, тем больше от них пользы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Мы часто пользуемся лекарствами, приготовленными из ноготков. Когда ты болеешь ангиной, врач обычно советует полоскать горло настойкой календулы – она убивает вредных микробов. Календула – это научное название ноготков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195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App0031"/>
          <p:cNvPicPr/>
          <p:nvPr/>
        </p:nvPicPr>
        <p:blipFill>
          <a:blip r:embed="rId2"/>
          <a:srcRect l="0" t="14375" r="0" b="0"/>
          <a:stretch/>
        </p:blipFill>
        <p:spPr>
          <a:xfrm>
            <a:off x="2897280" y="1268280"/>
            <a:ext cx="3259080" cy="52848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2987640" y="333360"/>
            <a:ext cx="3168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вё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В давние времена колоски овса, покрытые волосками, прицеплялись к шерсти животных, к ногам пешеходов и начинали путешествовать. Учёные считают,что они пришли к нам из далёкой африканской страны Эфиопии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Овёс ценят за то, что в нём много белка, жиров, витаминов. Поэтому овсяной кашей стараются кормить детей: от овсянки они быстрее растут, хорошо поправляются после болезни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Очень питательны и хлопья «Геркулес», приготовленные из овсяных зёрен. «Геркулесом» его назвали не случайно. Легенда гласит об удивительном богатыре, которому не было равных. Один на один вступал он в битву с дикими зверями и страшными чудовищами. И побеждал их. Древние греки называли богатыря Гераклом, а римляне – Геркулесом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04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App0034"/>
          <p:cNvPicPr/>
          <p:nvPr/>
        </p:nvPicPr>
        <p:blipFill>
          <a:blip r:embed="rId2"/>
          <a:srcRect l="0" t="16795" r="0" b="0"/>
          <a:stretch/>
        </p:blipFill>
        <p:spPr>
          <a:xfrm>
            <a:off x="3097080" y="1341360"/>
            <a:ext cx="2986200" cy="51357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одорожни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Листья подорожника очень полезны. Если в пути натрёшь ногу – беда поправима. Сорви лист подорожника, разомни и приложи к ране. От клейкого сока боль уймётся. Можно снова шагать по дорожке. Листья подорожника – испытанное лекарство. В русских деревнях издавна врачевали им ссадины, нарывы, язву желудка. Не забыт подорожник и в наше время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Подорожник останавливает кровь, снижает боль, помогает заживлению ран. Молодые листья подорожника съедобны. Из них можно варить суп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Когда испанский король послал своих солдат покорять американских индейцев, он и не предполагал, что направляет туда ещё одного завоевателя – подорожник. В сырую погоду семена подорожника становятся липкими – как клеем приклеиваются к подошвам обуви. В те времена и переплыли они в Америку с солдатами и пошли бродить по всей стране. «След белого человека» - называли его краснокожие индейцы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App0036"/>
          <p:cNvPicPr/>
          <p:nvPr/>
        </p:nvPicPr>
        <p:blipFill>
          <a:blip r:embed="rId2"/>
          <a:srcRect l="0" t="20599" r="0" b="0"/>
          <a:stretch/>
        </p:blipFill>
        <p:spPr>
          <a:xfrm>
            <a:off x="2771640" y="1844640"/>
            <a:ext cx="3448080" cy="4589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9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WordArt 10"/>
          <p:cNvSpPr txBox="1"/>
          <p:nvPr/>
        </p:nvSpPr>
        <p:spPr>
          <a:xfrm>
            <a:off x="1979640" y="620640"/>
            <a:ext cx="51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одсолну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680" y="83772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Анис имеет мелкие беленькие цветки и невзрачные плоды. Но именно из-за них когда-то это растение привезли  из далёкого Египта и стали выращивать повсюду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Что же особенного в мелких зеленовато-серых плодах?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Ты кашляешь? Прими анисовые капли – и кашель пройдёт. Капли приготовлены из анисового масла. Оно-то и содержится в плодах растения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Ты чистишь зубы? А ведь приятный, освежающий запах зубной пасте придаёт всё то же анисовое масло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У кондитеров свои секреты: добавят щепотку истолчённых плодов аниса в крем, и пирожное повеет таким ароматом – пальчики оближешь!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55" name="AutoShape 5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125e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Родина подсолнечника – далёкая Мексика. Там он считался священным растением. Ярко-жёлтые соцветия казались древним мексиканцам чудесными маленькими солнцами, спустившимися на землю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Таинственную связь с дневным светилом усмотрели ещё и в том, что соцветия целый день поворачиваются в сторону солнца, ловя его жаркие лучи. Древние мексиканцы и назвали растение «солнечным цветком», отливали его изображения из золота и устанавливали в храмах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Испанские моряки вместе с Колумбом  завезли это растение к себе на родину. Каждый хотел вырастить необычный цветок у себя. Мода на «солнечный цветок» перекинулась и в другие страны. Всюду видели в нём лишь прелестный цветок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И только в России крепостной крестьянин Даниил Бокарёв додумался смастерить небольшой пресс, на котором стали выжимать из подсолнечниковых семян масло. Было это в 1829 году. Здесь, в России, подсолнечник не только прижился, но и переродился. Академик Пустовойт вывел такие сорта подсолнечника, в семенах которого масла в 2 раза больше, чем в обычных! При заботливом уходе оно может вымахать до 4 метров в высоту. Это тоже выгодно – стебель идёт на корм скоту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22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App0060"/>
          <p:cNvPicPr/>
          <p:nvPr/>
        </p:nvPicPr>
        <p:blipFill>
          <a:blip r:embed="rId3"/>
          <a:srcRect l="0" t="5818" r="0" b="0"/>
          <a:stretch/>
        </p:blipFill>
        <p:spPr>
          <a:xfrm>
            <a:off x="3125880" y="1052640"/>
            <a:ext cx="2738520" cy="5526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6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омидо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Возвращаясь из Южной Америки в Европу, испанские конкистадоры привезли растения с золотисто-жёлтыми, оранжевыми и ярко-красными плодами, которые выращивались инками и ацтеками. Эти растения так пришлись по вкусу европейцам, что они стали украшать ими клумбы, цветники, беседки. 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Французы за красоту и сочность плодов назвали этот овощ «яблоко любви». Итальянцы называли его «золотое яблоко». Помидор сохранил своё древнее название «томатль» - томат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При Екатерине </a:t>
            </a:r>
            <a:r>
              <a:rPr b="0" lang="en-US" sz="1600" spc="-1" strike="noStrike">
                <a:solidFill>
                  <a:srgbClr val="2c5884"/>
                </a:solidFill>
                <a:latin typeface="Times New Roman"/>
              </a:rPr>
              <a:t>II</a:t>
            </a: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 появились первые сведения о помидорах. Как овощную культуру у нас помидоры стали разводить в 1850 году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Помидоры хороши на вкус, весьма питательны, содержат небольшое количество белков, глюкозу, фруктозу, сахарозу. Органические кислоты (яблочная и лимонная) придают этому овощу особый освежающий вкус, а также повышают аппетит, усиливают пищеварение, подавляют рост кишечных бактерий. Плоды помидоров содержат каротин, витамины группы В, ценные минеральные соли, особенно соли железа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Стакан томатного сока содержит 1 миллиграмм каротина, который в организме превращается в витамин А. Каротин может накапливаться про запас и потому нужно есть больше помидоров в пору их сбора. В недостатке витамина А в организме можно убедиться, если из светлого помещения войти в темноту и посчитать, сколько времени пройдёт, прежде чем глаза привыкнут к темноте. Если пройдёт 6 секунд, значит, витамина А  в организме недостаточно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Кроме каротина, в помидорах есть ценные вещества: витамины С, В, РР, К, пантотеновая кислота, и значительное количество минеральных солей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31" name="AutoShape 4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6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App0038"/>
          <p:cNvPicPr/>
          <p:nvPr/>
        </p:nvPicPr>
        <p:blipFill>
          <a:blip r:embed="rId2"/>
          <a:srcRect l="0" t="16202" r="0" b="0"/>
          <a:stretch/>
        </p:blipFill>
        <p:spPr>
          <a:xfrm>
            <a:off x="2627280" y="1125360"/>
            <a:ext cx="3046320" cy="54644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шен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Пшеница – не только самое главное, но и самое первое хлебное растение, которое посеял человек. Уже древние египтяне  выращивали её и высоко ценили. Когда умирал их царь – фараон, в гробницу сносили всё, без чего умерший владыка, по верованиям египтян, не мог обойтись в загробном мире. Вместе с золотыми украшениями и и прочими драгоценностями в гробницу ставили чашу с пшеничным зерном. 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5884"/>
                </a:solidFill>
                <a:latin typeface="Times New Roman"/>
              </a:rPr>
              <a:t>Ценится пшеница твёрдых сортов. В этом зерне больше полезных белков. Именно из него получают манную крупу и высшие сорта муки. Хлеб из этой муки отличается пышностью, хорошим припёком, отменным вкусом. Макаронам и вермишели не обойтись без твёрдой пшеницы.</a:t>
            </a:r>
            <a:endParaRPr b="0" lang="en-US" sz="2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40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App0040"/>
          <p:cNvPicPr/>
          <p:nvPr/>
        </p:nvPicPr>
        <p:blipFill>
          <a:blip r:embed="rId2"/>
          <a:srcRect l="0" t="12852" r="0" b="0"/>
          <a:stretch/>
        </p:blipFill>
        <p:spPr>
          <a:xfrm>
            <a:off x="2952720" y="1557360"/>
            <a:ext cx="3086280" cy="474804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6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7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8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059280" y="476280"/>
            <a:ext cx="280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и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5884"/>
                </a:solidFill>
                <a:latin typeface="Times New Roman"/>
              </a:rPr>
              <a:t>Много тысяч лет назад жители Древней Индии обнаружили удивительный злак – дикий рис. Рис вдвое-втрое урожайнее пшеницы, а по питательности ей не уступает.</a:t>
            </a:r>
            <a:endParaRPr b="0" lang="en-US" sz="3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49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п"/>
          <p:cNvPicPr/>
          <p:nvPr/>
        </p:nvPicPr>
        <p:blipFill>
          <a:blip r:embed="rId2"/>
          <a:stretch/>
        </p:blipFill>
        <p:spPr>
          <a:xfrm>
            <a:off x="2771640" y="1268280"/>
            <a:ext cx="301644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3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4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6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омаш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5884"/>
                </a:solidFill>
                <a:latin typeface="Times New Roman"/>
              </a:rPr>
              <a:t>2 столовые ложки цветков ромашки аптечной залить 2 стаканами кипятка и настоять 25-30 минут. Это лекарство применяют как антисептическое (обеззараживающее) средство, им лечат ожоги, фурункулы. Применяется и при расстройствах желудка, при других внутренних болезнях.</a:t>
            </a:r>
            <a:endParaRPr b="0" lang="en-US" sz="3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58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App0042"/>
          <p:cNvPicPr/>
          <p:nvPr/>
        </p:nvPicPr>
        <p:blipFill>
          <a:blip r:embed="rId2"/>
          <a:srcRect l="0" t="16587" r="0" b="0"/>
          <a:stretch/>
        </p:blipFill>
        <p:spPr>
          <a:xfrm>
            <a:off x="3011400" y="1557360"/>
            <a:ext cx="3079800" cy="47671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2771640" y="476280"/>
            <a:ext cx="417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вёкл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pp0005"/>
          <p:cNvPicPr/>
          <p:nvPr/>
        </p:nvPicPr>
        <p:blipFill>
          <a:blip r:embed="rId2"/>
          <a:srcRect l="0" t="19717" r="0" b="0"/>
          <a:stretch/>
        </p:blipFill>
        <p:spPr>
          <a:xfrm>
            <a:off x="2506680" y="1628640"/>
            <a:ext cx="412920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елладон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Немецкий учёный Маргграф обнаружил в корнях свёклы сахар. Случилось это в 1747 году. Его ученик Франц Ахард потратил 12лет, чтобы отыскать самую сахаристую свёклу. Про удачные опыты Ахарда узнали в России. В 1800 году по указу царя Павла</a:t>
            </a:r>
            <a:r>
              <a:rPr b="0" lang="en-US" sz="1800" spc="-1" strike="noStrike">
                <a:solidFill>
                  <a:srgbClr val="2c5884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 русским помещикам, пожелавшим выращивать сахарную свёклу, стали отводить земли в центральной полосе России. В скором времени в селе Алябьеве, Тульской губернии, задымил первый сахарный заводик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В 16 столетии наши предки любили борщ, а нарезанную свёклу ломтиками подавали перед обедом как закуску для возбуждения аппетита. Отваром свёклы пользовались как дезинфицирующим средством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Из витаминов свёкла содержит аскорбиновую кислоту, витамины группы В и другие. Есть в ней и каротин. В свежей ботве молодой свёклы в 2 раза  больше витаминов, чем в корнеплодах. Минеральные вещества в свёкле образуют прекраснейшее сочетание: соли натрия, калия, кальция,магния, марганца, железа, фосфора, кобальта. Вдобавок ещё углеводы, среди которых сахароза, глюкоза, фруктоза. Есть также азотистые вещества, органические кислоты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Благодаря содержащимся в ней клетчатке, сахарозе и органическим кислотам свёкла способствует перистальтике кишечника.  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67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App0045"/>
          <p:cNvPicPr/>
          <p:nvPr/>
        </p:nvPicPr>
        <p:blipFill>
          <a:blip r:embed="rId2"/>
          <a:srcRect l="10026" t="17640" r="4129" b="0"/>
          <a:stretch/>
        </p:blipFill>
        <p:spPr>
          <a:xfrm>
            <a:off x="2335320" y="1557360"/>
            <a:ext cx="4319640" cy="4707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8"/>
          <p:cNvSpPr txBox="1"/>
          <p:nvPr/>
        </p:nvSpPr>
        <p:spPr>
          <a:xfrm>
            <a:off x="2771640" y="549360"/>
            <a:ext cx="381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о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Кефир, творог и сыр делают из молока. Колбасу и сосиски – из мяса. Бензин – из нефти. Все эти продукты можно изготовить  из сои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Соя – родственница гороха. Впервые её стали выращивать  в Китае 7000 лет назад. Семена сои богаты маслом и белками. По составу они сходны с белками мяса. Зерно сои перемалывают в муку. А из муки пекут кексы, печенье, делают макароны и конфеты. Если добавить сою к пшеничной муке, хлеб долго не черствеет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Богата соя и маслом, которое годится не только в пишу, не только на производство маргарина и витаминов. Из него можно получить и топливо для автомобилей и самолётов, резину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76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App0046"/>
          <p:cNvPicPr/>
          <p:nvPr/>
        </p:nvPicPr>
        <p:blipFill>
          <a:blip r:embed="rId2"/>
          <a:srcRect l="0" t="13304" r="0" b="0"/>
          <a:stretch/>
        </p:blipFill>
        <p:spPr>
          <a:xfrm>
            <a:off x="3019320" y="1484280"/>
            <a:ext cx="2952720" cy="49546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WordArt 8"/>
          <p:cNvSpPr txBox="1"/>
          <p:nvPr/>
        </p:nvSpPr>
        <p:spPr>
          <a:xfrm>
            <a:off x="3059280" y="404640"/>
            <a:ext cx="316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м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Многим нравится бородинский хлеб. От других сортов ржаного хлеба он отличается не только вкусом. Но и внешним видом: его корочка посыпана тмином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В июне заросли этого травянистого растения выглядят так, словно на них  набросили белое кружево. Это от обилия мелких, собранных в зонтики беленьких цветков. В июле на их месте появляются кругловатые плоды бурого цвета величиной со спичечную головку. У плодов терпкий и пряный вкус. Вот этими плодами посыпают корочку бородинского хлеба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Своим названием он обязан Бородинскому сражению, которое произошло в 1812 году между русскими и французами. Для раненых в этой битве русских солдат был создан госпиталь. Там стали выпекать новый хлеб, который посыпали тмином – пряные плоды повышали аппетит, улучшали пищеварение, и раненые быстрее поправлялись. С тех пор выпекают у нас этот сорт хлеба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Когда хозяйки засаливают огурцы или заквашивают капусту, им тоже нужны плоды тмина. Из тех же плодов получают тминное масло, которое придаёт приятный запах туалетному мылу и кондитерским изделиям. Если растолочь тминные плоды, заварить их кипятком, получится хорошее средство от боли в желудке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85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App0047"/>
          <p:cNvPicPr/>
          <p:nvPr/>
        </p:nvPicPr>
        <p:blipFill>
          <a:blip r:embed="rId2"/>
          <a:srcRect l="0" t="15942" r="0" b="0"/>
          <a:stretch/>
        </p:blipFill>
        <p:spPr>
          <a:xfrm>
            <a:off x="2363760" y="1274760"/>
            <a:ext cx="4264200" cy="46116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8"/>
          <p:cNvSpPr txBox="1"/>
          <p:nvPr/>
        </p:nvSpPr>
        <p:spPr>
          <a:xfrm>
            <a:off x="2443320" y="333360"/>
            <a:ext cx="41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фасо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5884"/>
                </a:solidFill>
                <a:latin typeface="Times New Roman"/>
              </a:rPr>
              <a:t>Фасоль – родственница гороха. По цвету делят на белую, цветную однотонную и цветную пёструю. Белок близок по составу к белкам мяса и богат незаменимыми аминокислотами. Содержание углеводов достигает 50-60%. Это преимущественно крахмал, имеется небольшое количество жиров – около 3%. Содержатся соли калия, кальция,фосфора, железа, а также витамины.</a:t>
            </a:r>
            <a:endParaRPr b="0" lang="en-US" sz="3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294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App0049"/>
          <p:cNvPicPr/>
          <p:nvPr/>
        </p:nvPicPr>
        <p:blipFill>
          <a:blip r:embed="rId2"/>
          <a:srcRect l="0" t="22148" r="0" b="0"/>
          <a:stretch/>
        </p:blipFill>
        <p:spPr>
          <a:xfrm>
            <a:off x="2579760" y="1989000"/>
            <a:ext cx="3830400" cy="39085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WordArt 8"/>
          <p:cNvSpPr txBox="1"/>
          <p:nvPr/>
        </p:nvSpPr>
        <p:spPr>
          <a:xfrm>
            <a:off x="2411280" y="40464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хлопчатни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Родина хлопка – тропические районы Азии, Африки, Америки. Долгие годы в Европе рассказывали легенду о белоснежных баранах,растущих на деревьях. Говорили, что шерсть у них тонкая и лёгкая, как пух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Изредка из далёкой Индии прибывали купцы, привозившие удивительную ткань – муслин. Купец брал халат из муслина и на глазах изумлённых людей продевал сквозь перстень. Как тут было не поверить легенде!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Простолюдинам муслин был не по карману. В старину говорили: «За морем телушка – полушка, да рубль перевоз». Так было с муслином. Ведь его везли за тысячу вёрст. Плавание в ту пору продолжалось многие месяцы. Пароходов ещё не было, а ветер, надувавший паруса, не всегда дул в нужную сторону. Часто суда терпели бедствия и от жестоких штормов, и от коварных пиратов, шнырявших по морям в поисках лёгкой добычи. И чем меньше товаров поступало на рынок, тем дороже они были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Ещё 300 лет назад одежда из индийской ткани была доступна лишь самым именитым особам, вроде английской королевы. И то королева облачалась в такое платье, когда нужно было появиться на торжественном приёме перед иностранными послами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03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App0050"/>
          <p:cNvPicPr/>
          <p:nvPr/>
        </p:nvPicPr>
        <p:blipFill>
          <a:blip r:embed="rId2"/>
          <a:srcRect l="0" t="16261" r="0" b="0"/>
          <a:stretch/>
        </p:blipFill>
        <p:spPr>
          <a:xfrm>
            <a:off x="3429000" y="1413000"/>
            <a:ext cx="2657520" cy="45306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WordArt 8"/>
          <p:cNvSpPr txBox="1"/>
          <p:nvPr/>
        </p:nvSpPr>
        <p:spPr>
          <a:xfrm>
            <a:off x="3276720" y="333360"/>
            <a:ext cx="3166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шалф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5884"/>
                </a:solidFill>
                <a:latin typeface="Times New Roman"/>
              </a:rPr>
              <a:t>«Белладонна» в переводе с итальянского означает «красивая женщина». Откуда же у растения такое странное имя?</a:t>
            </a:r>
            <a:endParaRPr b="0" lang="en-US" sz="22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5884"/>
                </a:solidFill>
                <a:latin typeface="Times New Roman"/>
              </a:rPr>
              <a:t>В давние времена у итальянок была мода пускать капельку сока белладонны в глаза и натирать растением щёки. Зрачки расширялись, приобретая особую выразительность, а щёки розовели. Но пользоваться растением нужно осторожно, оно ядовито. Полное имя растения – «атропа белладонна».</a:t>
            </a:r>
            <a:endParaRPr b="0" lang="en-US" sz="22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5884"/>
                </a:solidFill>
                <a:latin typeface="Times New Roman"/>
              </a:rPr>
              <a:t>Атропа считалась богиней судьбы у древних греков. Они верили, что судьба каждого человека в руках этой богини, и она в любую минуту может перерезать нить жизни.</a:t>
            </a:r>
            <a:endParaRPr b="0" lang="en-US" sz="22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5884"/>
                </a:solidFill>
                <a:latin typeface="Times New Roman"/>
              </a:rPr>
              <a:t>В современных условиях из ядовитого растения делают снотворные и болеутоляющие лекарства. Одно из них называется «атропин». Атропин же в руках врачей укрепляет «нить» жизни.</a:t>
            </a:r>
            <a:endParaRPr b="0" lang="en-US" sz="22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65" name="AutoShape 5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Наши прабабушки и прадедушки очень полезной  лекарственной травой считали шалфей. Ему приписывали множество целебных свойств. Утверждали даже, что шалфей продлевает жизнь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До наших дней дошло изречение древних римлян: «Разве может человек умереть, если в его саду растёт шалфей!»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А в Англии жил чудак, питавшийся лишь хлебом, маслом да шалфеем. Будто бы он намного пережил всех своих сверстников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Старинному правилу – полоскать рот и горло шалфеем при стоматите и воспалении дыхательных путей – люди следуют до сих пор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5884"/>
                </a:solidFill>
                <a:latin typeface="Times New Roman"/>
              </a:rPr>
              <a:t>Целебная сила шалфея – в листьях, покрытых волосками серого цвета. Листья содержат пахучее эфирное масло и дубящие вещества, которые и помогают больному поправиться. Потому-то шалфей и продолжают выращивать во многих странах и по сей день.</a:t>
            </a:r>
            <a:endParaRPr b="0" lang="en-US" sz="20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12" name="AutoShape 4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App0051"/>
          <p:cNvPicPr/>
          <p:nvPr/>
        </p:nvPicPr>
        <p:blipFill>
          <a:blip r:embed="rId2"/>
          <a:srcRect l="0" t="14325" r="0" b="0"/>
          <a:stretch/>
        </p:blipFill>
        <p:spPr>
          <a:xfrm>
            <a:off x="2981160" y="1341360"/>
            <a:ext cx="3029040" cy="515772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WordArt 8"/>
          <p:cNvSpPr txBox="1"/>
          <p:nvPr/>
        </p:nvSpPr>
        <p:spPr>
          <a:xfrm>
            <a:off x="2843280" y="33336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шаф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Римский император Гелиогабал был большой привереда. Даже прозрачная вода дворцовых прудов, в которых он купался, казалась ему недостаточно освежающей. И Гелиогабал повелел «улучшить» воду. И вот однажды произошло чудо: к приходу императора пруды начали источать такой аромат, словно в них вылили целую бочку духов.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Чудо совершили слуги императора с помощью шафрана. 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Это растение было в большом почёте у древних римлян. Когда шафран зацветал, на поля выходили сборщики. Но собирали они не красивые цветки, а лишь ярко-жёлтые нитевидные рыльца, которыми заканчивается пестик. Именно в рыльцах содержится душистое эфирное масло. Рыльца высушивали, толкли, а потом настаивали на них воду – получалось что-то вроде духов.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Сколько же приходилось собирать рылец, чтобы изо дня в день ароматизировать пруды императора! Такая затея стоила безумных денег и была по средствам лишь правителю могущественной Римской державы.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Гелиогабал не был исключением. Когда другой император Древнего Рима – Нерон – возвращался из Греции в свою столицу, дорогу, по которой он ехал, на всём протяжении поливали шафранной водой.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Высоко ценилось это растение и в странах востока – в Вавилоне, Персии, Китае. Шафраном окрашивали одежду в ярко-жёлтый цвет. Красящее вещество добывали из тех же рылец. Простым смертным дорогостоящая краска была не по карману. Ею окрашивали  лишь царскую одежду. В Китае существовал суровый закон6 под угрозой смерти никто, кроме императора, не смеет пользоваться шафранной краской!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5884"/>
                </a:solidFill>
                <a:latin typeface="Times New Roman"/>
              </a:rPr>
              <a:t>Сейчас шафран стал самым обычным. С ним мы встречаемся каждый день за завтраком. Ведь сливочное масло, сыр, колбаса, сдобные булочки, многие сорта конфет и напитков кажутся   нам более аппетитными потому, что их подкрашивают шафраном.</a:t>
            </a: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App0052"/>
          <p:cNvPicPr/>
          <p:nvPr/>
        </p:nvPicPr>
        <p:blipFill>
          <a:blip r:embed="rId2"/>
          <a:srcRect l="0" t="20573" r="0" b="0"/>
          <a:stretch/>
        </p:blipFill>
        <p:spPr>
          <a:xfrm>
            <a:off x="2438280" y="1773360"/>
            <a:ext cx="3899160" cy="4468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5"/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WordArt 8"/>
          <p:cNvSpPr txBox="1"/>
          <p:nvPr/>
        </p:nvSpPr>
        <p:spPr>
          <a:xfrm>
            <a:off x="2371680" y="476280"/>
            <a:ext cx="42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чечев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Чечевицу издавна ценили многие народы. Наряду с пшеницей её находили в египетских пирамидах – последних пристанищах фараонов. А ведь фараонам полагалось уносить в загробный мир лишь самое лучшее, чем они владели при жизни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Древние греки и римляне охотно ели чечевичную кашу и похлёбку. Когда чечевицы не хватало, приходилось привозить её из других мест и платить немалые деньги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Арабские купцы, отправляясь в дальний путь, неизменно брали с собой поджаренную чечевицу. Мал золотник, да дорог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Если же случалось заболеть в дороге, выручали чечевичные семена. Из них готовили  целебное средство, помогавшее вернуть утраченные силы. У арабов рецепт лекарства позаимствовали европейские врачи. Оно так и называлось - «арабское восстанавливающее»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Земледельцы нашей страны тоже давно подружились с чечевицей. Уже 1000 лет назад о ней упоминали киевские летописи – самые древние рукописные книги на Руси. Варёная чечевица была любимой пищей не только крестьян, но и знатных князей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До сих пор чечевичное зерно высоко ценится в нашей стране.  Оно идёт на каши и супы, пюре и кисели, лепёшки и пирожные. На кондитерских фабриках 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чечевичную муку добавляют в тесто, из которого выпекают лучшие сорта печенья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c5884"/>
                </a:solidFill>
                <a:latin typeface="Times New Roman"/>
              </a:rPr>
              <a:t>Семена чечевицы напоминают двояковыпуклую линзу диаметром 5-10 миллиметров.</a:t>
            </a: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App0053"/>
          <p:cNvPicPr/>
          <p:nvPr/>
        </p:nvPicPr>
        <p:blipFill>
          <a:blip r:embed="rId2"/>
          <a:srcRect l="0" t="13416" r="0" b="0"/>
          <a:stretch/>
        </p:blipFill>
        <p:spPr>
          <a:xfrm>
            <a:off x="3019320" y="1700280"/>
            <a:ext cx="2951280" cy="478800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5"/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WordArt 8"/>
          <p:cNvSpPr txBox="1"/>
          <p:nvPr/>
        </p:nvSpPr>
        <p:spPr>
          <a:xfrm>
            <a:off x="3059280" y="692280"/>
            <a:ext cx="324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ячме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Ячмень – полезное растение. Из него можно приготовить полный обед из 3 блюд: на первое – перловый суп, на второе – ячневую кашу, на третье – ячменный кофе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Ячмень давно переселился на поля. Уже 9000 лет назад древние египтяне перетирали ячменные зёрна, превращали их в муку и пекли хлеб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5884"/>
                </a:solidFill>
                <a:latin typeface="Times New Roman"/>
              </a:rPr>
              <a:t>Полезно ячменное зерно – пшеничное ему во многом уступает. Не случайно на русском Севере ячмень в старину называли «житом», то есть главным продуктом жития – жизни.</a:t>
            </a:r>
            <a:endParaRPr b="0" lang="en-US" sz="2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5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6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Использование растений с лечебной целью известно с глубокой древности. Многовековый опыт человека из поколения в поколение совершенствовался и обогащался новыми наблюдениями по применению лекарственной флоры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Лекарственные растения широко применяют при различных заболеваниях людей как в научной, так и в народной медицине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Некоторые виды растений введены в культуру – их выращивают на плантациях специальных хозяйств. Но большая часть – дикорастущие.Они в изобилии встречаются на лугах, болотах, в лесах, по склонам гор, в оврагах, на полях и огородах – собирай вовремя и правильно используй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Лечебные свойства растений обуславливаются в них разнообразных по своему составу и строению химических веществ: алкалоидов, гликозидов, сапонинов, эфирных масел, обладающих фармакологическим действием на организм человека или на причину заболевания. Эти вещества принято называть действующими началами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884"/>
                </a:solidFill>
                <a:latin typeface="Times New Roman"/>
              </a:rPr>
              <a:t>В зависимости от химической природы действующего начала лекарственные растения могут проявить тонизирующее, успокаивающее, болеутоляющее, отхаркивающее, слабительное, закрепляющее, мочегонное, ранозаживляющее, противовоспалительное, кровоостанавливающее, противомикробное и другие виды действия.</a:t>
            </a: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5884"/>
              </a:solidFill>
              <a:latin typeface="Times New Roman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8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pp0006"/>
          <p:cNvPicPr/>
          <p:nvPr/>
        </p:nvPicPr>
        <p:blipFill>
          <a:blip r:embed="rId2"/>
          <a:srcRect l="0" t="13558" r="0" b="2722"/>
          <a:stretch/>
        </p:blipFill>
        <p:spPr>
          <a:xfrm>
            <a:off x="2411280" y="1197000"/>
            <a:ext cx="410220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7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835280" y="404640"/>
            <a:ext cx="518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алери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алере» с латинского языка  означает «быть здоровым». Человек давно подружился с ценным растением. В России ещё при Петре 1 начали заготавливать валериану для госпита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валерианы «клад» зарыт  в корне. Из него получают валериановые капли. Стоит выпить несколько капель – и сильно понервничавший человек успокаива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9">
            <a:hlinkClick r:id="rId2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030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31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о"/>
          <p:cNvPicPr/>
          <p:nvPr/>
        </p:nvPicPr>
        <p:blipFill>
          <a:blip r:embed="rId2"/>
          <a:srcRect l="0" t="9339" r="0" b="2166"/>
          <a:stretch/>
        </p:blipFill>
        <p:spPr>
          <a:xfrm>
            <a:off x="2411280" y="1125360"/>
            <a:ext cx="4321440" cy="5328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>
            <a:hlinkClick r:id="rId3" action="ppaction://hlinksldjump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7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next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908000" y="404640"/>
            <a:ext cx="51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асилё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0:54:12Z</dcterms:created>
  <dc:creator>Стас</dc:creator>
  <dc:description/>
  <dc:language>en-US</dc:language>
  <cp:lastModifiedBy>Microsoft Office</cp:lastModifiedBy>
  <dcterms:modified xsi:type="dcterms:W3CDTF">2019-10-09T03:25:16Z</dcterms:modified>
  <cp:revision>27</cp:revision>
  <dc:subject/>
  <dc:title>Презентация PowerPoint</dc:title>
</cp:coreProperties>
</file>