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8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4.gif" ContentType="image/gif"/>
  <Override PartName="/ppt/media/image4.jpeg" ContentType="image/jpeg"/>
  <Override PartName="/ppt/media/image2.png" ContentType="image/png"/>
  <Override PartName="/ppt/media/image13.gif" ContentType="image/gif"/>
  <Override PartName="/ppt/media/image16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66D-E970-455C-8491-F38D3A5D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9D2A-29E0-4BED-8982-70A6BE24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CECEE-FACD-45AB-9CC5-9E090AB7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75FA6-BC45-4DA7-B58A-8AFF8B56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CA8FE-8711-4653-AB48-59536F8D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AAC53-B767-4D19-AF9C-BE17FBBC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FA47A-A239-4428-9D86-CE36EE58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60350-6647-4398-9860-DFA73492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DCEF6-334A-4739-AD48-9C96CEB4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FD454-525A-4337-A6E5-DC399296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BD6AE-47C7-4962-9FCF-F563F8B7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5C62A-7BB5-4D14-8EEF-9A49B4B0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07C-9B1D-4766-B260-D7BB236F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BB23C-41F1-4089-A977-003A91BB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91851-3CE8-4D10-8B1E-ACBB3A04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D6305-DD13-4BB6-BA45-BAFB93C5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3E185-732D-4C12-B8F7-86365D60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DD6B2-5FC7-423B-ACBC-C39AE34A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64EDE-B75A-40B3-8A11-0C0712F7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A132F-61EE-45D7-AEA5-7AE0C8F4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CC88E-D0A4-44CD-B060-6DD7C0CC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2D4B7-78E9-4FCE-BC68-FBCBA11B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9E8C3-14B4-4856-8B11-C2BAA3FD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A79-9D3A-408F-92A0-2B11A7A0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9AB1B-0D55-447E-A2EB-D0207E27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C862A-B941-4BEB-B56D-D14CE9D6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A08A5-4499-41D4-99F8-8ED9B8C9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CD96C-016D-451A-B6A9-81046BEA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B1906-AC34-4B70-B576-06EBA8A3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377B2-200E-4C07-956D-58C6EF25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F6037-6E3E-4B5C-8406-255DFE39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A1C8B-C192-41C6-978C-C57E2BB4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06E39-08B6-404F-B0CC-BED9056C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431E1-D84B-44F7-A1BA-2A419830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138D-D72C-4580-8C99-E90BF6E5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6705A-7A88-43B9-BB1B-AB61BF52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05005-51FB-4B38-A598-6748AD26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EB4B0-EAE1-4895-BC68-402B8243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F2E45-2A6E-4C36-83A4-B4C37FBB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A327C-DB51-4E7B-BE41-547711F1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5B3A6-74E1-4F0E-AC7A-C4B2FAC7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933F6-C025-49DC-9F9C-8306BCEF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E71D7-49C2-4F9D-89E0-648FAC62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58C02-BD6E-4CF3-8E28-E313D5A4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CBCFB-70F2-455A-B31C-29144A16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64DB-D3B0-47F2-BE62-F227E90B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A6D55-556E-4000-81FE-6A34EB6E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EC078-2EDB-4ECD-AB27-C0FC567C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8A52D-EABA-4B26-B003-85BBECE2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8AB15-C01C-4211-8F6D-AC5B7795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DE47C-70E8-47DD-9277-F8E3237F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B7A9E-FD0D-44E0-B59B-2C8C447E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0341A-8B20-42D2-A09C-3D696357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2A766-C90F-4201-AA63-4AF5AFAA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D8993-E271-486A-BB6B-7BDDDF32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F5721-192E-4C7D-A1AF-19D188A4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1D35-C236-4810-B24F-EB0E8823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E8C90-914D-4AF4-8B04-063C13AA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2F62A-6E48-4D4B-9388-6642F1F4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D5A12-7D07-41C3-A447-989FD157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12C4D-8766-4C0B-9CBB-8FCE408A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DE116-9AEF-4B04-BB3B-C903E191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50DF0-FCF1-4078-8CFB-3B734D65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867A84-C796-459A-99F7-14225A87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E4033-76D2-474B-891A-830A800C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C8BC21-099A-4EE9-9878-811B8327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4032D-0D3A-4857-9F5B-10802519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2F84-EDD0-46DC-9671-D2770446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3E7A8-0A3D-4551-ADA2-052E9B68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DC05D-C494-45C3-BC59-FC78A145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3616E-5806-4E29-8FE5-E6CE3855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30FF01-D96F-4BC5-A976-657A0219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74D10-3553-4AFB-AD78-53597FF8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79ED44-57D1-491C-8329-58592677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B6D22-001C-415D-85CD-43AB9BA0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E492B-DB41-44CA-9A5A-04200680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1F10F-07D7-4D25-BB93-E0A557D5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13C24-3D8C-45AF-8A48-A21C8087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92FD-2640-42F3-87A9-CE8427A5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86F8A-EF19-46A2-AAAA-4D61311B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A946CC-A664-4BD0-B5D0-B2022B54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724C3-AD4A-4859-AD9F-7B036CA2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B6545-3196-4889-81FF-4AF2F4BC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A73DF0-08EE-4FAC-B71F-4D9C38B7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712329-C5C5-4D60-94C0-02A20EAB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4FF32D-4A11-400F-91A2-BB013379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8BD98-ACA7-49E8-B62C-6866E3CE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AF8EA-21F1-44AF-B440-BA55C786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FB938B-1A79-408F-A3D5-CA8FD41C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5D88-31FF-4E6E-8293-A17402A9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6C3E96-E883-4A4A-9174-8CEEDBBB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C03455-0CC3-4806-B5D2-2FE7A3F9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BCD6C-62FA-488A-BB9B-443F6906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38AC2-4113-4EF8-97F5-15BBDE84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C0D367-2D65-401D-988F-6E8FFD46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72D461-26DF-4152-93DA-50A5A7DE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5FCB7-1496-487D-A26D-B0E5785E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9C956-FFF1-482D-A4FD-5D012DFC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2E419-1E10-43E9-96FF-FDEE2FB4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1F1F4-FDC5-4281-A679-587824F7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EB7A-F5AE-4703-9B17-D8566035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703387-1C4F-4501-AE3B-4AD5C7C3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BAB15-C829-4F2C-86EC-6A0901C3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74DBBC-8394-4CEF-A09B-6587E938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77388-12ED-4843-A4A6-30E3684A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F023AF-BEA0-48BA-A825-7D0BB073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BE7FBC-65DC-41F9-9671-D4ED01F3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2F168-B1B7-4E41-8CED-1B5243C0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E95199-07CC-4452-9248-11BD5807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F78B9B-ED17-4580-8F83-110B14E5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1F5AFD-B77D-4877-8C6F-CA00C09F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553-AFDF-431D-B580-B9E71A7B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DD59-6EF2-4F8A-A37E-82482218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0A7F6E-EB48-44B9-809A-2495E0CF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EA570-91FC-466B-B633-2133E9CC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98B54-43C9-4102-8583-CC254A40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D83F53-075D-4A39-8EDC-23DF185E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684FA-C8BD-4A43-9387-ADD29FA1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52AD-8F72-435D-B17A-BCB80F6C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B216-7554-47D2-BD38-98378B7A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F7D3-CEAD-4818-96FC-A9834464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4E83-D6C7-4BC7-8B3D-9BFC68EB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1B361-857D-4701-9CBD-D7677B89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0F05B-61A1-4A7E-95AB-FB3B7736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21FE6-F3CD-4EE4-A6B2-A1941726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0D0B5-FB75-405F-9305-7B2D4F9C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9A561-1BC2-4D00-8176-F890CE12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617-0B16-415B-A83F-D9AFF5C4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851C7-CA98-408D-BC48-CB0253AA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9D582-7A0F-422C-B884-5FF71E03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01F24-8EF9-445C-81DC-881546C5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97F2-92BC-4DA2-AFF3-4E1399FA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CDD0F-51B2-4A8B-872D-2D2B1E13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BD4AD-0396-4B00-960F-AE808C21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DD149-D1B6-4F2F-9252-E90F0A77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0CF24-B5D5-465F-98DB-61624FE7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2B02C-3A81-431A-98E1-404397E6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6A5A2-5E1A-499C-9CA3-E7F7150A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CF8-F118-45B3-B8F5-19DAA4A1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28312-E477-4E1E-9379-83DB32B8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78C8-2CBC-48CE-B19A-D8EAD63F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93C8-DD43-4DC2-BB9E-6301223A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98243-4ADF-4A48-B771-CD4EFD03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92A5D-48F7-46EA-9758-DEE40C00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6279C-C930-4810-A164-A9B1398A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C90A0-DDD5-4101-8AF2-34C47E66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E9454-47F1-4130-96AE-134BEC2B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A7711-5BC1-4FFD-AEEF-9531282D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3D6AD-6457-4767-9CF3-BF6FEA76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04A-DB5F-4047-B4D8-8D270325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4DAA6-56B8-43C9-A06E-08B26776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DB8CB-0AFC-41AF-8535-A130AD18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9509E-3901-4E3D-B5F5-85B48AC2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3C09F-A02C-437D-A76E-E1CFC350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D0B73-439B-4CD1-A148-33A4D60E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B6226-45A4-4F30-A869-15F80191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3B285-EC48-4930-8BB7-1905620D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4EB7D-4E48-4182-B7A1-620279F3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83770-78DC-426C-AE8F-102128DC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53B38-3506-480D-8E46-092C5A36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9AA-D0D2-4EBE-86DD-AB5BDBC8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56686-B709-4B93-B413-916F75C5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15E4E-B129-454A-995F-6B1A4E38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AAA35-E496-41C0-8079-F3286B1F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A7A9E-616B-466B-8832-48027C59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74ABA-56EC-4A92-99D4-A31E4B24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39054-7D4D-4973-AECF-25E3FBDB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F7F6C-F177-4858-9872-C05FFEF0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D4BEC-9807-4699-A76D-83EC78E3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DD68B-56A7-4E1D-A992-365CBDD6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96DB0-5791-42B7-AE30-C989B17C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9D6-105C-4DB6-8C41-76979702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FD930-3C05-4B26-867E-3BD3ACF3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6F95A-69A0-4550-BBF0-4B6EA7E5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9E4DF-C2D3-494A-8EA0-2FC4DC61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07F9E-EE94-43F8-9338-D566A076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DE2DD-20BC-4106-B163-12994209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55963-C8F4-4F72-877A-BD8926D7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59C54-98B6-424A-824F-08212AB7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DF07B-2C85-42E2-B73C-C1978577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ADE14-0299-4B65-A654-AA4ABC8C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A92A2-A42C-4A7E-B4F5-960EEF13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EA2-B274-4E4C-96E3-ABAE5E64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7DAA2-23DC-47DA-97A3-3D411E93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EF27B-6ABC-4B70-8288-D46045F2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472D3-8864-4D85-84F0-54E91C56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F568B-9B36-4ABD-948A-D9C59FE7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C45B0-0475-4893-9A1F-C4FB60AA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32CB5-3F11-4D1E-9E99-7D9BD601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968DA-0FC6-4C0C-B3AA-8D717E92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6591C-2A3C-4884-A9C6-D7466144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A92E0-0AF4-4E61-A681-B5051018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3223A-DE94-45DD-AE28-C5558250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92C-A011-452E-B391-8A61E376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68ECC-E448-4F62-998A-EE74ED4B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02B65-4561-416B-9185-ED86DA73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51E06-8A35-4D42-A7CF-CC3B6415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43F1F-66A5-4130-82A0-162A8321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CE7D7-3892-4164-A3D8-F5D0701C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51D6D-EC4E-4834-96EB-D603DB13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F1DE9-2905-4134-B141-24781659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842C9-83BD-4F9E-8ED1-6E65B511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3251F-5A0B-418C-B8B3-40C76DBA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B3CD2-5BAD-43DE-AFF9-03AE0BE1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31BA-1919-47DF-85D4-A08F9DADF6C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8d4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2927-990C-46EB-960A-DE95CD67B32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8d4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CAA1-3ECD-4893-993E-3C814A143BA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8d4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d422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d422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165D-6009-4F74-A0AF-14FC9500854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8d4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C6D2-8117-49BF-BDB3-FC67207E7F9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8d4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d422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d422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8003-7D90-4B13-BA05-5DC439B1A88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8d4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229F-302F-43AA-BEF8-D84CC0638D5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8d4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21BF-AECF-405C-A1F8-0377E291F56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8d4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0482-C79D-4186-B9DD-D56E3457D31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8d4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D88C-84B9-4E78-BD2B-A58EDBC3402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8d4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FCBA-82B2-49E4-BA67-AFC8A2C7107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8d4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9D29-343F-4370-B5A9-B25AA16CF9A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8d4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5ECF-F57F-4F82-9603-406011B90D0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8d4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A246-B854-4303-8199-749BB3F573B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8d4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D5DE-9688-413B-AB37-DA652C74A10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8d4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8CB6-464F-42AD-9EB2-3CD8588BBF2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a39b4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a39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8d4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D750-D65A-4942-AD2C-3F712420361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hop.iddk.ru/image/cdrom/69297/front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hyperlink" Target="http://www.kenguru1.sp.ru/prognoz.html" TargetMode="External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900" spc="-1" strike="noStrike">
                <a:solidFill>
                  <a:srgbClr val="8d4220"/>
                </a:solidFill>
                <a:latin typeface="Times New Roman"/>
                <a:ea typeface="Times New Roman"/>
              </a:rPr>
              <a:t>Старинные меры </a:t>
            </a:r>
            <a:br>
              <a:rPr sz="4900"/>
            </a:br>
            <a:r>
              <a:rPr b="0" lang="ru-RU" sz="4900" spc="-1" strike="noStrike">
                <a:solidFill>
                  <a:srgbClr val="8d4220"/>
                </a:solidFill>
                <a:latin typeface="Times New Roman"/>
                <a:ea typeface="Times New Roman"/>
              </a:rPr>
              <a:t>измерения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TextBox 1"/>
          <p:cNvSpPr/>
          <p:nvPr/>
        </p:nvSpPr>
        <p:spPr>
          <a:xfrm>
            <a:off x="5651640" y="43657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легова Ан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8d4220"/>
                </a:solidFill>
                <a:latin typeface="Times New Roman"/>
                <a:ea typeface="Times New Roman"/>
              </a:rPr>
              <a:t>Вершок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Text Box 7"/>
          <p:cNvSpPr/>
          <p:nvPr/>
        </p:nvSpPr>
        <p:spPr>
          <a:xfrm>
            <a:off x="457200" y="706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ая русская мера длины, равная ширине двух пальцев руки (указательного и средне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8"/>
          <p:cNvSpPr/>
          <p:nvPr/>
        </p:nvSpPr>
        <p:spPr>
          <a:xfrm>
            <a:off x="1258920" y="1411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вершка составляет примерно     4,4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0" name="Picture 11" descr="C:\Documents and Settings\Ограниченная\Рабочий стол\nun_1.jpg"/>
          <p:cNvPicPr/>
          <p:nvPr/>
        </p:nvPicPr>
        <p:blipFill>
          <a:blip r:embed="rId1"/>
          <a:srcRect l="51982" t="0" r="0" b="0"/>
          <a:stretch/>
        </p:blipFill>
        <p:spPr>
          <a:xfrm>
            <a:off x="3348000" y="2271600"/>
            <a:ext cx="282564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8d4220"/>
                </a:solidFill>
                <a:latin typeface="Times New Roman"/>
                <a:ea typeface="Times New Roman"/>
              </a:rPr>
              <a:t>Верст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108000" y="714240"/>
            <a:ext cx="925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й крупной из древнерусских единиц была «верста» или поприще. Слово «верстать» означало уравнивать, распределять. Верста упоминалась в летописи 1097года, она была в 750 раз больше сажени. Таким образом, получается, что верста примерно 1140метра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657600" y="3048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d582c"/>
                </a:solidFill>
                <a:latin typeface="Calibri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8"/>
          <p:cNvSpPr/>
          <p:nvPr/>
        </p:nvSpPr>
        <p:spPr>
          <a:xfrm>
            <a:off x="5257800" y="3733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9"/>
          <p:cNvSpPr/>
          <p:nvPr/>
        </p:nvSpPr>
        <p:spPr>
          <a:xfrm>
            <a:off x="0" y="23241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6" name="Picture 10" descr="C:\Documents and Settings\Ограниченная\Рабочий стол\длина\528065219.gif"/>
          <p:cNvPicPr/>
          <p:nvPr/>
        </p:nvPicPr>
        <p:blipFill>
          <a:blip r:embed="rId1"/>
          <a:stretch/>
        </p:blipFill>
        <p:spPr>
          <a:xfrm>
            <a:off x="1963800" y="2657520"/>
            <a:ext cx="521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8d4220"/>
                </a:solidFill>
                <a:latin typeface="Times New Roman"/>
                <a:ea typeface="Times New Roman"/>
              </a:rPr>
              <a:t>Верст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73080" y="692280"/>
            <a:ext cx="89978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евая верста существовала на Руси до 18 века для определения расстояния между населенными пунктами и для межевания (от слова межа-граница земельных владений в виде узкой полосы). Длина такой версты 1000 саженей или 2,13 км. «Верстой» назывался верстовой столб на дорог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9" name="Rectangle 4"/>
          <p:cNvSpPr/>
          <p:nvPr/>
        </p:nvSpPr>
        <p:spPr>
          <a:xfrm>
            <a:off x="152280" y="51055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0" name="i-main-pic" descr="Картинка 7 из 409">
            <a:hlinkClick r:id="rId1"/>
          </p:cNvPr>
          <p:cNvPicPr/>
          <p:nvPr/>
        </p:nvPicPr>
        <p:blipFill>
          <a:blip r:embed="rId2"/>
          <a:srcRect l="26505" t="59237" r="19002" b="8268"/>
          <a:stretch/>
        </p:blipFill>
        <p:spPr>
          <a:xfrm>
            <a:off x="1631880" y="2997360"/>
            <a:ext cx="58802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8d4220"/>
                </a:solidFill>
                <a:latin typeface="Times New Roman"/>
                <a:ea typeface="Times New Roman"/>
              </a:rPr>
              <a:t>Мил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3" name="Rectangle 5"/>
          <p:cNvSpPr/>
          <p:nvPr/>
        </p:nvSpPr>
        <p:spPr>
          <a:xfrm>
            <a:off x="-181080" y="685800"/>
            <a:ext cx="3961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0bf5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ля (от латинского слова  "милия" - тысяча (шагов)-русская мера длины. Использовалась как единица для измерения больших расстояний, равна семи верстам или 7,468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ряки измеряют расстояния милями (1852 м) и кабельтовыми (десятая часть мили), а скорость – узлами (1 миля в час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4" name="Picture 4" descr="C:\Documents and Settings\Ограниченная\Рабочий стол\длина\image_4cf91a142eaea.jpg"/>
          <p:cNvPicPr/>
          <p:nvPr/>
        </p:nvPicPr>
        <p:blipFill>
          <a:blip r:embed="rId1"/>
          <a:stretch/>
        </p:blipFill>
        <p:spPr>
          <a:xfrm>
            <a:off x="4427640" y="703440"/>
            <a:ext cx="4125960" cy="58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692360" y="15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8d4220"/>
                </a:solidFill>
                <a:latin typeface="Times New Roman"/>
                <a:ea typeface="Times New Roman"/>
              </a:rPr>
              <a:t>Первые единицы измерен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1258920" y="73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 счетным прибором человека были пальцы рук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ts val="203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ог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ts val="203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ts val="28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ногих народов была мера расстояния стрела - дальность полета стрел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ts val="28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ts val="28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ие расстояния мы и в настоящее время нередко определяем шагам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0" name="Picture 7" descr=""/>
          <p:cNvPicPr/>
          <p:nvPr/>
        </p:nvPicPr>
        <p:blipFill>
          <a:blip r:embed="rId1"/>
          <a:stretch/>
        </p:blipFill>
        <p:spPr>
          <a:xfrm>
            <a:off x="826920" y="3713040"/>
            <a:ext cx="3333960" cy="300852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14" descr=""/>
          <p:cNvPicPr/>
          <p:nvPr/>
        </p:nvPicPr>
        <p:blipFill>
          <a:blip r:embed="rId2"/>
          <a:stretch/>
        </p:blipFill>
        <p:spPr>
          <a:xfrm>
            <a:off x="5292720" y="3713040"/>
            <a:ext cx="333216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634920" y="0"/>
            <a:ext cx="1366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8d4220"/>
                </a:solidFill>
                <a:latin typeface="Times New Roman"/>
                <a:ea typeface="Times New Roman"/>
              </a:rPr>
              <a:t>Пяд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899640" y="692280"/>
            <a:ext cx="8388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это означает кисть руки (вспомните современное слово «запястье»). Определялась пядь как расстояние между концами вытянутых большого и указательного пальцев, ее значение примерно равно 18- 19 см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4" name="Picture 4" descr="Старинные%20меры%20длины.files/RUKA.jpg"/>
          <p:cNvPicPr/>
          <p:nvPr/>
        </p:nvPicPr>
        <p:blipFill>
          <a:blip r:embed="rId1"/>
          <a:stretch/>
        </p:blipFill>
        <p:spPr>
          <a:xfrm>
            <a:off x="1619280" y="2924280"/>
            <a:ext cx="58672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033800" y="34560"/>
            <a:ext cx="1076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8d4220"/>
                </a:solidFill>
                <a:latin typeface="Times New Roman"/>
                <a:ea typeface="Times New Roman"/>
              </a:rPr>
              <a:t>Фу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380880" y="2133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7" name="Rectangle 16"/>
          <p:cNvSpPr/>
          <p:nvPr/>
        </p:nvSpPr>
        <p:spPr>
          <a:xfrm>
            <a:off x="457200" y="1089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 фута была уточнена через обмер ступней случайно взятых 16 лиц разного ро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i-main-pic" descr="Картинка 1 из 29"/>
          <p:cNvPicPr/>
          <p:nvPr/>
        </p:nvPicPr>
        <p:blipFill>
          <a:blip r:embed="rId1"/>
          <a:stretch/>
        </p:blipFill>
        <p:spPr>
          <a:xfrm>
            <a:off x="914400" y="2421000"/>
            <a:ext cx="7315200" cy="3962160"/>
          </a:xfrm>
          <a:prstGeom prst="rect">
            <a:avLst/>
          </a:prstGeom>
          <a:ln w="0">
            <a:noFill/>
          </a:ln>
        </p:spPr>
      </p:pic>
      <p:sp>
        <p:nvSpPr>
          <p:cNvPr id="1189" name="Прямоугольник 2"/>
          <p:cNvSpPr/>
          <p:nvPr/>
        </p:nvSpPr>
        <p:spPr>
          <a:xfrm>
            <a:off x="1403280" y="739800"/>
            <a:ext cx="727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редняя длина ступни человека (30,48 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444840" y="-360"/>
            <a:ext cx="2665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8d4220"/>
                </a:solidFill>
                <a:latin typeface="Times New Roman"/>
                <a:ea typeface="Times New Roman"/>
              </a:rPr>
              <a:t>Локот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Rectangle 5"/>
          <p:cNvSpPr/>
          <p:nvPr/>
        </p:nvSpPr>
        <p:spPr>
          <a:xfrm>
            <a:off x="642960" y="71424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о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олее крупная единица, как и в большинстве государств, это была единица, равная расстоянию от локтевого сгиба до конца вытянутого среднего пальца руки. Древнерусский локоть равнялся примерно 46 – 47 с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Picture 6" descr="C:\Documents and Settings\Ограниченная\Рабочий стол\длина\clip_image017.png"/>
          <p:cNvPicPr/>
          <p:nvPr/>
        </p:nvPicPr>
        <p:blipFill>
          <a:blip r:embed="rId1"/>
          <a:stretch/>
        </p:blipFill>
        <p:spPr>
          <a:xfrm>
            <a:off x="1547640" y="2997360"/>
            <a:ext cx="61722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07640" y="33120"/>
            <a:ext cx="2598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ев ковчег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826920" y="72180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Georgia"/>
                <a:ea typeface="Times New Roman"/>
              </a:rPr>
              <a:t> 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т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…длина ковчега триста локтей; ширина его пятьдесят локтей, а высота его тридцать локтей."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d422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5" name="Rectangle 5"/>
          <p:cNvSpPr/>
          <p:nvPr/>
        </p:nvSpPr>
        <p:spPr>
          <a:xfrm>
            <a:off x="21906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6" name="Picture 4" descr=""/>
          <p:cNvPicPr/>
          <p:nvPr/>
        </p:nvPicPr>
        <p:blipFill>
          <a:blip r:embed="rId1"/>
          <a:stretch/>
        </p:blipFill>
        <p:spPr>
          <a:xfrm>
            <a:off x="1739880" y="2421000"/>
            <a:ext cx="59482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8d4220"/>
                </a:solidFill>
                <a:latin typeface="Times New Roman"/>
                <a:ea typeface="Times New Roman"/>
              </a:rPr>
              <a:t>Аршин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55080" y="333000"/>
            <a:ext cx="924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Georgia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 – это древняя мера, равная  первоначально длине всей руки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9" name="Picture 14" descr="Аршин (71,12 см) - Старинные русские меры длины, веса, объёма. Для измерения применялись так же меньшие величины: локоть, пядь (четверть аршина), вершок (длина = 4,445 сантиметра); и крупные: сажень, верста (1066,8 метров)"/>
          <p:cNvPicPr/>
          <p:nvPr/>
        </p:nvPicPr>
        <p:blipFill>
          <a:blip r:embed="rId1"/>
          <a:srcRect l="4255" t="7879" r="2085" b="9347"/>
          <a:stretch/>
        </p:blipFill>
        <p:spPr>
          <a:xfrm>
            <a:off x="595440" y="2565360"/>
            <a:ext cx="3786120" cy="2863800"/>
          </a:xfrm>
          <a:prstGeom prst="rect">
            <a:avLst/>
          </a:prstGeom>
          <a:ln w="0">
            <a:noFill/>
          </a:ln>
        </p:spPr>
      </p:pic>
      <p:sp>
        <p:nvSpPr>
          <p:cNvPr id="1200" name="Text Box 20"/>
          <p:cNvSpPr/>
          <p:nvPr/>
        </p:nvSpPr>
        <p:spPr>
          <a:xfrm>
            <a:off x="971640" y="1101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цы продавая товар, мерили его своим арши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1" name="Picture 24" descr="C:\Documents and Settings\Администратор\Рабочий стол\метод. разработки\КЛ.ЧАС От дюйма .. до аршина\купцы лампа пряха\купец.bmp"/>
          <p:cNvPicPr/>
          <p:nvPr/>
        </p:nvPicPr>
        <p:blipFill>
          <a:blip r:embed="rId2"/>
          <a:stretch/>
        </p:blipFill>
        <p:spPr>
          <a:xfrm>
            <a:off x="5119560" y="2333520"/>
            <a:ext cx="35053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8d4220"/>
                </a:solidFill>
                <a:latin typeface="Times New Roman"/>
                <a:ea typeface="Times New Roman"/>
              </a:rPr>
              <a:t>Сажен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151920" y="685440"/>
            <a:ext cx="8883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Georgia"/>
              </a:rPr>
              <a:t>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ажень происходит от славянского слова «сяг» — «шаг». Сначала оно означало расстояние, на которое можно шагнуть. Затем стали различать сажени: маховую, косую, казенную, мерную, большую, греческую, церковную, царскую, морскую, трубн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28098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Picture 6" descr="C:\Documents and Settings\Ограниченная\Рабочий стол\длина\0012-010-Starinnye-russkie-mery-dliny.jpg"/>
          <p:cNvPicPr/>
          <p:nvPr/>
        </p:nvPicPr>
        <p:blipFill>
          <a:blip r:embed="rId1"/>
          <a:stretch/>
        </p:blipFill>
        <p:spPr>
          <a:xfrm>
            <a:off x="1187280" y="2708280"/>
            <a:ext cx="7086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77760" y="677520"/>
            <a:ext cx="9066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Georgia"/>
              </a:rPr>
              <a:t>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ая сажен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т большого пальца левой ноги до среднего пальца вытянутой вверх правой руки — около 42 вершков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ов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 размерах обеих горизонтально вытянутых рук — около 2,5 аршина. Вместе с тем заслуживает внимания, что узаконенная в Уложении 1649 сажень, «которая… по государеву указу сделана в 3 аршина», названа новой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grpSp>
        <p:nvGrpSpPr>
          <p:cNvPr id="1207" name="Group 26"/>
          <p:cNvGrpSpPr/>
          <p:nvPr/>
        </p:nvGrpSpPr>
        <p:grpSpPr>
          <a:xfrm>
            <a:off x="3784680" y="5267160"/>
            <a:ext cx="893160" cy="533520"/>
            <a:chOff x="3784680" y="5267160"/>
            <a:chExt cx="893160" cy="533520"/>
          </a:xfrm>
        </p:grpSpPr>
        <p:pic>
          <p:nvPicPr>
            <p:cNvPr id="1208" name="Picture 23" descr="J0095714"/>
            <p:cNvPicPr/>
            <p:nvPr/>
          </p:nvPicPr>
          <p:blipFill>
            <a:blip r:embed="rId1"/>
            <a:stretch/>
          </p:blipFill>
          <p:spPr>
            <a:xfrm>
              <a:off x="4287600" y="5338800"/>
              <a:ext cx="39024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Picture 24" descr="J0095666"/>
            <p:cNvPicPr/>
            <p:nvPr/>
          </p:nvPicPr>
          <p:blipFill>
            <a:blip r:embed="rId2"/>
            <a:stretch/>
          </p:blipFill>
          <p:spPr>
            <a:xfrm>
              <a:off x="3784680" y="5267160"/>
              <a:ext cx="475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0" name="Group 25"/>
          <p:cNvGrpSpPr/>
          <p:nvPr/>
        </p:nvGrpSpPr>
        <p:grpSpPr>
          <a:xfrm>
            <a:off x="5273640" y="5213520"/>
            <a:ext cx="1901880" cy="642600"/>
            <a:chOff x="5273640" y="5213520"/>
            <a:chExt cx="1901880" cy="642600"/>
          </a:xfrm>
        </p:grpSpPr>
        <p:pic>
          <p:nvPicPr>
            <p:cNvPr id="1211" name="Picture 17" descr="J0095714"/>
            <p:cNvPicPr/>
            <p:nvPr/>
          </p:nvPicPr>
          <p:blipFill>
            <a:blip r:embed="rId3"/>
            <a:stretch/>
          </p:blipFill>
          <p:spPr>
            <a:xfrm>
              <a:off x="6785280" y="5357520"/>
              <a:ext cx="39024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2" name="Picture 18" descr="J0095666"/>
            <p:cNvPicPr/>
            <p:nvPr/>
          </p:nvPicPr>
          <p:blipFill>
            <a:blip r:embed="rId4"/>
            <a:stretch/>
          </p:blipFill>
          <p:spPr>
            <a:xfrm>
              <a:off x="5273640" y="5286240"/>
              <a:ext cx="4762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3" name="Picture 19" descr="J0095668"/>
            <p:cNvPicPr/>
            <p:nvPr/>
          </p:nvPicPr>
          <p:blipFill>
            <a:blip r:embed="rId5"/>
            <a:stretch/>
          </p:blipFill>
          <p:spPr>
            <a:xfrm>
              <a:off x="5776920" y="5213520"/>
              <a:ext cx="50508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Picture 20" descr="J0095672"/>
            <p:cNvPicPr/>
            <p:nvPr/>
          </p:nvPicPr>
          <p:blipFill>
            <a:blip r:embed="rId6"/>
            <a:stretch/>
          </p:blipFill>
          <p:spPr>
            <a:xfrm>
              <a:off x="6282000" y="5286240"/>
              <a:ext cx="4950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5" name="Text Box 22"/>
            <p:cNvSpPr/>
            <p:nvPr/>
          </p:nvSpPr>
          <p:spPr>
            <a:xfrm>
              <a:off x="5632560" y="5213520"/>
              <a:ext cx="2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cc"/>
                  </a:solidFill>
                  <a:latin typeface="Calibri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6" name="Picture 15" descr="http://www.kenguru.sp.ru/im/4_3_3.gif">
            <a:hlinkClick r:id="rId7"/>
          </p:cNvPr>
          <p:cNvPicPr/>
          <p:nvPr/>
        </p:nvPicPr>
        <p:blipFill>
          <a:blip r:embed="rId8"/>
          <a:srcRect l="0" t="0" r="0" b="22810"/>
          <a:stretch/>
        </p:blipFill>
        <p:spPr>
          <a:xfrm>
            <a:off x="919080" y="3860640"/>
            <a:ext cx="280836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8:05:16Z</dcterms:created>
  <dc:creator>Шведа О.В.</dc:creator>
  <dc:description/>
  <dc:language>en-US</dc:language>
  <cp:lastModifiedBy>Наталья Юрьева Борисовна</cp:lastModifiedBy>
  <dcterms:modified xsi:type="dcterms:W3CDTF">2019-10-09T08:03:36Z</dcterms:modified>
  <cp:revision>213</cp:revision>
  <dc:subject/>
  <dc:title>Старинные меры измерения</dc:title>
</cp:coreProperties>
</file>