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71B-D108-4334-B7C3-AC76039C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C2C-C9DB-43FD-86EF-4E32918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CD6-B51C-4008-98DA-DB736D82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691-79E8-4CC6-BA39-DEC09FC5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EE8D-17F2-461E-BE02-9BD135C0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951-9800-48A6-9396-D4DC9CD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706D-9F79-4702-A75C-96011B42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36F-C85B-4422-8175-B3073CA0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4D9-0070-43ED-A719-11AACA7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097C-E6AC-454A-907D-4B9608D3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5583-98C0-4495-AA9A-6A899DA1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A0A-23CC-4626-B500-0432E75D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8F84-D93A-423F-93B8-F0B28C1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0344-6928-4CEE-AFC3-9009CF3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374A-1420-44C9-A7A5-208BC3E7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293C-D3DA-4499-AF74-A4B42203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6FB-A301-4D3E-8C5D-63FB731C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39D-2D3D-4DED-B39B-C3E5B93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2DE-2748-4847-B446-C0BA032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35E-544B-4186-832F-D4D9376B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4C4-6B7A-4D98-A45D-7920054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9B0-1C5E-4103-BD68-03187A1A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FBB-4624-4774-B0A4-D41CDDC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E3F-6B6F-4366-836F-84F21B1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7BE0-2105-41C8-9831-25BBCD3F7E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871"/>
                </a:gs>
                <a:gs pos="50000">
                  <a:srgbClr val="00cc99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871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008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2632-7BE0-454F-A1FB-635218D920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ddddd"/>
                </a:solidFill>
                <a:latin typeface="Tahoma"/>
              </a:rPr>
              <a:t>Водоснабжение Москвы</a:t>
            </a:r>
            <a:endParaRPr b="1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0200" y="58579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тель географ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ухова Елена Геннадь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32720" cy="64818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4000" y="5084640"/>
            <a:ext cx="2447640" cy="574920"/>
          </a:xfrm>
          <a:prstGeom prst="wedgeRectCallout">
            <a:avLst>
              <a:gd name="adj1" fmla="val 18351"/>
              <a:gd name="adj2" fmla="val 117680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имкин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1619280" y="3213000"/>
            <a:ext cx="2448000" cy="574920"/>
          </a:xfrm>
          <a:prstGeom prst="wedgeRectCallout">
            <a:avLst>
              <a:gd name="adj1" fmla="val 17444"/>
              <a:gd name="adj2" fmla="val 247236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лязмин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1763640" y="1628640"/>
            <a:ext cx="2448000" cy="574920"/>
          </a:xfrm>
          <a:prstGeom prst="wedgeRectCallout">
            <a:avLst>
              <a:gd name="adj1" fmla="val 59013"/>
              <a:gd name="adj2" fmla="val 236462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ялов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5796000" y="5877000"/>
            <a:ext cx="2448000" cy="574560"/>
          </a:xfrm>
          <a:prstGeom prst="wedgeRectCallout">
            <a:avLst>
              <a:gd name="adj1" fmla="val -70949"/>
              <a:gd name="adj2" fmla="val -133703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ирогов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96000" y="2852640"/>
            <a:ext cx="2448000" cy="574920"/>
          </a:xfrm>
          <a:prstGeom prst="wedgeRectCallout">
            <a:avLst>
              <a:gd name="adj1" fmla="val -64203"/>
              <a:gd name="adj2" fmla="val 79833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ин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443640" y="1341360"/>
            <a:ext cx="2448000" cy="574920"/>
          </a:xfrm>
          <a:prstGeom prst="wedgeRectCallout">
            <a:avLst>
              <a:gd name="adj1" fmla="val -106162"/>
              <a:gd name="adj2" fmla="val 129560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стов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4788000" y="333360"/>
            <a:ext cx="2448000" cy="574560"/>
          </a:xfrm>
          <a:prstGeom prst="wedgeRectCallout">
            <a:avLst>
              <a:gd name="adj1" fmla="val -117574"/>
              <a:gd name="adj2" fmla="val 35912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кшим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1476360" y="260280"/>
            <a:ext cx="360360" cy="647640"/>
          </a:xfrm>
          <a:prstGeom prst="up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041800" cy="31975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755640" y="1125360"/>
            <a:ext cx="2448000" cy="1008360"/>
          </a:xfrm>
          <a:prstGeom prst="wedgeRectCallout">
            <a:avLst>
              <a:gd name="adj1" fmla="val 163425"/>
              <a:gd name="adj2" fmla="val 133305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ваньков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сковское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Наука и жизнь // Иллюстрации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5" descr="Наука и жизнь // Иллюстрац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55640" y="404640"/>
            <a:ext cx="7812000" cy="4453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6"/>
          <p:cNvSpPr/>
          <p:nvPr/>
        </p:nvSpPr>
        <p:spPr>
          <a:xfrm>
            <a:off x="755640" y="48999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выглядит территория очистной станции с крыши метант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круглыми отстойниками видны каналы аэротенков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57" name="Picture 4" descr="Наука и жизнь // Иллюстрации"/>
          <p:cNvPicPr/>
          <p:nvPr/>
        </p:nvPicPr>
        <p:blipFill>
          <a:blip r:embed="rId1"/>
          <a:stretch/>
        </p:blipFill>
        <p:spPr>
          <a:xfrm>
            <a:off x="1619280" y="765000"/>
            <a:ext cx="6048360" cy="3549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3760" y="4867200"/>
            <a:ext cx="90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есколовках поперёк канала подвешены металл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рж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тормозят течение, делают его более плав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Наука и жизнь // Иллюстрации"/>
          <p:cNvPicPr/>
          <p:nvPr/>
        </p:nvPicPr>
        <p:blipFill>
          <a:blip r:embed="rId1"/>
          <a:stretch/>
        </p:blipFill>
        <p:spPr>
          <a:xfrm>
            <a:off x="1187280" y="404640"/>
            <a:ext cx="6948720" cy="3937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363240" y="4557240"/>
            <a:ext cx="864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отстойника в лоток попадает вода только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рхностного сло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а стекает через впадины гребёнки, идущей по все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иметру лот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Наука и жизнь // Иллюстрации"/>
          <p:cNvPicPr/>
          <p:nvPr/>
        </p:nvPicPr>
        <p:blipFill>
          <a:blip r:embed="rId1"/>
          <a:stretch/>
        </p:blipFill>
        <p:spPr>
          <a:xfrm>
            <a:off x="2340000" y="260280"/>
            <a:ext cx="4643280" cy="4627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79280" y="4828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упающую в аэротенк воду смешивают с активным ил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она долго течёт по извилистому канал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 водные организмы, составляющие иловую масс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оглотят все органические вещ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Наука и жизнь // Иллюстрации"/>
          <p:cNvPicPr/>
          <p:nvPr/>
        </p:nvPicPr>
        <p:blipFill>
          <a:blip r:embed="rId1"/>
          <a:stretch/>
        </p:blipFill>
        <p:spPr>
          <a:xfrm>
            <a:off x="755640" y="333360"/>
            <a:ext cx="3205080" cy="6264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27280" y="198108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е блоки ультрафиолетовых ламп используют для обеззараживания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8440" y="25714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Tahoma"/>
              </a:rPr>
              <a:t>Спасибо за внимание!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ddddd"/>
                </a:solidFill>
                <a:latin typeface="Tahoma"/>
              </a:rPr>
              <a:t>История водоснабжения Москвы</a:t>
            </a:r>
            <a:endParaRPr b="1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532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е сведения о Московском водопроводе относятся к 1339 году, когда при князе Иване Калите был проложен первый трубопровод из дубовых сверленых брёвен от реки Москвы за стены деревянного Крем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40000" y="2349000"/>
            <a:ext cx="267012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Иван Данилович"/>
          <p:cNvPicPr/>
          <p:nvPr/>
        </p:nvPicPr>
        <p:blipFill>
          <a:blip r:embed="rId1"/>
          <a:stretch/>
        </p:blipFill>
        <p:spPr>
          <a:xfrm>
            <a:off x="5651640" y="1557360"/>
            <a:ext cx="33447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2004 году московскому водопроводу исполнилось 200 лет.</a:t>
            </a:r>
            <a:endParaRPr b="1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08000" y="1989000"/>
            <a:ext cx="5046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московский водопровод возник на рубеж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– 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етий. Источником служил родник под Собачей (Арсенальной) башней. Самотёком вода проходила через подземные галереи, проложенные до Троицких и Никольских во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Uglovaya Arsenalnaya bashnya.jpg"/>
          <p:cNvPicPr/>
          <p:nvPr/>
        </p:nvPicPr>
        <p:blipFill>
          <a:blip r:embed="rId1"/>
          <a:stretch/>
        </p:blipFill>
        <p:spPr>
          <a:xfrm>
            <a:off x="468360" y="1989000"/>
            <a:ext cx="3011400" cy="46087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-5446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436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ой Кремлевский водопровод 1633 года действовал за счет водонапорной машины: из Москвы-реки вода самотеком поступала в белокаменный колодец в основании Водовзводной башни и «взводилась» с помощью водоподъемной машины на конном приводе в специальный резервуар. Отсюда она подавалась по свинцовым трубам в верхние кремлевские сады и царские дворцы. Доставлялось около 4 тыс. вёдер в сутки (19 куб.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2" descr="Картинка 14 из 502"/>
          <p:cNvPicPr/>
          <p:nvPr/>
        </p:nvPicPr>
        <p:blipFill>
          <a:blip r:embed="rId1"/>
          <a:stretch/>
        </p:blipFill>
        <p:spPr>
          <a:xfrm>
            <a:off x="5003640" y="549360"/>
            <a:ext cx="3880080" cy="58323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ительство нового водопровода началось по приказу императрицы Екатери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1779 году.</a:t>
            </a:r>
            <a:endParaRPr b="1" lang="en-US" sz="2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51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иск новых источников водоснабжения первопрестольной Екатерина Великая доверила военному инженеру из шведских дворян, генерал-поручику Фридриху Вильгельму Бауэру. В 1778 году глава Гидравлического корпуса Бауэр осмотрел известные ключи под Москвой и выбрал наиболее обильные — Мытищинские. Местность в верховьях Яузы издавна славилась своими источниками, бившими фонтанами до трех метров. Самой чистой и вкусной считалась вода ключа Громового (Святого), возникшего, по преданию, от удара молнии во время грозы. Вода из Мытищинских ключей потекла по первому московскому общественному водопроводу 28 октября 180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930400" cy="37623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-77544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80708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мытищинских ключевых бассейнов вода поступала в самотечную кирпичную галерею, пересекавшую у Рстокина реку Яузу каменным многоярусным акведуком. Галерея проходила вблизи села Алексеевского к Сухаревой площади и заканчивалась на Самотё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Ростокинский акведук"/>
          <p:cNvPicPr/>
          <p:nvPr/>
        </p:nvPicPr>
        <p:blipFill>
          <a:blip r:embed="rId1"/>
          <a:stretch/>
        </p:blipFill>
        <p:spPr>
          <a:xfrm>
            <a:off x="2411280" y="189000"/>
            <a:ext cx="3961080" cy="31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438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ahoma"/>
              </a:rPr>
              <a:t>Источники водоснабжения.</a:t>
            </a:r>
            <a:endParaRPr b="1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29" name="Picture 9" descr="водоисточники Москвы"/>
          <p:cNvPicPr/>
          <p:nvPr/>
        </p:nvPicPr>
        <p:blipFill>
          <a:blip r:embed="rId1"/>
          <a:stretch/>
        </p:blipFill>
        <p:spPr>
          <a:xfrm>
            <a:off x="2050920" y="1197000"/>
            <a:ext cx="5031000" cy="554184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1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187280" y="3716280"/>
            <a:ext cx="2808360" cy="26654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067280" y="1268280"/>
            <a:ext cx="2881080" cy="3456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300720" y="549360"/>
            <a:ext cx="2448000" cy="718920"/>
          </a:xfrm>
          <a:prstGeom prst="wedgeRectCallout">
            <a:avLst>
              <a:gd name="adj1" fmla="val -95587"/>
              <a:gd name="adj2" fmla="val 213796"/>
            </a:avLst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8073"/>
                </a:solidFill>
                <a:latin typeface="Tahoma"/>
              </a:rPr>
              <a:t>Водохранилища с волжской вод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572000" y="5373720"/>
            <a:ext cx="2448000" cy="719280"/>
          </a:xfrm>
          <a:prstGeom prst="wedgeRectCallout">
            <a:avLst>
              <a:gd name="adj1" fmla="val -134305"/>
              <a:gd name="adj2" fmla="val -95916"/>
            </a:avLst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8073"/>
                </a:solidFill>
                <a:latin typeface="Tahoma"/>
              </a:rPr>
              <a:t>Вода из Москвы -реки и её прито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00000" y="361800"/>
            <a:ext cx="7415280" cy="59515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3780000" y="4724280"/>
            <a:ext cx="2447640" cy="648000"/>
          </a:xfrm>
          <a:prstGeom prst="wedgeRectCallout">
            <a:avLst>
              <a:gd name="adj1" fmla="val -100712"/>
              <a:gd name="adj2" fmla="val 46078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жайское 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39640" y="2492280"/>
            <a:ext cx="2448000" cy="574920"/>
          </a:xfrm>
          <a:prstGeom prst="wedgeRectCallout">
            <a:avLst>
              <a:gd name="adj1" fmla="val 63231"/>
              <a:gd name="adj2" fmla="val 158837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узское 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4859280" y="2924280"/>
            <a:ext cx="2448000" cy="574560"/>
          </a:xfrm>
          <a:prstGeom prst="wedgeRectCallout">
            <a:avLst>
              <a:gd name="adj1" fmla="val -70750"/>
              <a:gd name="adj2" fmla="val 120166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зёрское 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635280" y="765000"/>
            <a:ext cx="2448000" cy="576360"/>
          </a:xfrm>
          <a:prstGeom prst="wedgeRectCallout">
            <a:avLst>
              <a:gd name="adj1" fmla="val 74643"/>
              <a:gd name="adj2" fmla="val 113912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стринское водохранили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2:02:53Z</dcterms:created>
  <dc:creator>Преподаватель</dc:creator>
  <dc:description/>
  <dc:language>en-US</dc:language>
  <cp:lastModifiedBy>Учитель</cp:lastModifiedBy>
  <dcterms:modified xsi:type="dcterms:W3CDTF">2019-10-09T15:41:35Z</dcterms:modified>
  <cp:revision>34</cp:revision>
  <dc:subject/>
  <dc:title>Водоснабжение Москвы</dc:title>
</cp:coreProperties>
</file>